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19.png" ContentType="image/png"/>
  <Override PartName="/ppt/media/image24.png" ContentType="image/png"/>
  <Override PartName="/ppt/media/image21.png" ContentType="image/png"/>
  <Override PartName="/ppt/media/image9.png" ContentType="image/png"/>
  <Override PartName="/ppt/media/image4.gif" ContentType="image/gif"/>
  <Override PartName="/ppt/media/image27.gif" ContentType="image/gif"/>
  <Override PartName="/ppt/media/image8.png" ContentType="image/png"/>
  <Override PartName="/ppt/media/image28.gif" ContentType="image/gif"/>
  <Override PartName="/ppt/media/image14.jpeg" ContentType="image/jpeg"/>
  <Override PartName="/ppt/media/image6.gif" ContentType="image/gif"/>
  <Override PartName="/ppt/media/chimes.wav" ContentType="audio/x-wav"/>
  <Override PartName="/ppt/media/image16.png" ContentType="image/png"/>
  <Override PartName="/ppt/media/image13.gif" ContentType="image/gif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5.gif" ContentType="image/gif"/>
  <Override PartName="/ppt/media/image31.png" ContentType="image/png"/>
  <Override PartName="/ppt/media/image11.png" ContentType="image/png"/>
  <Override PartName="/ppt/media/image2.gif" ContentType="image/gif"/>
  <Override PartName="/ppt/media/image32.gif" ContentType="image/gif"/>
  <Override PartName="/ppt/media/image29.jpeg" ContentType="image/jpeg"/>
  <Override PartName="/ppt/media/image3.wmf" ContentType="image/x-wmf"/>
  <Override PartName="/ppt/media/image1.jpeg" ContentType="image/jpeg"/>
  <Override PartName="/ppt/media/image10.png" ContentType="image/png"/>
  <Override PartName="/ppt/media/image15.gif" ContentType="image/gif"/>
  <Override PartName="/ppt/media/image20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977-C46D-4AFA-86FB-6146C535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429-73EA-4158-BB4E-C3C37834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6CB-0A50-4C97-B4B6-B5F31422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E58-5B8D-458F-B117-687DE735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6344-1B40-4438-8F2F-1D50F842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00C1-BDF1-4B52-81CB-9345769F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A5A8-6F09-4992-948A-BDD4D72B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1A1C-6C0D-4FC0-8A00-E11B60BF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AEF3-C42A-44DF-BB5B-8F693E3D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D9C1-6861-41ED-86BB-617C3BC6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61BE-ADBB-43AA-AEB3-AF23B27B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F9F-99A1-454F-8E25-BB3FB8DC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2083-BFCD-4D07-BE15-DEC52844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1103-84BA-44DC-9A20-BEC6B8AC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EDEA-AA7B-4F71-ADF0-1CF4126E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AB83-440F-405E-9215-6752408B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FB82-C776-4037-82C2-3AFA146C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E7D-7664-4D83-87F2-5EE21F69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47E9-1AC4-46E0-8EC0-1C362C4F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672E-8224-4197-94DF-B3215C08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C25-72B3-4D53-86D3-E4EDC33A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4EF-4407-482B-A68B-8ECC8D6E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07E-70A4-4D33-A2A8-B78AB0C1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F50-D097-440D-8405-009AB1D5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D6F1-58C8-45AD-8D18-0F17F58BAB9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3B73-1C89-4A11-9EFF-49329D5F6C2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deocarta.ru/" TargetMode="External"/><Relationship Id="rId3" Type="http://schemas.openxmlformats.org/officeDocument/2006/relationships/hyperlink" Target="../&#1057;&#1074;&#1077;&#1090;&#1072;/&#1052;&#1086;&#1080; &#1076;&#1086;&#1082;&#1091;&#1084;&#1077;&#1085;&#1090;&#1099;/&#1059;&#1088;&#1086;&#1082;&#1080;/&#1054;&#1082;&#1088;&#1091;&#1078;&#1072;&#1102;&#1097;&#1080;&#1081; &#1084;&#1080;&#1088;/&#1057;&#1086;&#1083;&#1085;&#1077;&#1095;&#1085;&#1072;&#1103; &#1089;&#1080;&#1089;&#1090;&#1077;&#1084;&#1072;/&#1055;&#1088;&#1077;&#1079;&#1077;&#1085;&#1090;&#1072;&#1094;&#1080;&#1103; &#1082; &#1080;&#1085;&#1090;&#1077;&#1075;&#1088;&#1080;&#1088;&#1086;&#1074;&#1072;&#1085;&#1085;&#1086;&#1084;&#1091; &#1091;&#1088;&#1086;&#1082;&#1091; &#1084;&#1072;&#1090;&#1077;&#1084;&#1072;&#1090;&#1080;&#1082;&#1080; &#1080; &#1086;&#1082;&#1088;. &#1084;&#1080;&#1088;&#1091; &#1047;&#1077;&#1084;&#1083;&#1103; - &#1087;&#1083;&#1072;&#1085;&#1077;&#1090;&#1072; &#1057;&#1086;&#1083;&#1085;&#1077;&#1095;&#1085;&#1086;&#1081; &#1089;&#1080;&#1089;&#1090;&#1077;&#1084;&#1099;.&#1045;&#1076;&#1080;&#1085;&#1080;&#1094;&#1099; &#1076;&#1083;&#1080;&#1085;&#1099;..ppt" TargetMode="External"/><Relationship Id="rId4" Type="http://schemas.openxmlformats.org/officeDocument/2006/relationships/hyperlink" Target="../&#1057;&#1074;&#1077;&#1090;&#1072;/&#1052;&#1086;&#1080; &#1076;&#1086;&#1082;&#1091;&#1084;&#1077;&#1085;&#1090;&#1099;/&#1059;&#1088;&#1086;&#1082;&#1080;/&#1054;&#1082;&#1088;&#1091;&#1078;&#1072;&#1102;&#1097;&#1080;&#1081; &#1084;&#1080;&#1088;/&#1057;&#1086;&#1083;&#1085;&#1077;&#1095;&#1085;&#1072;&#1103; &#1089;&#1080;&#1089;&#1090;&#1077;&#1084;&#1072;/&#1055;&#1088;&#1077;&#1079;&#1077;&#1085;&#1090;&#1072;&#1094;&#1080;&#1103; &#1082; &#1080;&#1085;&#1090;&#1077;&#1075;&#1088;&#1080;&#1088;&#1086;&#1074;&#1072;&#1085;&#1085;&#1086;&#1084;&#1091; &#1091;&#1088;&#1086;&#1082;&#1091; &#1084;&#1072;&#1090;&#1077;&#1084;&#1072;&#1090;&#1080;&#1082;&#1080; &#1080; &#1086;&#1082;&#1088;. &#1084;&#1080;&#1088;&#1091; &#1047;&#1077;&#1084;&#1083;&#1103; - &#1087;&#1083;&#1072;&#1085;&#1077;&#1090;&#1072; &#1057;&#1086;&#1083;&#1085;&#1077;&#1095;&#1085;&#1086;&#1081; &#1089;&#1080;&#1089;&#1090;&#1077;&#1084;&#1099;.&#1045;&#1076;&#1080;&#1085;&#1080;&#1094;&#1099; &#1076;&#1083;&#1080;&#1085;&#1099;..ppt" TargetMode="External"/><Relationship Id="rId5" Type="http://schemas.openxmlformats.org/officeDocument/2006/relationships/hyperlink" Target="../&#1057;&#1074;&#1077;&#1090;&#1072;/&#1052;&#1086;&#1080; &#1076;&#1086;&#1082;&#1091;&#1084;&#1077;&#1085;&#1090;&#1099;/&#1059;&#1088;&#1086;&#1082;&#1080;/&#1054;&#1082;&#1088;&#1091;&#1078;&#1072;&#1102;&#1097;&#1080;&#1081; &#1084;&#1080;&#1088;/&#1057;&#1086;&#1083;&#1085;&#1077;&#1095;&#1085;&#1072;&#1103; &#1089;&#1080;&#1089;&#1090;&#1077;&#1084;&#1072;/&#1055;&#1088;&#1077;&#1079;&#1077;&#1085;&#1090;&#1072;&#1094;&#1080;&#1103; &#1082; &#1080;&#1085;&#1090;&#1077;&#1075;&#1088;&#1080;&#1088;&#1086;&#1074;&#1072;&#1085;&#1085;&#1086;&#1084;&#1091; &#1091;&#1088;&#1086;&#1082;&#1091; &#1084;&#1072;&#1090;&#1077;&#1084;&#1072;&#1090;&#1080;&#1082;&#1080; &#1080; &#1086;&#1082;&#1088;. &#1084;&#1080;&#1088;&#1091; &#1047;&#1077;&#1084;&#1083;&#1103; - &#1087;&#1083;&#1072;&#1085;&#1077;&#1090;&#1072; &#1057;&#1086;&#1083;&#1085;&#1077;&#1095;&#1085;&#1086;&#1081; &#1089;&#1080;&#1089;&#1090;&#1077;&#1084;&#1099;.&#1045;&#1076;&#1080;&#1085;&#1080;&#1094;&#1099; &#1076;&#1083;&#1080;&#1085;&#1099;..ppt" TargetMode="External"/><Relationship Id="rId6" Type="http://schemas.openxmlformats.org/officeDocument/2006/relationships/hyperlink" Target="../&#1057;&#1074;&#1077;&#1090;&#1072;/&#1052;&#1086;&#1080; &#1076;&#1086;&#1082;&#1091;&#1084;&#1077;&#1085;&#1090;&#1099;/&#1059;&#1088;&#1086;&#1082;&#1080;/&#1054;&#1082;&#1088;&#1091;&#1078;&#1072;&#1102;&#1097;&#1080;&#1081; &#1084;&#1080;&#1088;/&#1057;&#1086;&#1083;&#1085;&#1077;&#1095;&#1085;&#1072;&#1103; &#1089;&#1080;&#1089;&#1090;&#1077;&#1084;&#1072;/&#1055;&#1088;&#1077;&#1079;&#1077;&#1085;&#1090;&#1072;&#1094;&#1080;&#1103; &#1082; &#1080;&#1085;&#1090;&#1077;&#1075;&#1088;&#1080;&#1088;&#1086;&#1074;&#1072;&#1085;&#1085;&#1086;&#1084;&#1091; &#1091;&#1088;&#1086;&#1082;&#1091; &#1084;&#1072;&#1090;&#1077;&#1084;&#1072;&#1090;&#1080;&#1082;&#1080; &#1080; &#1086;&#1082;&#1088;. &#1084;&#1080;&#1088;&#1091; &#1047;&#1077;&#1084;&#1083;&#1103; - &#1087;&#1083;&#1072;&#1085;&#1077;&#1090;&#1072; &#1057;&#1086;&#1083;&#1085;&#1077;&#1095;&#1085;&#1086;&#1081; &#1089;&#1080;&#1089;&#1090;&#1077;&#1084;&#1099;.&#1045;&#1076;&#1080;&#1085;&#1080;&#1094;&#1099; &#1076;&#1083;&#1080;&#1085;&#1099;..ppt" TargetMode="External"/><Relationship Id="rId7" Type="http://schemas.openxmlformats.org/officeDocument/2006/relationships/hyperlink" Target="http://office.microsoft.com/" TargetMode="External"/><Relationship Id="rId8" Type="http://schemas.openxmlformats.org/officeDocument/2006/relationships/hyperlink" Target="http://it-n.ru/" TargetMode="External"/><Relationship Id="rId9" Type="http://schemas.openxmlformats.org/officeDocument/2006/relationships/hyperlink" Target="http://it-n.ru/" TargetMode="External"/><Relationship Id="rId10" Type="http://schemas.openxmlformats.org/officeDocument/2006/relationships/hyperlink" Target="http://it-n.ru/" TargetMode="External"/><Relationship Id="rId11" Type="http://schemas.openxmlformats.org/officeDocument/2006/relationships/hyperlink" Target="http://fonegallery.narod.ru/golub/golub6.htm" TargetMode="External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8.png"/><Relationship Id="rId11" Type="http://schemas.openxmlformats.org/officeDocument/2006/relationships/image" Target="../media/image11.png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2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199"/>
                </a:solidFill>
                <a:latin typeface="Arial"/>
              </a:rPr>
              <a:t>Урок - путешеств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Тема. Состав слова (обобщение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819160" y="426672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Брусенцова С. А., учитель начальных классов МОУ «Кваркенская средняя общеобразовательная школа» Кваркенского района Оренбург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качано на сайте: </a:t>
            </a:r>
            <a:r>
              <a:rPr b="0" lang="de-DE" sz="2000" spc="-1" strike="noStrike">
                <a:solidFill>
                  <a:srgbClr val="800000"/>
                </a:solidFill>
                <a:latin typeface="Arial"/>
              </a:rPr>
              <a:t>www.russisch-fuer-kinder.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78408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3886200"/>
            <a:ext cx="3479760" cy="2971800"/>
            <a:chOff x="0" y="3886200"/>
            <a:chExt cx="3479760" cy="2971800"/>
          </a:xfrm>
        </p:grpSpPr>
        <p:grpSp>
          <p:nvGrpSpPr>
            <p:cNvPr id="195" name=""/>
            <p:cNvGrpSpPr/>
            <p:nvPr/>
          </p:nvGrpSpPr>
          <p:grpSpPr>
            <a:xfrm>
              <a:off x="0" y="3886200"/>
              <a:ext cx="3479760" cy="2971800"/>
              <a:chOff x="0" y="3886200"/>
              <a:chExt cx="3479760" cy="2971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0" y="3886200"/>
                <a:ext cx="3479760" cy="2971800"/>
                <a:chOff x="0" y="3886200"/>
                <a:chExt cx="3479760" cy="2971800"/>
              </a:xfrm>
            </p:grpSpPr>
            <p:pic>
              <p:nvPicPr>
                <p:cNvPr id="1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886200"/>
                  <a:ext cx="1270080" cy="1270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19320" y="3962520"/>
                  <a:ext cx="1269720" cy="1269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5105520"/>
                  <a:ext cx="1270080" cy="1269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43000" y="5587920"/>
                  <a:ext cx="1270080" cy="1270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209680" y="5587920"/>
                  <a:ext cx="1270080" cy="1270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52480" y="5181480"/>
                  <a:ext cx="1270080" cy="1270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5587920"/>
                <a:ext cx="1270080" cy="1270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4" name="" descr=""/>
            <p:cNvPicPr/>
            <p:nvPr/>
          </p:nvPicPr>
          <p:blipFill>
            <a:blip r:embed="rId9"/>
            <a:stretch/>
          </p:blipFill>
          <p:spPr>
            <a:xfrm>
              <a:off x="609480" y="5105520"/>
              <a:ext cx="1270080" cy="126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990720" y="228600"/>
            <a:ext cx="6781680" cy="6165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1981080" y="160020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2286000" y="83808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3200400" y="457200"/>
            <a:ext cx="1981080" cy="2666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4"/>
          <a:stretch/>
        </p:blipFill>
        <p:spPr>
          <a:xfrm>
            <a:off x="4519440" y="762120"/>
            <a:ext cx="2024280" cy="2743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5"/>
          <a:stretch/>
        </p:blipFill>
        <p:spPr>
          <a:xfrm>
            <a:off x="4797360" y="1295280"/>
            <a:ext cx="2251080" cy="2514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94200" y="4024440"/>
            <a:ext cx="16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у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529200">
            <a:off x="4087800" y="4112280"/>
            <a:ext cx="737280" cy="80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7" y="3428"/>
                </a:moveTo>
                <a:arcTo wR="10800" hR="10800" stAng="-8217181" swAng="4862211"/>
                <a:lnTo>
                  <a:pt x="10800" y="10800"/>
                </a:lnTo>
                <a:close/>
              </a:path>
              <a:path fill="none" w="21600" h="21600">
                <a:moveTo>
                  <a:pt x="2907" y="3428"/>
                </a:moveTo>
                <a:arcTo wR="10800" hR="10800" stAng="-8217181" swAng="4862211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10199"/>
                </a:solidFill>
                <a:latin typeface="Arial"/>
              </a:rPr>
              <a:t>2. Ученики, учимся, учитель, ученье, неученье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3885840"/>
            <a:ext cx="76197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орен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– это общая часть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однокоренных слов.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9077000">
            <a:off x="1470960" y="380520"/>
            <a:ext cx="1204920" cy="133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52" y="870"/>
                </a:moveTo>
                <a:arcTo wR="10800" hR="10800" stAng="-6789653" swAng="6898495"/>
                <a:lnTo>
                  <a:pt x="10800" y="10800"/>
                </a:lnTo>
                <a:close/>
              </a:path>
              <a:path fill="none" w="21600" h="21600">
                <a:moveTo>
                  <a:pt x="6552" y="870"/>
                </a:moveTo>
                <a:arcTo wR="10800" hR="10800" stAng="-6789653" swAng="6898495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0657400">
            <a:off x="5078880" y="520560"/>
            <a:ext cx="1030680" cy="11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18" y="2395"/>
                </a:moveTo>
                <a:arcTo wR="10800" hR="10800" stAng="-7733852" swAng="6523798"/>
                <a:lnTo>
                  <a:pt x="10800" y="10800"/>
                </a:lnTo>
                <a:close/>
              </a:path>
              <a:path fill="none" w="21600" h="21600">
                <a:moveTo>
                  <a:pt x="4018" y="2395"/>
                </a:moveTo>
                <a:arcTo wR="10800" hR="10800" stAng="-7733852" swAng="6523798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20429400">
            <a:off x="843120" y="1498320"/>
            <a:ext cx="1030320" cy="114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313" y="2165"/>
                </a:moveTo>
                <a:arcTo wR="10800" hR="10800" stAng="-7614935" swAng="6404881"/>
                <a:lnTo>
                  <a:pt x="10800" y="10800"/>
                </a:lnTo>
                <a:close/>
              </a:path>
              <a:path fill="none" w="21600" h="21600">
                <a:moveTo>
                  <a:pt x="4313" y="2165"/>
                </a:moveTo>
                <a:arcTo wR="10800" hR="10800" stAng="-7614935" swAng="6404881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20429400">
            <a:off x="4390200" y="1536480"/>
            <a:ext cx="1030680" cy="114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313" y="2165"/>
                </a:moveTo>
                <a:arcTo wR="10800" hR="10800" stAng="-7614935" swAng="6404881"/>
                <a:lnTo>
                  <a:pt x="10800" y="10800"/>
                </a:lnTo>
                <a:close/>
              </a:path>
              <a:path fill="none" w="21600" h="21600">
                <a:moveTo>
                  <a:pt x="4313" y="2165"/>
                </a:moveTo>
                <a:arcTo wR="10800" hR="10800" stAng="-7614935" swAng="6404881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0429400">
            <a:off x="1723320" y="2450880"/>
            <a:ext cx="1030680" cy="114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313" y="2165"/>
                </a:moveTo>
                <a:arcTo wR="10800" hR="10800" stAng="-7614935" swAng="6404881"/>
                <a:lnTo>
                  <a:pt x="10800" y="10800"/>
                </a:lnTo>
                <a:close/>
              </a:path>
              <a:path fill="none" w="21600" h="21600">
                <a:moveTo>
                  <a:pt x="4313" y="2165"/>
                </a:moveTo>
                <a:arcTo wR="10800" hR="10800" stAng="-7614935" swAng="6404881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143000" y="5943600"/>
            <a:ext cx="7840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295280" y="685800"/>
            <a:ext cx="610560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зкультминутк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100400" y="2209680"/>
            <a:ext cx="1436760" cy="18147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334120" y="3733920"/>
            <a:ext cx="1676160" cy="1280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2362320" y="3222720"/>
            <a:ext cx="1619280" cy="1358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3886200" y="4648320"/>
            <a:ext cx="1876320" cy="1411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609480" y="5334120"/>
            <a:ext cx="78444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 rot="17388000">
            <a:off x="2705400" y="4838040"/>
            <a:ext cx="281916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4233000">
            <a:off x="3923640" y="4838760"/>
            <a:ext cx="28191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14000">
            <a:off x="4924080" y="4067280"/>
            <a:ext cx="28195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3048120"/>
            <a:ext cx="28191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8815400">
            <a:off x="4457520" y="1942920"/>
            <a:ext cx="28195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162240" y="1485720"/>
            <a:ext cx="28195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2574000">
            <a:off x="1905120" y="1981080"/>
            <a:ext cx="281916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250200">
            <a:off x="1371600" y="3124080"/>
            <a:ext cx="2895480" cy="536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20236200">
            <a:off x="1599840" y="4038120"/>
            <a:ext cx="2819520" cy="61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2971800"/>
            <a:ext cx="1284480" cy="1182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у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355200">
            <a:off x="4426560" y="3318120"/>
            <a:ext cx="447120" cy="14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4" y="5088"/>
                </a:moveTo>
                <a:arcTo wR="10800" hR="10800" stAng="-8884308" swAng="7359819"/>
                <a:lnTo>
                  <a:pt x="10800" y="10800"/>
                </a:lnTo>
                <a:close/>
              </a:path>
              <a:path fill="none" w="21600" h="21600">
                <a:moveTo>
                  <a:pt x="1634" y="5088"/>
                </a:moveTo>
                <a:arcTo wR="10800" hR="10800" stAng="-8884308" swAng="7359819"/>
              </a:path>
            </a:pathLst>
          </a:cu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5334120"/>
            <a:ext cx="784440" cy="725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57200" y="609480"/>
            <a:ext cx="2743200" cy="533520"/>
          </a:xfrm>
          <a:prstGeom prst="wedgeRoundRectCallout">
            <a:avLst>
              <a:gd name="adj1" fmla="val -1041"/>
              <a:gd name="adj2" fmla="val 91962"/>
              <a:gd name="adj3" fmla="val 16667"/>
            </a:avLst>
          </a:prstGeom>
          <a:solidFill>
            <a:srgbClr val="33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разучи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133720"/>
            <a:ext cx="2514600" cy="533160"/>
          </a:xfrm>
          <a:prstGeom prst="wedgeRoundRectCallout">
            <a:avLst>
              <a:gd name="adj1" fmla="val -1388"/>
              <a:gd name="adj2" fmla="val 113689"/>
              <a:gd name="adj3" fmla="val 16667"/>
            </a:avLst>
          </a:prstGeom>
          <a:solidFill>
            <a:srgbClr val="33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одуч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5680" y="3672000"/>
            <a:ext cx="2590920" cy="533160"/>
          </a:xfrm>
          <a:prstGeom prst="wedgeRoundRectCallout">
            <a:avLst>
              <a:gd name="adj1" fmla="val -675"/>
              <a:gd name="adj2" fmla="val 113689"/>
              <a:gd name="adj3" fmla="val 16667"/>
            </a:avLst>
          </a:prstGeom>
          <a:solidFill>
            <a:srgbClr val="33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аучивш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52280"/>
            <a:ext cx="2590560" cy="533520"/>
          </a:xfrm>
          <a:prstGeom prst="wedgeRoundRectCallout">
            <a:avLst>
              <a:gd name="adj1" fmla="val -6680"/>
              <a:gd name="adj2" fmla="val 88986"/>
              <a:gd name="adj3" fmla="val 16667"/>
            </a:avLst>
          </a:prstGeom>
          <a:solidFill>
            <a:srgbClr val="33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ыуч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609480"/>
            <a:ext cx="2590920" cy="533520"/>
          </a:xfrm>
          <a:prstGeom prst="wedgeRoundRectCallout">
            <a:avLst>
              <a:gd name="adj1" fmla="val 1652"/>
              <a:gd name="adj2" fmla="val 108037"/>
              <a:gd name="adj3" fmla="val 16667"/>
            </a:avLst>
          </a:prstGeom>
          <a:solidFill>
            <a:srgbClr val="33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бу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2209680"/>
            <a:ext cx="2590920" cy="533520"/>
          </a:xfrm>
          <a:prstGeom prst="wedgeRoundRectCallout">
            <a:avLst>
              <a:gd name="adj1" fmla="val 0"/>
              <a:gd name="adj2" fmla="val 116370"/>
              <a:gd name="adj3" fmla="val 16667"/>
            </a:avLst>
          </a:prstGeom>
          <a:solidFill>
            <a:srgbClr val="33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оуч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3657600"/>
            <a:ext cx="2590920" cy="533520"/>
          </a:xfrm>
          <a:prstGeom prst="wedgeRoundRectCallout">
            <a:avLst>
              <a:gd name="adj1" fmla="val 550"/>
              <a:gd name="adj2" fmla="val 124402"/>
              <a:gd name="adj3" fmla="val 16667"/>
            </a:avLst>
          </a:prstGeom>
          <a:solidFill>
            <a:srgbClr val="33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оуч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5943600"/>
            <a:ext cx="2590920" cy="533520"/>
          </a:xfrm>
          <a:prstGeom prst="wedgeRoundRectCallout">
            <a:avLst>
              <a:gd name="adj1" fmla="val -65074"/>
              <a:gd name="adj2" fmla="val -156250"/>
              <a:gd name="adj3" fmla="val 16667"/>
            </a:avLst>
          </a:prstGeom>
          <a:solidFill>
            <a:srgbClr val="33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изуч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6019920"/>
            <a:ext cx="2590920" cy="533160"/>
          </a:xfrm>
          <a:prstGeom prst="wedgeRoundRectCallout">
            <a:avLst>
              <a:gd name="adj1" fmla="val 56064"/>
              <a:gd name="adj2" fmla="val -183333"/>
              <a:gd name="adj3" fmla="val 16667"/>
            </a:avLst>
          </a:prstGeom>
          <a:solidFill>
            <a:srgbClr val="33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оуч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101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101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101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101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101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101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101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101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101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51920" y="38052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199"/>
                </a:solidFill>
                <a:latin typeface="Arial"/>
              </a:rPr>
              <a:t>3.Разучивание, выучить, обучение, доучить, проучить, изучать, поучать, научивший, подучить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53352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533520"/>
            <a:ext cx="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60948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129528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129528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205740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205740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205740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74320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609480"/>
            <a:ext cx="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29528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1295280"/>
            <a:ext cx="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1295280"/>
            <a:ext cx="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1295280"/>
            <a:ext cx="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2057400"/>
            <a:ext cx="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33920" y="2057400"/>
            <a:ext cx="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24480" y="2057400"/>
            <a:ext cx="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00200" y="2743200"/>
            <a:ext cx="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0" y="4175640"/>
            <a:ext cx="6477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Приставк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– часть слова, которая стоит перед корнем и служит для образования новых слов.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 rot="911400">
            <a:off x="1294920" y="6095520"/>
            <a:ext cx="328680" cy="322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124080" y="2514600"/>
            <a:ext cx="2210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1066680"/>
            <a:ext cx="23619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05320" y="1828800"/>
            <a:ext cx="23619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1828800"/>
            <a:ext cx="2514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0800" y="2511360"/>
            <a:ext cx="2192400" cy="3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3317760"/>
            <a:ext cx="2612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505320" y="1142640"/>
            <a:ext cx="2363760" cy="690840"/>
            <a:chOff x="3505320" y="1142640"/>
            <a:chExt cx="2363760" cy="690840"/>
          </a:xfrm>
        </p:grpSpPr>
        <p:grpSp>
          <p:nvGrpSpPr>
            <p:cNvPr id="276" name=""/>
            <p:cNvGrpSpPr/>
            <p:nvPr/>
          </p:nvGrpSpPr>
          <p:grpSpPr>
            <a:xfrm>
              <a:off x="4327560" y="1142640"/>
              <a:ext cx="1391400" cy="392040"/>
              <a:chOff x="4327560" y="1142640"/>
              <a:chExt cx="1391400" cy="392040"/>
            </a:xfrm>
          </p:grpSpPr>
          <p:sp>
            <p:nvSpPr>
              <p:cNvPr id="277" name=""/>
              <p:cNvSpPr/>
              <p:nvPr/>
            </p:nvSpPr>
            <p:spPr>
              <a:xfrm>
                <a:off x="4327560" y="1294920"/>
                <a:ext cx="639360" cy="23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" y="11124"/>
                    </a:moveTo>
                    <a:arcTo wR="10800" hR="10800" stAng="10696870" swAng="98625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" y="11124"/>
                    </a:moveTo>
                    <a:arcTo wR="10800" hR="10800" stAng="10696870" swAng="9862562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44960" y="1144440"/>
                <a:ext cx="320400" cy="221040"/>
                <a:chOff x="4944960" y="1144440"/>
                <a:chExt cx="320400" cy="221040"/>
              </a:xfrm>
            </p:grpSpPr>
            <p:sp>
              <p:nvSpPr>
                <p:cNvPr id="279" name=""/>
                <p:cNvSpPr/>
                <p:nvPr/>
              </p:nvSpPr>
              <p:spPr>
                <a:xfrm flipV="1">
                  <a:off x="4944960" y="1144440"/>
                  <a:ext cx="163440" cy="211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 flipV="1">
                  <a:off x="5088240" y="1144440"/>
                  <a:ext cx="177120" cy="221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5246640" y="1142640"/>
                <a:ext cx="472320" cy="194040"/>
                <a:chOff x="5246640" y="1142640"/>
                <a:chExt cx="472320" cy="194040"/>
              </a:xfrm>
            </p:grpSpPr>
            <p:sp>
              <p:nvSpPr>
                <p:cNvPr id="282" name=""/>
                <p:cNvSpPr/>
                <p:nvPr/>
              </p:nvSpPr>
              <p:spPr>
                <a:xfrm flipV="1">
                  <a:off x="5246640" y="1142640"/>
                  <a:ext cx="266040" cy="19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 flipV="1">
                  <a:off x="5492520" y="1142640"/>
                  <a:ext cx="226440" cy="187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4" name=""/>
            <p:cNvSpPr/>
            <p:nvPr/>
          </p:nvSpPr>
          <p:spPr>
            <a:xfrm>
              <a:off x="3505320" y="1671480"/>
              <a:ext cx="1440" cy="16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67280" y="1671480"/>
              <a:ext cx="1800" cy="16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165720" y="1168200"/>
            <a:ext cx="2514600" cy="637920"/>
            <a:chOff x="6165720" y="1168200"/>
            <a:chExt cx="2514600" cy="637920"/>
          </a:xfrm>
        </p:grpSpPr>
        <p:grpSp>
          <p:nvGrpSpPr>
            <p:cNvPr id="287" name=""/>
            <p:cNvGrpSpPr/>
            <p:nvPr/>
          </p:nvGrpSpPr>
          <p:grpSpPr>
            <a:xfrm>
              <a:off x="7146720" y="1168200"/>
              <a:ext cx="1532880" cy="271800"/>
              <a:chOff x="7146720" y="1168200"/>
              <a:chExt cx="1532880" cy="27180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7837200" y="1175760"/>
                <a:ext cx="314280" cy="117720"/>
                <a:chOff x="7837200" y="1175760"/>
                <a:chExt cx="314280" cy="117720"/>
              </a:xfrm>
            </p:grpSpPr>
            <p:sp>
              <p:nvSpPr>
                <p:cNvPr id="289" name=""/>
                <p:cNvSpPr/>
                <p:nvPr/>
              </p:nvSpPr>
              <p:spPr>
                <a:xfrm flipV="1">
                  <a:off x="7837200" y="1175760"/>
                  <a:ext cx="160200" cy="112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>
                  <a:off x="7977960" y="1176120"/>
                  <a:ext cx="173520" cy="117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8216640" y="1168200"/>
                <a:ext cx="462960" cy="104760"/>
                <a:chOff x="8216640" y="1168200"/>
                <a:chExt cx="462960" cy="104760"/>
              </a:xfrm>
            </p:grpSpPr>
            <p:sp>
              <p:nvSpPr>
                <p:cNvPr id="292" name=""/>
                <p:cNvSpPr/>
                <p:nvPr/>
              </p:nvSpPr>
              <p:spPr>
                <a:xfrm flipV="1">
                  <a:off x="8216640" y="1168560"/>
                  <a:ext cx="261000" cy="1044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>
                  <a:off x="8457480" y="1168200"/>
                  <a:ext cx="222120" cy="101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7146720" y="1293840"/>
                <a:ext cx="626400" cy="14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" y="11124"/>
                    </a:moveTo>
                    <a:arcTo wR="10800" hR="10800" stAng="10696870" swAng="98625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" y="11124"/>
                    </a:moveTo>
                    <a:arcTo wR="10800" hR="10800" stAng="10696870" swAng="9862562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165720" y="1654200"/>
              <a:ext cx="0" cy="151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680320" y="1654200"/>
              <a:ext cx="0" cy="151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81040" y="1904760"/>
            <a:ext cx="2162160" cy="609840"/>
            <a:chOff x="581040" y="1904760"/>
            <a:chExt cx="2162160" cy="609840"/>
          </a:xfrm>
        </p:grpSpPr>
        <p:grpSp>
          <p:nvGrpSpPr>
            <p:cNvPr id="298" name=""/>
            <p:cNvGrpSpPr/>
            <p:nvPr/>
          </p:nvGrpSpPr>
          <p:grpSpPr>
            <a:xfrm>
              <a:off x="1292400" y="1904760"/>
              <a:ext cx="1374120" cy="270000"/>
              <a:chOff x="1292400" y="1904760"/>
              <a:chExt cx="1374120" cy="270000"/>
            </a:xfrm>
          </p:grpSpPr>
          <p:sp>
            <p:nvSpPr>
              <p:cNvPr id="299" name=""/>
              <p:cNvSpPr/>
              <p:nvPr/>
            </p:nvSpPr>
            <p:spPr>
              <a:xfrm>
                <a:off x="1292400" y="2027160"/>
                <a:ext cx="466560" cy="14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" y="11124"/>
                    </a:moveTo>
                    <a:arcTo wR="10800" hR="10800" stAng="10696870" swAng="106659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" y="11124"/>
                    </a:moveTo>
                    <a:arcTo wR="10800" hR="10800" stAng="10696870" swAng="10665929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1824120" y="1904760"/>
                <a:ext cx="313920" cy="228600"/>
                <a:chOff x="1824120" y="1904760"/>
                <a:chExt cx="313920" cy="228600"/>
              </a:xfrm>
            </p:grpSpPr>
            <p:sp>
              <p:nvSpPr>
                <p:cNvPr id="301" name=""/>
                <p:cNvSpPr/>
                <p:nvPr/>
              </p:nvSpPr>
              <p:spPr>
                <a:xfrm flipV="1">
                  <a:off x="1824120" y="1904760"/>
                  <a:ext cx="160200" cy="219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flipV="1">
                  <a:off x="1964520" y="1904760"/>
                  <a:ext cx="173520" cy="228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203560" y="1904760"/>
                <a:ext cx="462960" cy="199800"/>
                <a:chOff x="2203560" y="1904760"/>
                <a:chExt cx="462960" cy="199800"/>
              </a:xfrm>
            </p:grpSpPr>
            <p:sp>
              <p:nvSpPr>
                <p:cNvPr id="304" name=""/>
                <p:cNvSpPr/>
                <p:nvPr/>
              </p:nvSpPr>
              <p:spPr>
                <a:xfrm flipV="1">
                  <a:off x="2203560" y="1904760"/>
                  <a:ext cx="260640" cy="199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flipV="1">
                  <a:off x="2444760" y="1904760"/>
                  <a:ext cx="221760" cy="193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581040" y="23623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43200" y="23623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646520" y="456840"/>
            <a:ext cx="2365560" cy="609840"/>
            <a:chOff x="4646520" y="456840"/>
            <a:chExt cx="2365560" cy="609840"/>
          </a:xfrm>
        </p:grpSpPr>
        <p:grpSp>
          <p:nvGrpSpPr>
            <p:cNvPr id="309" name=""/>
            <p:cNvGrpSpPr/>
            <p:nvPr/>
          </p:nvGrpSpPr>
          <p:grpSpPr>
            <a:xfrm>
              <a:off x="5581800" y="456840"/>
              <a:ext cx="1427400" cy="304200"/>
              <a:chOff x="5581800" y="456840"/>
              <a:chExt cx="1427400" cy="304200"/>
            </a:xfrm>
          </p:grpSpPr>
          <p:sp>
            <p:nvSpPr>
              <p:cNvPr id="310" name=""/>
              <p:cNvSpPr/>
              <p:nvPr/>
            </p:nvSpPr>
            <p:spPr>
              <a:xfrm>
                <a:off x="5581800" y="533520"/>
                <a:ext cx="628920" cy="22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" y="11124"/>
                    </a:moveTo>
                    <a:arcTo wR="10800" hR="10800" stAng="10696870" swAng="98625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" y="11124"/>
                    </a:moveTo>
                    <a:arcTo wR="10800" hR="10800" stAng="10696870" swAng="9862562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6186240" y="456840"/>
                <a:ext cx="311400" cy="228600"/>
                <a:chOff x="6186240" y="456840"/>
                <a:chExt cx="311400" cy="228600"/>
              </a:xfrm>
            </p:grpSpPr>
            <p:sp>
              <p:nvSpPr>
                <p:cNvPr id="312" name=""/>
                <p:cNvSpPr/>
                <p:nvPr/>
              </p:nvSpPr>
              <p:spPr>
                <a:xfrm flipV="1">
                  <a:off x="6186240" y="456840"/>
                  <a:ext cx="159120" cy="219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flipV="1">
                  <a:off x="6325200" y="456840"/>
                  <a:ext cx="172440" cy="228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6546240" y="457200"/>
                <a:ext cx="462960" cy="200160"/>
                <a:chOff x="6546240" y="457200"/>
                <a:chExt cx="462960" cy="200160"/>
              </a:xfrm>
            </p:grpSpPr>
            <p:sp>
              <p:nvSpPr>
                <p:cNvPr id="315" name=""/>
                <p:cNvSpPr/>
                <p:nvPr/>
              </p:nvSpPr>
              <p:spPr>
                <a:xfrm flipV="1">
                  <a:off x="6546240" y="457200"/>
                  <a:ext cx="261000" cy="200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>
                  <a:off x="6787080" y="457200"/>
                  <a:ext cx="222120" cy="193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7" name=""/>
            <p:cNvSpPr/>
            <p:nvPr/>
          </p:nvSpPr>
          <p:spPr>
            <a:xfrm>
              <a:off x="4646520" y="914400"/>
              <a:ext cx="324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08840" y="914400"/>
              <a:ext cx="324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124080" y="1905120"/>
            <a:ext cx="2210040" cy="609480"/>
            <a:chOff x="3124080" y="1905120"/>
            <a:chExt cx="2210040" cy="609480"/>
          </a:xfrm>
        </p:grpSpPr>
        <p:grpSp>
          <p:nvGrpSpPr>
            <p:cNvPr id="320" name=""/>
            <p:cNvGrpSpPr/>
            <p:nvPr/>
          </p:nvGrpSpPr>
          <p:grpSpPr>
            <a:xfrm>
              <a:off x="3795840" y="1905120"/>
              <a:ext cx="1461240" cy="340200"/>
              <a:chOff x="3795840" y="1905120"/>
              <a:chExt cx="1461240" cy="340200"/>
            </a:xfrm>
          </p:grpSpPr>
          <p:sp>
            <p:nvSpPr>
              <p:cNvPr id="321" name=""/>
              <p:cNvSpPr/>
              <p:nvPr/>
            </p:nvSpPr>
            <p:spPr>
              <a:xfrm>
                <a:off x="3795840" y="2019960"/>
                <a:ext cx="626400" cy="225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" y="11124"/>
                    </a:moveTo>
                    <a:arcTo wR="10800" hR="10800" stAng="10696870" swAng="98625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" y="11124"/>
                    </a:moveTo>
                    <a:arcTo wR="10800" hR="10800" stAng="10696870" swAng="9862562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4414680" y="1905120"/>
                <a:ext cx="314280" cy="226800"/>
                <a:chOff x="4414680" y="1905120"/>
                <a:chExt cx="314280" cy="226800"/>
              </a:xfrm>
            </p:grpSpPr>
            <p:sp>
              <p:nvSpPr>
                <p:cNvPr id="323" name=""/>
                <p:cNvSpPr/>
                <p:nvPr/>
              </p:nvSpPr>
              <p:spPr>
                <a:xfrm flipV="1">
                  <a:off x="4414680" y="1905120"/>
                  <a:ext cx="160200" cy="217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>
                  <a:off x="4555440" y="1905120"/>
                  <a:ext cx="173520" cy="226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794120" y="1905120"/>
                <a:ext cx="462960" cy="198000"/>
                <a:chOff x="4794120" y="1905120"/>
                <a:chExt cx="462960" cy="198000"/>
              </a:xfrm>
            </p:grpSpPr>
            <p:sp>
              <p:nvSpPr>
                <p:cNvPr id="326" name=""/>
                <p:cNvSpPr/>
                <p:nvPr/>
              </p:nvSpPr>
              <p:spPr>
                <a:xfrm flipV="1">
                  <a:off x="4794120" y="1905120"/>
                  <a:ext cx="261000" cy="198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 flipV="1">
                  <a:off x="5034960" y="1905120"/>
                  <a:ext cx="222120" cy="19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8" name=""/>
            <p:cNvSpPr/>
            <p:nvPr/>
          </p:nvSpPr>
          <p:spPr>
            <a:xfrm>
              <a:off x="5334120" y="23623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24080" y="23623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33520" y="2666520"/>
            <a:ext cx="2590560" cy="621360"/>
            <a:chOff x="533520" y="2666520"/>
            <a:chExt cx="2590560" cy="621360"/>
          </a:xfrm>
        </p:grpSpPr>
        <p:grpSp>
          <p:nvGrpSpPr>
            <p:cNvPr id="331" name=""/>
            <p:cNvGrpSpPr/>
            <p:nvPr/>
          </p:nvGrpSpPr>
          <p:grpSpPr>
            <a:xfrm>
              <a:off x="1668600" y="2666520"/>
              <a:ext cx="1377000" cy="263520"/>
              <a:chOff x="1668600" y="2666520"/>
              <a:chExt cx="1377000" cy="263520"/>
            </a:xfrm>
          </p:grpSpPr>
          <p:sp>
            <p:nvSpPr>
              <p:cNvPr id="332" name=""/>
              <p:cNvSpPr/>
              <p:nvPr/>
            </p:nvSpPr>
            <p:spPr>
              <a:xfrm>
                <a:off x="1668600" y="2772720"/>
                <a:ext cx="623880" cy="15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" y="11124"/>
                    </a:moveTo>
                    <a:arcTo wR="10800" hR="10800" stAng="10696870" swAng="96905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" y="11124"/>
                    </a:moveTo>
                    <a:arcTo wR="10800" hR="10800" stAng="10696870" swAng="9690517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2280240" y="2666520"/>
                <a:ext cx="312840" cy="158760"/>
                <a:chOff x="2280240" y="2666520"/>
                <a:chExt cx="312840" cy="158760"/>
              </a:xfrm>
            </p:grpSpPr>
            <p:sp>
              <p:nvSpPr>
                <p:cNvPr id="334" name=""/>
                <p:cNvSpPr/>
                <p:nvPr/>
              </p:nvSpPr>
              <p:spPr>
                <a:xfrm flipV="1">
                  <a:off x="2280240" y="2666520"/>
                  <a:ext cx="159840" cy="152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 flipV="1">
                  <a:off x="2419920" y="2666520"/>
                  <a:ext cx="173160" cy="1587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583000" y="2666520"/>
                <a:ext cx="462600" cy="139320"/>
                <a:chOff x="2583000" y="2666520"/>
                <a:chExt cx="462600" cy="139320"/>
              </a:xfrm>
            </p:grpSpPr>
            <p:sp>
              <p:nvSpPr>
                <p:cNvPr id="337" name=""/>
                <p:cNvSpPr/>
                <p:nvPr/>
              </p:nvSpPr>
              <p:spPr>
                <a:xfrm flipV="1">
                  <a:off x="2583000" y="2666880"/>
                  <a:ext cx="260640" cy="13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flipV="1">
                  <a:off x="2823840" y="2666520"/>
                  <a:ext cx="221760" cy="134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533520" y="3182760"/>
              <a:ext cx="0" cy="105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24080" y="3182760"/>
              <a:ext cx="0" cy="105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Cloud"/>
          <p:cNvSpPr/>
          <p:nvPr/>
        </p:nvSpPr>
        <p:spPr>
          <a:xfrm>
            <a:off x="380880" y="1752480"/>
            <a:ext cx="2667240" cy="843120"/>
          </a:xfrm>
          <a:prstGeom prst="pie">
            <a:avLst/>
          </a:prstGeom>
          <a:solidFill>
            <a:srgbClr val="8fdaf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с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Cloud"/>
          <p:cNvSpPr/>
          <p:nvPr/>
        </p:nvSpPr>
        <p:spPr>
          <a:xfrm>
            <a:off x="1371600" y="838080"/>
            <a:ext cx="2514600" cy="843120"/>
          </a:xfrm>
          <a:prstGeom prst="pie">
            <a:avLst/>
          </a:prstGeom>
          <a:solidFill>
            <a:srgbClr val="8fdaf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гнез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Cloud"/>
          <p:cNvSpPr/>
          <p:nvPr/>
        </p:nvSpPr>
        <p:spPr>
          <a:xfrm>
            <a:off x="6095880" y="1447920"/>
            <a:ext cx="1828800" cy="842760"/>
          </a:xfrm>
          <a:prstGeom prst="pie">
            <a:avLst/>
          </a:prstGeom>
          <a:solidFill>
            <a:srgbClr val="8fdaf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ыш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Cloud"/>
          <p:cNvSpPr/>
          <p:nvPr/>
        </p:nvSpPr>
        <p:spPr>
          <a:xfrm>
            <a:off x="380880" y="2666880"/>
            <a:ext cx="2590920" cy="843120"/>
          </a:xfrm>
          <a:prstGeom prst="pie">
            <a:avLst/>
          </a:prstGeom>
          <a:solidFill>
            <a:srgbClr val="8fdaf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ве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Cloud"/>
          <p:cNvSpPr/>
          <p:nvPr/>
        </p:nvSpPr>
        <p:spPr>
          <a:xfrm>
            <a:off x="228600" y="3733920"/>
            <a:ext cx="2514600" cy="842760"/>
          </a:xfrm>
          <a:prstGeom prst="pie">
            <a:avLst/>
          </a:prstGeom>
          <a:solidFill>
            <a:srgbClr val="8fdaf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берё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Cloud"/>
          <p:cNvSpPr/>
          <p:nvPr/>
        </p:nvSpPr>
        <p:spPr>
          <a:xfrm>
            <a:off x="609480" y="4800600"/>
            <a:ext cx="2057400" cy="843120"/>
          </a:xfrm>
          <a:prstGeom prst="pie">
            <a:avLst/>
          </a:prstGeom>
          <a:solidFill>
            <a:srgbClr val="8fdaf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Cloud"/>
          <p:cNvSpPr/>
          <p:nvPr/>
        </p:nvSpPr>
        <p:spPr>
          <a:xfrm>
            <a:off x="228600" y="5715000"/>
            <a:ext cx="2362320" cy="843120"/>
          </a:xfrm>
          <a:prstGeom prst="pie">
            <a:avLst/>
          </a:prstGeom>
          <a:solidFill>
            <a:srgbClr val="8fdaf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м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Cloud"/>
          <p:cNvSpPr/>
          <p:nvPr/>
        </p:nvSpPr>
        <p:spPr>
          <a:xfrm>
            <a:off x="6172200" y="457200"/>
            <a:ext cx="1828800" cy="843120"/>
          </a:xfrm>
          <a:prstGeom prst="pie">
            <a:avLst/>
          </a:prstGeom>
          <a:solidFill>
            <a:srgbClr val="8fdaf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ё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Cloud"/>
          <p:cNvSpPr/>
          <p:nvPr/>
        </p:nvSpPr>
        <p:spPr>
          <a:xfrm>
            <a:off x="5943600" y="2438280"/>
            <a:ext cx="1447920" cy="843120"/>
          </a:xfrm>
          <a:prstGeom prst="pie">
            <a:avLst/>
          </a:prstGeom>
          <a:solidFill>
            <a:srgbClr val="8fdaf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Cloud"/>
          <p:cNvSpPr/>
          <p:nvPr/>
        </p:nvSpPr>
        <p:spPr>
          <a:xfrm>
            <a:off x="5791320" y="3429000"/>
            <a:ext cx="1523880" cy="843120"/>
          </a:xfrm>
          <a:prstGeom prst="pie">
            <a:avLst/>
          </a:prstGeom>
          <a:solidFill>
            <a:srgbClr val="8fdaf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Cloud"/>
          <p:cNvSpPr/>
          <p:nvPr/>
        </p:nvSpPr>
        <p:spPr>
          <a:xfrm>
            <a:off x="6629400" y="4191120"/>
            <a:ext cx="1447920" cy="842760"/>
          </a:xfrm>
          <a:prstGeom prst="pie">
            <a:avLst/>
          </a:prstGeom>
          <a:solidFill>
            <a:srgbClr val="8fdaf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Cloud"/>
          <p:cNvSpPr/>
          <p:nvPr/>
        </p:nvSpPr>
        <p:spPr>
          <a:xfrm>
            <a:off x="7467480" y="5105520"/>
            <a:ext cx="1447920" cy="842760"/>
          </a:xfrm>
          <a:prstGeom prst="pie">
            <a:avLst/>
          </a:prstGeom>
          <a:solidFill>
            <a:srgbClr val="8fdaf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оч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81280" y="1295280"/>
            <a:ext cx="2743200" cy="53352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819520" y="990720"/>
            <a:ext cx="3657600" cy="121896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3124080"/>
            <a:ext cx="3352680" cy="76212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590920" y="2971440"/>
            <a:ext cx="3657600" cy="121932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38280" y="5257800"/>
            <a:ext cx="5257800" cy="22860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438280" y="4724280"/>
            <a:ext cx="4496040" cy="144792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1828800" y="2895480"/>
            <a:ext cx="5029200" cy="2257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0" y="3470400"/>
            <a:ext cx="342900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199"/>
                </a:solidFill>
                <a:latin typeface="Arial"/>
              </a:rPr>
              <a:t>4. Гнёздышко, совёнок, ветерок, берёзка, козочка, мостик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847960" y="761760"/>
            <a:ext cx="581040" cy="290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29000" y="762120"/>
            <a:ext cx="620640" cy="296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703840" y="739440"/>
            <a:ext cx="654120" cy="276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42120" y="739800"/>
            <a:ext cx="639720" cy="290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514600" y="1599840"/>
            <a:ext cx="638280" cy="158760"/>
            <a:chOff x="2514600" y="1599840"/>
            <a:chExt cx="638280" cy="158760"/>
          </a:xfrm>
        </p:grpSpPr>
        <p:sp>
          <p:nvSpPr>
            <p:cNvPr id="369" name=""/>
            <p:cNvSpPr/>
            <p:nvPr/>
          </p:nvSpPr>
          <p:spPr>
            <a:xfrm flipV="1">
              <a:off x="2514600" y="1611360"/>
              <a:ext cx="301680" cy="141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2819520" y="1599840"/>
              <a:ext cx="333360" cy="158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 flipV="1">
            <a:off x="5105520" y="1599840"/>
            <a:ext cx="15228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5257440" y="1599840"/>
            <a:ext cx="15228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934320" y="1552320"/>
            <a:ext cx="452160" cy="199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7364160" y="1537920"/>
            <a:ext cx="47916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209680" y="2230200"/>
            <a:ext cx="376200" cy="284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2582640" y="2235240"/>
            <a:ext cx="29988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0200" y="421236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уффик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– это часть слова, которая стоит после корня и служит для образования новых слов.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914400" y="5791320"/>
            <a:ext cx="7840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10199"/>
                </a:solidFill>
                <a:latin typeface="Arial"/>
              </a:rPr>
              <a:t>Разберите слова по составу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 группа       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 группа      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 груп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адик     садовый   посад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533520" y="5410080"/>
            <a:ext cx="784080" cy="725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685800" y="1143000"/>
            <a:ext cx="784080" cy="7254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1485360" y="4521960"/>
            <a:ext cx="1867320" cy="1424160"/>
            <a:chOff x="1485360" y="4521960"/>
            <a:chExt cx="1867320" cy="1424160"/>
          </a:xfrm>
        </p:grpSpPr>
        <p:grpSp>
          <p:nvGrpSpPr>
            <p:cNvPr id="384" name=""/>
            <p:cNvGrpSpPr/>
            <p:nvPr/>
          </p:nvGrpSpPr>
          <p:grpSpPr>
            <a:xfrm>
              <a:off x="2514600" y="4724280"/>
              <a:ext cx="533520" cy="158760"/>
              <a:chOff x="2514600" y="4724280"/>
              <a:chExt cx="533520" cy="158760"/>
            </a:xfrm>
          </p:grpSpPr>
          <p:sp>
            <p:nvSpPr>
              <p:cNvPr id="385" name=""/>
              <p:cNvSpPr/>
              <p:nvPr/>
            </p:nvSpPr>
            <p:spPr>
              <a:xfrm flipV="1">
                <a:off x="2514600" y="4735800"/>
                <a:ext cx="252000" cy="141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>
                <a:off x="2769480" y="4724280"/>
                <a:ext cx="278640" cy="1587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rot="20429400">
              <a:off x="1647000" y="4660920"/>
              <a:ext cx="1030680" cy="114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13" y="2165"/>
                  </a:moveTo>
                  <a:arcTo wR="10800" hR="10800" stAng="-7614935" swAng="64048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313" y="2165"/>
                  </a:moveTo>
                  <a:arcTo wR="10800" hR="10800" stAng="-7614935" swAng="6404881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48120" y="4876920"/>
              <a:ext cx="304560" cy="3812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676520" y="5105520"/>
              <a:ext cx="1371600" cy="228240"/>
              <a:chOff x="1676520" y="5105520"/>
              <a:chExt cx="1371600" cy="228240"/>
            </a:xfrm>
          </p:grpSpPr>
          <p:sp>
            <p:nvSpPr>
              <p:cNvPr id="390" name=""/>
              <p:cNvSpPr/>
              <p:nvPr/>
            </p:nvSpPr>
            <p:spPr>
              <a:xfrm>
                <a:off x="1676520" y="5327280"/>
                <a:ext cx="13658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3042360" y="5105520"/>
                <a:ext cx="5760" cy="221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1676520" y="5112000"/>
                <a:ext cx="5760" cy="221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3390840" y="4521960"/>
            <a:ext cx="2324160" cy="1423440"/>
            <a:chOff x="3390840" y="4521960"/>
            <a:chExt cx="2324160" cy="1423440"/>
          </a:xfrm>
        </p:grpSpPr>
        <p:grpSp>
          <p:nvGrpSpPr>
            <p:cNvPr id="394" name=""/>
            <p:cNvGrpSpPr/>
            <p:nvPr/>
          </p:nvGrpSpPr>
          <p:grpSpPr>
            <a:xfrm>
              <a:off x="4495680" y="4800600"/>
              <a:ext cx="533520" cy="158400"/>
              <a:chOff x="4495680" y="4800600"/>
              <a:chExt cx="533520" cy="158400"/>
            </a:xfrm>
          </p:grpSpPr>
          <p:sp>
            <p:nvSpPr>
              <p:cNvPr id="395" name=""/>
              <p:cNvSpPr/>
              <p:nvPr/>
            </p:nvSpPr>
            <p:spPr>
              <a:xfrm flipV="1">
                <a:off x="4495680" y="4811040"/>
                <a:ext cx="252000" cy="1407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 flipV="1">
                <a:off x="4750560" y="4800600"/>
                <a:ext cx="278640" cy="1584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 rot="20429400">
              <a:off x="3552120" y="4660920"/>
              <a:ext cx="1030680" cy="114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13" y="2165"/>
                  </a:moveTo>
                  <a:arcTo wR="10800" hR="10800" stAng="-7614935" swAng="64048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313" y="2165"/>
                  </a:moveTo>
                  <a:arcTo wR="10800" hR="10800" stAng="-7614935" swAng="6404881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29200" y="4724280"/>
              <a:ext cx="685800" cy="5331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657600" y="5181480"/>
              <a:ext cx="1295280" cy="84960"/>
              <a:chOff x="3657600" y="5181480"/>
              <a:chExt cx="1295280" cy="84960"/>
            </a:xfrm>
          </p:grpSpPr>
          <p:sp>
            <p:nvSpPr>
              <p:cNvPr id="400" name=""/>
              <p:cNvSpPr/>
              <p:nvPr/>
            </p:nvSpPr>
            <p:spPr>
              <a:xfrm>
                <a:off x="3657600" y="5264280"/>
                <a:ext cx="1289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4947480" y="5181480"/>
                <a:ext cx="5400" cy="82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657600" y="5183640"/>
                <a:ext cx="5400" cy="82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"/>
          <p:cNvSpPr/>
          <p:nvPr/>
        </p:nvSpPr>
        <p:spPr>
          <a:xfrm>
            <a:off x="1600200" y="45720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505320" y="45720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019920" y="4597920"/>
            <a:ext cx="2285640" cy="1424160"/>
            <a:chOff x="6019920" y="4597920"/>
            <a:chExt cx="2285640" cy="1424160"/>
          </a:xfrm>
        </p:grpSpPr>
        <p:grpSp>
          <p:nvGrpSpPr>
            <p:cNvPr id="406" name=""/>
            <p:cNvGrpSpPr/>
            <p:nvPr/>
          </p:nvGrpSpPr>
          <p:grpSpPr>
            <a:xfrm>
              <a:off x="6019920" y="4800600"/>
              <a:ext cx="609480" cy="228600"/>
              <a:chOff x="6019920" y="4800600"/>
              <a:chExt cx="609480" cy="228600"/>
            </a:xfrm>
          </p:grpSpPr>
          <p:sp>
            <p:nvSpPr>
              <p:cNvPr id="407" name=""/>
              <p:cNvSpPr/>
              <p:nvPr/>
            </p:nvSpPr>
            <p:spPr>
              <a:xfrm>
                <a:off x="6019920" y="4800600"/>
                <a:ext cx="6094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629400" y="4800600"/>
                <a:ext cx="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 rot="20429400">
              <a:off x="6600240" y="4736880"/>
              <a:ext cx="1030680" cy="114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13" y="2165"/>
                  </a:moveTo>
                  <a:arcTo wR="10800" hR="10800" stAng="-7614935" swAng="64048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313" y="2165"/>
                  </a:moveTo>
                  <a:arcTo wR="10800" hR="10800" stAng="-7614935" swAng="6404881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7467480" y="4723920"/>
              <a:ext cx="227880" cy="158760"/>
              <a:chOff x="7467480" y="4723920"/>
              <a:chExt cx="227880" cy="158760"/>
            </a:xfrm>
          </p:grpSpPr>
          <p:sp>
            <p:nvSpPr>
              <p:cNvPr id="411" name=""/>
              <p:cNvSpPr/>
              <p:nvPr/>
            </p:nvSpPr>
            <p:spPr>
              <a:xfrm flipV="1">
                <a:off x="7467480" y="4735440"/>
                <a:ext cx="108000" cy="141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 flipV="1">
                <a:off x="7576200" y="4723920"/>
                <a:ext cx="119160" cy="1587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696080" y="4723920"/>
              <a:ext cx="609480" cy="158760"/>
              <a:chOff x="7696080" y="4723920"/>
              <a:chExt cx="609480" cy="15876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7696080" y="4735440"/>
                <a:ext cx="288000" cy="1411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7987320" y="4723920"/>
                <a:ext cx="318240" cy="1587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flipV="1">
              <a:off x="8229600" y="5181480"/>
              <a:ext cx="6480" cy="82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19920" y="5257800"/>
              <a:ext cx="22096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6019920" y="5181480"/>
              <a:ext cx="6120" cy="82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5943600" y="45720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914400" y="411480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П Л А Н Е Т А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266688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52480" y="266688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352680" y="266688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24040" y="336708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335268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89120" y="411480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378240" y="411480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78240" y="485136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3000" y="4846680"/>
            <a:ext cx="92844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90720" y="4848120"/>
            <a:ext cx="92844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36640" y="484812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29000" y="4846680"/>
            <a:ext cx="92844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33680" y="411480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33680" y="264168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14600" y="3395520"/>
            <a:ext cx="928800" cy="7369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3680" y="190512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33680" y="558792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2666880"/>
            <a:ext cx="93024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52880" y="266688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91320" y="2666880"/>
            <a:ext cx="92844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29400" y="266688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391520" y="2666880"/>
            <a:ext cx="92844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119480" y="3378240"/>
            <a:ext cx="93024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50000" y="3378240"/>
            <a:ext cx="92844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94200" y="339264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38760" y="337824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77120" y="340056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128080" y="3429000"/>
            <a:ext cx="92844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21000" y="4114800"/>
            <a:ext cx="9306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065560" y="411480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867280" y="4100400"/>
            <a:ext cx="9288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21000" y="4851360"/>
            <a:ext cx="930600" cy="736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838080" y="5867280"/>
            <a:ext cx="784440" cy="72576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7543800" y="838080"/>
            <a:ext cx="784080" cy="7257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4"/>
          <a:stretch/>
        </p:blipFill>
        <p:spPr>
          <a:xfrm>
            <a:off x="762120" y="914400"/>
            <a:ext cx="91440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80"/>
                            </p:stCondLst>
                            <p:childTnLst>
                              <p:par>
                                <p:cTn id="5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60"/>
                            </p:stCondLst>
                            <p:childTnLst>
                              <p:par>
                                <p:cTn id="5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40"/>
                            </p:stCondLst>
                            <p:childTnLst>
                              <p:par>
                                <p:cTn id="5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2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00"/>
                            </p:stCondLst>
                            <p:childTnLst>
                              <p:par>
                                <p:cTn id="6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80"/>
                            </p:stCondLst>
                            <p:childTnLst>
                              <p:par>
                                <p:cTn id="6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60"/>
                            </p:stCondLst>
                            <p:childTnLst>
                              <p:par>
                                <p:cTn id="6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40"/>
                            </p:stCondLst>
                            <p:childTnLst>
                              <p:par>
                                <p:cTn id="6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80"/>
                            </p:stCondLst>
                            <p:childTnLst>
                              <p:par>
                                <p:cTn id="6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60"/>
                            </p:stCondLst>
                            <p:childTnLst>
                              <p:par>
                                <p:cTn id="6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40"/>
                            </p:stCondLst>
                            <p:childTnLst>
                              <p:par>
                                <p:cTn id="6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20"/>
                            </p:stCondLst>
                            <p:childTnLst>
                              <p:par>
                                <p:cTn id="6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400"/>
                            </p:stCondLst>
                            <p:childTnLst>
                              <p:par>
                                <p:cTn id="6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480"/>
                            </p:stCondLst>
                            <p:childTnLst>
                              <p:par>
                                <p:cTn id="6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60"/>
                            </p:stCondLst>
                            <p:childTnLst>
                              <p:par>
                                <p:cTn id="6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40"/>
                            </p:stCondLst>
                            <p:childTnLst>
                              <p:par>
                                <p:cTn id="6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80"/>
                            </p:stCondLst>
                            <p:childTnLst>
                              <p:par>
                                <p:cTn id="6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60"/>
                            </p:stCondLst>
                            <p:childTnLst>
                              <p:par>
                                <p:cTn id="7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40"/>
                            </p:stCondLst>
                            <p:childTnLst>
                              <p:par>
                                <p:cTn id="7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20"/>
                            </p:stCondLst>
                            <p:childTnLst>
                              <p:par>
                                <p:cTn id="7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"/>
                            </p:stCondLst>
                            <p:childTnLst>
                              <p:par>
                                <p:cTn id="7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480"/>
                            </p:stCondLst>
                            <p:childTnLst>
                              <p:par>
                                <p:cTn id="7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8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"/>
                            </p:stCondLst>
                            <p:childTnLst>
                              <p:par>
                                <p:cTn id="7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60"/>
                            </p:stCondLst>
                            <p:childTnLst>
                              <p:par>
                                <p:cTn id="7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40"/>
                            </p:stCondLst>
                            <p:childTnLst>
                              <p:par>
                                <p:cTn id="7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320"/>
                            </p:stCondLst>
                            <p:childTnLst>
                              <p:par>
                                <p:cTn id="7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8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770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771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772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73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77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7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780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781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782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83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786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787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88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790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9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79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796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797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98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1206600">
            <a:off x="2471760" y="166320"/>
            <a:ext cx="1295280" cy="125244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4397040" y="143280"/>
            <a:ext cx="3397680" cy="1922760"/>
            <a:chOff x="4397040" y="143280"/>
            <a:chExt cx="3397680" cy="1922760"/>
          </a:xfrm>
        </p:grpSpPr>
        <p:sp>
          <p:nvSpPr>
            <p:cNvPr id="103" name=""/>
            <p:cNvSpPr/>
            <p:nvPr/>
          </p:nvSpPr>
          <p:spPr>
            <a:xfrm rot="708600">
              <a:off x="4495320" y="456840"/>
              <a:ext cx="3200400" cy="1295280"/>
            </a:xfrm>
            <a:prstGeom prst="cloudCallout">
              <a:avLst>
                <a:gd name="adj1" fmla="val -2569"/>
                <a:gd name="adj2" fmla="val 69143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84760" y="987480"/>
              <a:ext cx="914400" cy="228600"/>
              <a:chOff x="5684760" y="987480"/>
              <a:chExt cx="914400" cy="228600"/>
            </a:xfrm>
          </p:grpSpPr>
          <p:sp>
            <p:nvSpPr>
              <p:cNvPr id="105" name=""/>
              <p:cNvSpPr/>
              <p:nvPr/>
            </p:nvSpPr>
            <p:spPr>
              <a:xfrm>
                <a:off x="5684760" y="987480"/>
                <a:ext cx="91440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99160" y="987480"/>
                <a:ext cx="0" cy="2286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6082560" y="2224440"/>
            <a:ext cx="2922120" cy="2561400"/>
            <a:chOff x="6082560" y="2224440"/>
            <a:chExt cx="2922120" cy="2561400"/>
          </a:xfrm>
        </p:grpSpPr>
        <p:sp>
          <p:nvSpPr>
            <p:cNvPr id="108" name=""/>
            <p:cNvSpPr/>
            <p:nvPr/>
          </p:nvSpPr>
          <p:spPr>
            <a:xfrm rot="1526400">
              <a:off x="6324120" y="2666880"/>
              <a:ext cx="2438640" cy="1676520"/>
            </a:xfrm>
            <a:prstGeom prst="cloudCallout">
              <a:avLst>
                <a:gd name="adj1" fmla="val -43750"/>
                <a:gd name="adj2" fmla="val 6183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9159200">
              <a:off x="6876720" y="3258000"/>
              <a:ext cx="121896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279680" y="4081680"/>
            <a:ext cx="2870280" cy="2656800"/>
            <a:chOff x="4279680" y="4081680"/>
            <a:chExt cx="2870280" cy="2656800"/>
          </a:xfrm>
        </p:grpSpPr>
        <p:sp>
          <p:nvSpPr>
            <p:cNvPr id="111" name=""/>
            <p:cNvSpPr/>
            <p:nvPr/>
          </p:nvSpPr>
          <p:spPr>
            <a:xfrm rot="2130000">
              <a:off x="4495320" y="4647960"/>
              <a:ext cx="2438640" cy="1523880"/>
            </a:xfrm>
            <a:prstGeom prst="cloudCallout">
              <a:avLst>
                <a:gd name="adj1" fmla="val -63412"/>
                <a:gd name="adj2" fmla="val 36666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410080" y="5105520"/>
              <a:ext cx="304920" cy="304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5714640" y="5105520"/>
              <a:ext cx="304920" cy="304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38080" y="3657600"/>
            <a:ext cx="2590920" cy="1219320"/>
            <a:chOff x="838080" y="3657600"/>
            <a:chExt cx="2590920" cy="1219320"/>
          </a:xfrm>
        </p:grpSpPr>
        <p:sp>
          <p:nvSpPr>
            <p:cNvPr id="115" name=""/>
            <p:cNvSpPr/>
            <p:nvPr/>
          </p:nvSpPr>
          <p:spPr>
            <a:xfrm>
              <a:off x="838080" y="3657600"/>
              <a:ext cx="2590920" cy="1219320"/>
            </a:xfrm>
            <a:prstGeom prst="cloudCallout">
              <a:avLst>
                <a:gd name="adj1" fmla="val 30393"/>
                <a:gd name="adj2" fmla="val 82032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8800" y="4114800"/>
              <a:ext cx="762120" cy="304920"/>
            </a:xfrm>
            <a:prstGeom prst="rect">
              <a:avLst/>
            </a:prstGeom>
            <a:solidFill>
              <a:srgbClr val="3399ff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62120" y="1295280"/>
            <a:ext cx="2438280" cy="1219320"/>
            <a:chOff x="762120" y="1295280"/>
            <a:chExt cx="2438280" cy="1219320"/>
          </a:xfrm>
        </p:grpSpPr>
        <p:sp>
          <p:nvSpPr>
            <p:cNvPr id="118" name=""/>
            <p:cNvSpPr/>
            <p:nvPr/>
          </p:nvSpPr>
          <p:spPr>
            <a:xfrm>
              <a:off x="762120" y="1295280"/>
              <a:ext cx="2438280" cy="1219320"/>
            </a:xfrm>
            <a:prstGeom prst="cloudCallout">
              <a:avLst>
                <a:gd name="adj1" fmla="val 50587"/>
                <a:gd name="adj2" fmla="val 85416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447920" y="1752120"/>
              <a:ext cx="1066680" cy="152640"/>
              <a:chOff x="1447920" y="1752120"/>
              <a:chExt cx="1066680" cy="152640"/>
            </a:xfrm>
          </p:grpSpPr>
          <p:sp>
            <p:nvSpPr>
              <p:cNvPr id="120" name=""/>
              <p:cNvSpPr/>
              <p:nvPr/>
            </p:nvSpPr>
            <p:spPr>
              <a:xfrm>
                <a:off x="1447920" y="1904760"/>
                <a:ext cx="106668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1447920" y="1752120"/>
                <a:ext cx="0" cy="1522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2514600" y="1752120"/>
                <a:ext cx="0" cy="1522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1981440" cy="1946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784440" cy="725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5120" y="1219320"/>
            <a:ext cx="6553080" cy="4572000"/>
          </a:xfrm>
          <a:prstGeom prst="cloudCallout">
            <a:avLst>
              <a:gd name="adj1" fmla="val -24953"/>
              <a:gd name="adj2" fmla="val 27467"/>
            </a:avLst>
          </a:prstGeom>
          <a:gradFill rotWithShape="0">
            <a:gsLst>
              <a:gs pos="0">
                <a:srgbClr val="6666ff"/>
              </a:gs>
              <a:gs pos="100000">
                <a:srgbClr val="9900ff"/>
              </a:gs>
            </a:gsLst>
            <a:lin ang="5400000"/>
          </a:gra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Состав слов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78035E-006 C -0.00434 0.00485 -0.00868 0.00994 -0.03646 0.01063 C -0.06424 0.01132 -0.12986 0.01595 -0.16667 0.00439 C -0.20347 -0.00717 -0.23281 -0.04093 -0.25712 -0.0592 C -0.28143 -0.07746 -0.29045 -0.08671 -0.31268 -0.10567 C -0.3349 -0.12463 -0.36268 -0.14891 -0.39045 -0.17318 E">
                                      <p:cBhvr>
                                        <p:cTn id="4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 rot="3853200">
            <a:off x="1105200" y="951480"/>
            <a:ext cx="2209680" cy="213516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4572000" y="106668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533520" y="5410080"/>
            <a:ext cx="784080" cy="7257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4648320" y="5562720"/>
            <a:ext cx="784080" cy="7254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6"/>
          <a:stretch/>
        </p:blipFill>
        <p:spPr>
          <a:xfrm>
            <a:off x="4952880" y="457200"/>
            <a:ext cx="78444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10199"/>
                </a:solidFill>
                <a:latin typeface="Arial"/>
              </a:rPr>
              <a:t>Литера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Arial"/>
              </a:rPr>
              <a:t>1. Соловейчик М.С., Кузьменко Н.С. К тайнам нашего языка: учебник русского языка для четырехлетней начальной школы. – Смоленск: Ассоциация ХХ</a:t>
            </a: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10199"/>
                </a:solidFill>
                <a:latin typeface="Arial"/>
              </a:rPr>
              <a:t> век, 2005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Arial"/>
              </a:rPr>
              <a:t>2. Волина В. В. Веселая грамматика. – М.: Зн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Arial"/>
              </a:rPr>
              <a:t>3. Перекатьева О.В. Первоклашки в гостях у сказки. – Ростов н/Д: «Феникс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Arial"/>
              </a:rPr>
              <a:t>4. Географический атлас для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videocarta.ru</a:t>
            </a:r>
            <a:r>
              <a:rPr b="0" lang="ru-RU" sz="20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Arial"/>
              </a:rPr>
              <a:t>6.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.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zemliy.narod.ru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Arial"/>
              </a:rPr>
              <a:t>7.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http://office.microsof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://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it-n.ru</a:t>
            </a:r>
            <a:r>
              <a:rPr b="0" lang="ru-RU" sz="2000" spc="-1" strike="noStrike">
                <a:solidFill>
                  <a:srgbClr val="0101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Arial"/>
              </a:rPr>
              <a:t>9.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http://fonegallery.narod.ru/golub/golub6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2"/>
          <a:stretch/>
        </p:blipFill>
        <p:spPr>
          <a:xfrm>
            <a:off x="533520" y="5410080"/>
            <a:ext cx="78408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6840" cy="6916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2280" y="3765600"/>
            <a:ext cx="32004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990720" y="2438280"/>
          <a:ext cx="7390800" cy="1905120"/>
        </p:xfrm>
        <a:graphic>
          <a:graphicData uri="http://schemas.openxmlformats.org/drawingml/2006/table">
            <a:tbl>
              <a:tblPr/>
              <a:tblGrid>
                <a:gridCol w="2244240"/>
                <a:gridCol w="2708640"/>
                <a:gridCol w="2437920"/>
              </a:tblGrid>
              <a:tr h="1905120">
                <a:tc>
                  <a:txBody>
                    <a:bodyPr lIns="90000" rIns="90000" tIns="1800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С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е</a:t>
                      </a:r>
                      <a:r>
                        <a:rPr b="1" lang="en-US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’’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080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Picture 8" descr="C:\Documents and Settings\Гость\Local Settings\Temporary Internet Files\Content.IE5\20USHZOK\MCj00835470000[1].wmf"/>
          <p:cNvPicPr/>
          <p:nvPr/>
        </p:nvPicPr>
        <p:blipFill>
          <a:blip r:embed="rId2"/>
          <a:stretch/>
        </p:blipFill>
        <p:spPr>
          <a:xfrm>
            <a:off x="3124080" y="2971800"/>
            <a:ext cx="3810240" cy="3100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133720" y="914400"/>
            <a:ext cx="487656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космос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3520" y="5410080"/>
            <a:ext cx="78408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00400" y="3886200"/>
            <a:ext cx="533520" cy="453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962520" y="4495680"/>
            <a:ext cx="533160" cy="454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105520" y="2362320"/>
            <a:ext cx="3733560" cy="3657600"/>
          </a:xfrm>
          <a:custGeom>
            <a:avLst/>
            <a:gdLst>
              <a:gd name="textAreaLeft" fmla="*/ 1456200 w 3733560"/>
              <a:gd name="textAreaRight" fmla="*/ 2277360 w 3733560"/>
              <a:gd name="textAreaTop" fmla="*/ 1426680 h 3657600"/>
              <a:gd name="textAreaBottom" fmla="*/ 223092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25" y="8425"/>
                </a:lnTo>
                <a:lnTo>
                  <a:pt x="10800" y="0"/>
                </a:lnTo>
                <a:lnTo>
                  <a:pt x="13175" y="8425"/>
                </a:lnTo>
                <a:lnTo>
                  <a:pt x="21600" y="10800"/>
                </a:lnTo>
                <a:lnTo>
                  <a:pt x="13175" y="13175"/>
                </a:lnTo>
                <a:lnTo>
                  <a:pt x="10800" y="21600"/>
                </a:lnTo>
                <a:lnTo>
                  <a:pt x="8425" y="13175"/>
                </a:lnTo>
                <a:lnTo>
                  <a:pt x="0" y="108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осм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219320"/>
            <a:ext cx="3733920" cy="1981080"/>
          </a:xfrm>
          <a:prstGeom prst="irregularSeal2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косм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762120"/>
            <a:ext cx="3429000" cy="198108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Arial"/>
              </a:rPr>
              <a:t>космонав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4114800"/>
            <a:ext cx="2895840" cy="1905120"/>
          </a:xfrm>
          <a:custGeom>
            <a:avLst/>
            <a:gdLst>
              <a:gd name="textAreaLeft" fmla="*/ 660960 w 2895840"/>
              <a:gd name="textAreaRight" fmla="*/ 2234880 w 2895840"/>
              <a:gd name="textAreaTop" fmla="*/ 434880 h 1905120"/>
              <a:gd name="textAreaBottom" fmla="*/ 14702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рак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53280" y="1600200"/>
            <a:ext cx="457200" cy="380880"/>
          </a:xfrm>
          <a:prstGeom prst="star5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523880" y="228600"/>
            <a:ext cx="533520" cy="449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7543800" y="380880"/>
            <a:ext cx="533520" cy="308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715000" y="5257800"/>
            <a:ext cx="533520" cy="453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3581280" y="380880"/>
            <a:ext cx="427320" cy="533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8153280" y="5105520"/>
            <a:ext cx="457200" cy="436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4800600" y="3048120"/>
            <a:ext cx="533520" cy="307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1066680" y="5715000"/>
            <a:ext cx="533520" cy="45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1"/>
          <a:stretch/>
        </p:blipFill>
        <p:spPr>
          <a:xfrm>
            <a:off x="4648320" y="5867280"/>
            <a:ext cx="42696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52480" y="4114800"/>
            <a:ext cx="457200" cy="380880"/>
          </a:xfrm>
          <a:prstGeom prst="star5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380880" y="5257800"/>
            <a:ext cx="78444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Проверка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Космос, космонавт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космическ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8740400">
            <a:off x="340200" y="2125080"/>
            <a:ext cx="2482200" cy="247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20" y="2"/>
                </a:moveTo>
                <a:arcTo wR="10800" hR="10800" stAng="-5457344" swAng="5708007"/>
                <a:lnTo>
                  <a:pt x="10800" y="10800"/>
                </a:lnTo>
                <a:close/>
              </a:path>
              <a:path fill="none" w="21600" h="21600">
                <a:moveTo>
                  <a:pt x="10620" y="2"/>
                </a:moveTo>
                <a:arcTo wR="10800" hR="10800" stAng="-5457344" swAng="5708007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8740400">
            <a:off x="3251160" y="2215080"/>
            <a:ext cx="2483280" cy="247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34" y="71"/>
                </a:moveTo>
                <a:arcTo wR="10800" hR="10800" stAng="-5006205" swAng="4899451"/>
                <a:lnTo>
                  <a:pt x="10800" y="10800"/>
                </a:lnTo>
                <a:close/>
              </a:path>
              <a:path fill="none" w="21600" h="21600">
                <a:moveTo>
                  <a:pt x="12034" y="71"/>
                </a:moveTo>
                <a:arcTo wR="10800" hR="10800" stAng="-5006205" swAng="4899451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8740400">
            <a:off x="279720" y="3281760"/>
            <a:ext cx="2482920" cy="247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59" y="43"/>
                </a:moveTo>
                <a:arcTo wR="10800" hR="10800" stAng="-5094203" swAng="4903311"/>
                <a:lnTo>
                  <a:pt x="10800" y="10800"/>
                </a:lnTo>
                <a:close/>
              </a:path>
              <a:path fill="none" w="21600" h="21600">
                <a:moveTo>
                  <a:pt x="11759" y="43"/>
                </a:moveTo>
                <a:arcTo wR="10800" hR="10800" stAng="-5094203" swAng="4903311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58000" y="4267080"/>
            <a:ext cx="1200240" cy="152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5410080"/>
            <a:ext cx="78408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86000" y="380880"/>
            <a:ext cx="4595760" cy="5867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3520" y="5257800"/>
            <a:ext cx="784080" cy="725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 rot="911400">
            <a:off x="3047760" y="1142640"/>
            <a:ext cx="328320" cy="322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 rot="911400">
            <a:off x="3352320" y="4571640"/>
            <a:ext cx="328680" cy="322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 rot="911400">
            <a:off x="5866920" y="2514240"/>
            <a:ext cx="3286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315200" y="685800"/>
            <a:ext cx="784080" cy="725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 rot="911400">
            <a:off x="5181120" y="6171840"/>
            <a:ext cx="328680" cy="322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 rot="911400">
            <a:off x="4190760" y="456840"/>
            <a:ext cx="328320" cy="322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 rot="911400">
            <a:off x="6476760" y="2361960"/>
            <a:ext cx="328320" cy="32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3505320" y="3048120"/>
            <a:ext cx="4171680" cy="2705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533520" y="5410080"/>
            <a:ext cx="784080" cy="725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 rot="911400">
            <a:off x="8457840" y="1447560"/>
            <a:ext cx="328680" cy="322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 rot="911400">
            <a:off x="8000640" y="6019560"/>
            <a:ext cx="328680" cy="322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 rot="911400">
            <a:off x="3809520" y="1980720"/>
            <a:ext cx="328680" cy="322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7696080" y="3124080"/>
            <a:ext cx="784440" cy="725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2"/>
          <a:stretch/>
        </p:blipFill>
        <p:spPr>
          <a:xfrm>
            <a:off x="2438280" y="3429000"/>
            <a:ext cx="784440" cy="725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3"/>
          <a:stretch/>
        </p:blipFill>
        <p:spPr>
          <a:xfrm>
            <a:off x="990720" y="8380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4"/>
          <a:stretch/>
        </p:blipFill>
        <p:spPr>
          <a:xfrm>
            <a:off x="8381880" y="5029200"/>
            <a:ext cx="53352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cc"/>
                </a:solidFill>
                <a:latin typeface="Arial"/>
              </a:rPr>
              <a:t>1.Звёзд   ,звёзды,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cc"/>
                </a:solidFill>
                <a:latin typeface="Arial"/>
              </a:rPr>
              <a:t>звёздами, о звёздах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Окончан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– это изменяемая часть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слова, которая служит для связи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слов в предлож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1143000"/>
            <a:ext cx="623880" cy="533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43640" y="1066680"/>
            <a:ext cx="642960" cy="6098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1676520"/>
            <a:ext cx="2133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43040" y="2819520"/>
            <a:ext cx="1495440" cy="533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74680" y="3363840"/>
            <a:ext cx="22096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72440" y="2819520"/>
            <a:ext cx="857160" cy="533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100120" y="3352680"/>
            <a:ext cx="22100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400800" y="1523520"/>
            <a:ext cx="9360" cy="157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475000" y="3180960"/>
            <a:ext cx="9360" cy="157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315200" y="3200040"/>
            <a:ext cx="9360" cy="157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 rot="911400">
            <a:off x="837720" y="6171840"/>
            <a:ext cx="328680" cy="322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 rot="911400">
            <a:off x="304560" y="5486040"/>
            <a:ext cx="328320" cy="32220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1066680" y="1523520"/>
            <a:ext cx="2295720" cy="162000"/>
            <a:chOff x="1066680" y="1523520"/>
            <a:chExt cx="2295720" cy="162000"/>
          </a:xfrm>
        </p:grpSpPr>
        <p:sp>
          <p:nvSpPr>
            <p:cNvPr id="188" name=""/>
            <p:cNvSpPr/>
            <p:nvPr/>
          </p:nvSpPr>
          <p:spPr>
            <a:xfrm>
              <a:off x="1066680" y="16812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352680" y="1523520"/>
              <a:ext cx="9720" cy="157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066680" y="1528200"/>
              <a:ext cx="9720" cy="157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V="1">
            <a:off x="4267080" y="1523520"/>
            <a:ext cx="9720" cy="157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04920" y="3200040"/>
            <a:ext cx="9360" cy="157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121360" y="3196800"/>
            <a:ext cx="4680" cy="133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7631873</cp:lastModifiedBy>
  <dcterms:modified xsi:type="dcterms:W3CDTF">2010-07-22T07:46:36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