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12.jpeg" ContentType="image/jpe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gif" ContentType="image/gif"/>
  <Override PartName="/ppt/media/image18.jpeg" ContentType="image/jpeg"/>
  <Override PartName="/ppt/media/image2.wmf" ContentType="image/x-wmf"/>
  <Override PartName="/ppt/media/image23.jpeg" ContentType="image/jpeg"/>
  <Override PartName="/ppt/media/image19.png" ContentType="image/png"/>
  <Override PartName="/ppt/media/image1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538-CA39-4593-A760-224DB294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435-FC9F-4CDA-8ADE-A5CA553A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F4E-DAA6-4646-BA47-E595E364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2DC-038A-4738-AADC-2E8E61FF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A30-128D-40BE-90AC-D5EA920D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DF5-FA9D-4113-8F46-2F65C169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043-41C8-4E65-A5C2-C0A7B98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594-CE6D-48A3-B34A-4E56F217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1DB-0388-4950-A7B9-34A5DEF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0D5-8CC7-4638-AC93-8614ECF8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831-4461-4160-8124-DF06B7C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48F-DC71-49A1-9850-D459C44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5167-876A-4031-BB9F-C562A0A59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64600">
            <a:off x="1042920" y="2060640"/>
            <a:ext cx="7274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ый ум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15120" y="3789360"/>
            <a:ext cx="2160720" cy="28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39960" y="5697000"/>
            <a:ext cx="55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ргин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ОУ «СОШ №5 г.Коряж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3280" y="1268280"/>
            <a:ext cx="897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8.Чем заболел Бегемо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оторый боялся прививок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5400" y="5300640"/>
            <a:ext cx="347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желтухо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291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4520" y="549720"/>
            <a:ext cx="801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9.Кто пел о том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что "хорошими делам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рославиться нельзя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92000" y="5445000"/>
            <a:ext cx="34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апокля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416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065960" y="1125000"/>
            <a:ext cx="109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10.Кто автор сказки "Русалочка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420372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Ганс Христиан Андерс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2644920"/>
            <a:ext cx="352908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 rot="20178000">
            <a:off x="1258920" y="2708280"/>
            <a:ext cx="7634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усский язык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8066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280" y="260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1.В поговорках пропущено одно и то же слово. Отгадайте 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4400" y="5661000"/>
            <a:ext cx="16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у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272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Из … вон плохо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Мастер на все …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Сидеть сложа … 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Как … снял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9280" y="4076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оль, большой, больница, боль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53520" y="404640"/>
            <a:ext cx="898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2.Найди четвертое лишн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440" y="1274760"/>
            <a:ext cx="85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совать, рисунок, рис, зарис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0" y="206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Лев, левша, левый, нал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3520" y="2643120"/>
            <a:ext cx="72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Гусь, гусыня, густой, гус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91880" y="3429000"/>
            <a:ext cx="789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толок, потеть, потливый, п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040" y="5516640"/>
            <a:ext cx="970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рис, лев, густой, потолок, больш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72720" y="2065320"/>
            <a:ext cx="9248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ервое-нота, второе-игр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Целое встретится у столя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1960" y="333360"/>
            <a:ext cx="687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3. Отгадайте шара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38760" y="530208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доло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3238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60040" y="2781720"/>
            <a:ext cx="270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ПАША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ОЖИВ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КАМ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КЮАБ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4936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4. Переставьте буквы так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чтобы получились слова. Найдите лишнее слов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7280" y="4797360"/>
            <a:ext cx="501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апка,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Monotype Corsiva"/>
              </a:rPr>
              <a:t>живот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майка, юб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4960" y="2830320"/>
            <a:ext cx="8786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а сердце…скребу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елить шкуру неубитого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олодный как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оса не подточи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222480" y="214200"/>
            <a:ext cx="960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. Вставьте пропущенн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данные устойчив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четания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5734080"/>
            <a:ext cx="969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ошки, медведя, волк, кома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18600" y="404640"/>
            <a:ext cx="71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6. Разгадайте ребус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2520" y="1484280"/>
            <a:ext cx="22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1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22120" y="2349360"/>
            <a:ext cx="16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2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7320" y="3357720"/>
            <a:ext cx="28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ЗА1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82880" y="4365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1360" y="5445000"/>
            <a:ext cx="22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3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40600" y="1413000"/>
            <a:ext cx="228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ко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0400" y="2349360"/>
            <a:ext cx="210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ар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49240" y="3213000"/>
            <a:ext cx="278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закол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3880" y="4365720"/>
            <a:ext cx="20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п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20880" y="5445000"/>
            <a:ext cx="228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штри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410800">
            <a:off x="1042920" y="2923920"/>
            <a:ext cx="734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Литератур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19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753120" y="908280"/>
            <a:ext cx="1107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7. Какие слова так произносятс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[ Г РУ С’ Т’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5040" y="5300640"/>
            <a:ext cx="475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Груздь, гру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 rot="20425800">
            <a:off x="900000" y="2852280"/>
            <a:ext cx="799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Окружающий мир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22320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-619200"/>
            <a:ext cx="80150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1. Самое древн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и самое глубокое озеро в мире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оторое вмещает пятую часть всех запасов пресной воды на планет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0746600">
            <a:off x="6305760" y="5659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Байк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021680" y="836280"/>
            <a:ext cx="1143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2. У какой птицы клюв наперекос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36240" y="5589720"/>
            <a:ext cx="28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у кле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466560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240" y="475920"/>
            <a:ext cx="909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3.Какая птица откладыва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амые большие яйц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82160" y="5589720"/>
            <a:ext cx="224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тра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810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882720" y="404640"/>
            <a:ext cx="1087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4. Солнечный зайчик появля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ри попадании солнечного луч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на поверхность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9720" y="566100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зерка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8360" y="4076640"/>
            <a:ext cx="2449440" cy="244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737280" y="549360"/>
            <a:ext cx="10345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5. Какой ово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переводе с латинского я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бозначает "золотое яблоко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96440" y="5300640"/>
            <a:ext cx="307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мид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2814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1340280" y="1125000"/>
            <a:ext cx="115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6. Какой овощ состоит из двух но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7600" y="5084640"/>
            <a:ext cx="250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фасо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5640" y="3592440"/>
            <a:ext cx="302436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61560" y="836280"/>
            <a:ext cx="93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7. Верхний слой земл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на котором растут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31400" y="5516640"/>
            <a:ext cx="23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ч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3763800"/>
            <a:ext cx="338472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8960" y="1052280"/>
            <a:ext cx="859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8. На верхушке стебель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олнышко и обла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5800" y="5445000"/>
            <a:ext cx="316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омаш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442800" y="725400"/>
            <a:ext cx="1018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1.Во что фе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из сказки Ш. Перро "Золушка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ревратила тыкв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5472360" cy="1960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08280" y="551808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каре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360" y="404640"/>
            <a:ext cx="9047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9. Какое болотное расте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можно использов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место йода и ваты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53560" y="4868640"/>
            <a:ext cx="492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торфяной мох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(сфагнум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39592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-114840" y="620640"/>
            <a:ext cx="928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10. Листья, какого рас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можно приложить к ран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94400" y="4941360"/>
            <a:ext cx="44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подорожни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 rot="20526600">
            <a:off x="333000" y="1920600"/>
            <a:ext cx="8210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пасибо за участие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8920" y="946440"/>
            <a:ext cx="888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2.Какого лепестка не был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у волшебного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сказке В. Катае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"Цветик-семицветик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5157720"/>
            <a:ext cx="4103640" cy="8650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розовог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7280" y="559440"/>
            <a:ext cx="7680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3. Как звали хозя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аленького цветоч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одноименной сказ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. Аксак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 rot="10800000">
            <a:off x="5292720" y="4867920"/>
            <a:ext cx="347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Зверь лесной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чудо морск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3229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642600" y="684360"/>
            <a:ext cx="10473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4.Что называла Баг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"Красным Цветком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сказке Р. Киплинга "Маугли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0803000">
            <a:off x="4787640" y="5444280"/>
            <a:ext cx="370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огон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2538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-145080"/>
            <a:ext cx="801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5.Лепесток, какого цве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служил одеялом Дюймовочк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из одноименной сказк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Г. Х. Андерсен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64840" y="5157720"/>
            <a:ext cx="494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лепесток роз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997360"/>
            <a:ext cx="271764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9680" y="616320"/>
            <a:ext cx="8768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6. Как звали малышк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которая побывала на Лу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в сказке Н. Нос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" Незнайка на Луне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03480" y="5300640"/>
            <a:ext cx="270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Фукс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3889440"/>
            <a:ext cx="331164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-47052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7.За какими цветами отправила мачеха свою падчерицу п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Новый год в сказке С. Марша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"Двенадцать месяцев"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373720"/>
            <a:ext cx="441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за подснежника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40813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46:58Z</dcterms:created>
  <dc:creator>XTreme</dc:creator>
  <dc:description/>
  <dc:language>en-US</dc:language>
  <cp:lastModifiedBy>XTreme</cp:lastModifiedBy>
  <dcterms:modified xsi:type="dcterms:W3CDTF">2009-06-14T17:59:37Z</dcterms:modified>
  <cp:revision>11</cp:revision>
  <dc:subject/>
  <dc:title>Слайд 1</dc:title>
</cp:coreProperties>
</file>