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17.png" ContentType="image/png"/>
  <Override PartName="/ppt/media/image32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36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png" ContentType="image/png"/>
  <Override PartName="/ppt/media/image33.gif" ContentType="image/gif"/>
  <Override PartName="/ppt/media/image35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9.jpeg" ContentType="image/jpeg"/>
  <Override PartName="/ppt/media/image3.wmf" ContentType="image/x-wmf"/>
  <Override PartName="/ppt/media/image23.jpeg" ContentType="image/jpeg"/>
  <Override PartName="/ppt/media/image7.jpeg" ContentType="image/jpeg"/>
  <Override PartName="/ppt/media/image1.wmf" ContentType="image/x-wmf"/>
  <Override PartName="/ppt/media/image18.gif" ContentType="image/gif"/>
  <Override PartName="/ppt/media/image14.wmf" ContentType="image/x-wmf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AB1B-B1E2-408A-BABC-71525EA66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DDCA-09F4-46CC-A03C-59827BC8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C696-A3B8-459D-B290-64CF6AB4E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C0A5-BF3B-4B01-9CAA-3D52E67A6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B7AD-A16B-42CB-8320-95268FCD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3EB7-2494-4759-AA76-5B1A5B8F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B01D-5F49-4777-B2FB-15F549D0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E5CB-D38E-483B-B9FE-2BEFA111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9D5C-4B6C-4F8E-A464-84C4EF0C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C050-3D39-4609-845A-C6CABA4E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CE92-65BA-45DE-ABB0-A656FBEC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47CD-6FF2-48B6-AB78-10358E4C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387A-A625-4E9F-BDF3-BA140F50F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0664600">
            <a:off x="1042920" y="2060640"/>
            <a:ext cx="727416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Самый умный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2131920" cy="2590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315120" y="3789360"/>
            <a:ext cx="2160720" cy="2852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52680" y="5734080"/>
            <a:ext cx="551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Ергина Наталья Никола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МОУ «СОШ №5 г.Коряжм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403280" y="-338760"/>
            <a:ext cx="7561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8. Как зовут красавиц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Днём свет божий затмевае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Ночью землю освещае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Месяц под косой блести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А во лбу звезда горит”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47280" y="5661000"/>
            <a:ext cx="541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Царевна Лебед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24000" y="3357720"/>
            <a:ext cx="218268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-131040" y="403560"/>
            <a:ext cx="964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9. Кто является главным геро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мультфильма "Мешок яблок"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24360" y="544500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80000" y="4724280"/>
            <a:ext cx="2549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08160" y="5589720"/>
            <a:ext cx="174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Зая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68360" y="2689200"/>
            <a:ext cx="475128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68360" y="-147960"/>
            <a:ext cx="8207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10. В сказке Л. Кэрролл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"Алиса в стране чудес"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садовники красили розы на большом кусте у входа в сад Королевы..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71000" y="5661000"/>
            <a:ext cx="491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в красный цвет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68360" y="3068640"/>
            <a:ext cx="4176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 rot="20178000">
            <a:off x="1258920" y="2708280"/>
            <a:ext cx="76341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Русский язык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380664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55640" y="333360"/>
            <a:ext cx="7993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1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Определите, сколько раз встречается звук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[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ш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]</a:t>
            </a: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 в предложен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Не тот хорош, кто лицом пригож, а тот хорош, что для дела гож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18040" y="5589720"/>
            <a:ext cx="164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5 р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95280" y="449280"/>
            <a:ext cx="84247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2. Из букв каждой пары или тройки слов составьте название блюда или название фрукт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Риф + ель + кадки = фрикадель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Ель + сад + рак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Рис + кепи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Рыба + соки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Нива + реки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12000" y="551664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35640" y="3716280"/>
            <a:ext cx="24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сардель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8440" y="4221000"/>
            <a:ext cx="22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перс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12880" y="4724280"/>
            <a:ext cx="255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абрико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76520" y="5300640"/>
            <a:ext cx="254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варе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457880" y="246204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-2318040" y="404640"/>
            <a:ext cx="135086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Подберите русские пословицы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подходящие по смыслу к данным пословица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Неторопливый слон быстре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достигает цели, чем резвый жереб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Вьетнамская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Тот не заблудится, кто спрашивает.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                      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Финская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03600" y="5373720"/>
            <a:ext cx="817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Тише едешь, дальше будеш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Язык до Киева доведё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476360" y="3500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4360" y="549360"/>
            <a:ext cx="792000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4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Составь слово, если в нем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Корень – из слова «моряк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Окончание – из слова «зимний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Приставка – из слова «прилететь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Суффикс – из слова «русский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88960" y="5605560"/>
            <a:ext cx="356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примор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74600" y="404640"/>
            <a:ext cx="81424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Monotype Corsiv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Объясните значение выражен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рукой под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работать, засучив рука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работать, спустя рука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бить баклуш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13040" y="1413000"/>
            <a:ext cx="229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близк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853240" y="2852640"/>
            <a:ext cx="243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хорош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98320" y="4149720"/>
            <a:ext cx="475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плохо работ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24200" y="5373720"/>
            <a:ext cx="924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лентяйничать, бездельнич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218600" y="404640"/>
            <a:ext cx="714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6. Разгадайте ребус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59640" y="515772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1851120" cy="2060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996520" y="1628640"/>
            <a:ext cx="267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подв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11280" y="2590920"/>
            <a:ext cx="4968720" cy="1504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953320" y="2997360"/>
            <a:ext cx="258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сквор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39640" y="4653000"/>
            <a:ext cx="4969080" cy="1504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544720" y="5084640"/>
            <a:ext cx="346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смород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 rot="20410800">
            <a:off x="1042920" y="2923920"/>
            <a:ext cx="73454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Литература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01976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1017720" y="574920"/>
            <a:ext cx="1106064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7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Выпиши слова, в котором есть  [й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И вскользь мне бросила зме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« У каждого судьба своя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Но я то знал, что так нельзя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Жить,  извиваясь и скольз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87280" y="530064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585280" y="660240"/>
            <a:ext cx="27000" cy="76320"/>
          </a:xfrm>
          <a:custGeom>
            <a:avLst/>
            <a:gdLst/>
            <a:ahLst/>
            <a:rect l="l" t="t" r="r" b="b"/>
            <a:pathLst>
              <a:path w="17" h="48">
                <a:moveTo>
                  <a:pt x="0" y="0"/>
                </a:moveTo>
                <a:cubicBezTo>
                  <a:pt x="5" y="8"/>
                  <a:pt x="14" y="15"/>
                  <a:pt x="16" y="24"/>
                </a:cubicBezTo>
                <a:cubicBezTo>
                  <a:pt x="17" y="32"/>
                  <a:pt x="8" y="48"/>
                  <a:pt x="8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85800" y="5589720"/>
            <a:ext cx="736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Змея, своя, я, извивая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 rot="20425800">
            <a:off x="900000" y="2852280"/>
            <a:ext cx="799308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Окружающий мир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55640" y="579600"/>
            <a:ext cx="309564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9640" y="-1440"/>
            <a:ext cx="8015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Кто охраняет лесную полянк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от вредных мух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93720" y="5588640"/>
            <a:ext cx="287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Стреко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62120" y="2617920"/>
            <a:ext cx="488952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92400" y="153360"/>
            <a:ext cx="86450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2.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Какая часть свет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состоит из двух материков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22640" y="5445000"/>
            <a:ext cx="33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5661000"/>
            <a:ext cx="243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Амери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712800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47160" y="533880"/>
            <a:ext cx="7421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Monotype Corsiv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Какое общее свойств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у мела и торфа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32720" y="563400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35720" y="5661000"/>
            <a:ext cx="904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состоят из остатков растен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58920" y="2205000"/>
            <a:ext cx="2419200" cy="3168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284720" y="2276640"/>
            <a:ext cx="4025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-970560" y="133560"/>
            <a:ext cx="108075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Monotype Corsiv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Определите комнатное растение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а) тимофеев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б) ежа сборна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в) полын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г) камнеломка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5877000"/>
            <a:ext cx="32036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камнелом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4365720"/>
            <a:ext cx="2303640" cy="22795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643280" y="1627200"/>
            <a:ext cx="352908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95280" y="213120"/>
            <a:ext cx="8286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5. Зимуют ли птицы в скворечниках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015800" y="5589720"/>
            <a:ext cx="528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Нет, там холод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423396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-1137960" y="403560"/>
            <a:ext cx="1149804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6.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Из каких растений можно сварить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а)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ячневую кашу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б)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пшенную кашу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в)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манную кашу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г)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гречневую каш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533640" y="1125360"/>
            <a:ext cx="246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ячм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948360" y="1773360"/>
            <a:ext cx="132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прос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271560" y="2421000"/>
            <a:ext cx="291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пше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74960" y="3141720"/>
            <a:ext cx="270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гречиха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79280" y="4292640"/>
            <a:ext cx="2233800" cy="1674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700360" y="4292640"/>
            <a:ext cx="1905120" cy="2286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4788000" y="4292640"/>
            <a:ext cx="2232000" cy="1673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7308720" y="4292640"/>
            <a:ext cx="16718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986040" y="333000"/>
            <a:ext cx="707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7.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Разноцветные гри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33800" y="5516640"/>
            <a:ext cx="327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Сыроеж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3095640" cy="2323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076720" y="1413000"/>
            <a:ext cx="3525840" cy="23540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2843280" y="3933720"/>
            <a:ext cx="309564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11280" y="474840"/>
            <a:ext cx="763272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8.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Как заканчиваетс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народная приме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«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Кошка лижет хвос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и прячет морду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– к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...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5661000"/>
            <a:ext cx="28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к мороз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1684080" cy="36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379760" y="1459080"/>
            <a:ext cx="5875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443160" y="142920"/>
            <a:ext cx="10139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Эта героиня немного болтлива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что чуть не привело к гибел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героини и ее бабуш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95560" y="5516640"/>
            <a:ext cx="542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Красная Шапо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31147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-844560" y="404280"/>
            <a:ext cx="1087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9.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У кого каждый день растут зубы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651640" y="515772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8896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48320" y="5877000"/>
            <a:ext cx="4495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У бобра, у зай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68360" y="2924280"/>
            <a:ext cx="3809880" cy="34160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572000" y="1484280"/>
            <a:ext cx="424800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971640" y="68760"/>
            <a:ext cx="755964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10.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Когда температура тела воробья ниже – летом или зимой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05120" y="5661000"/>
            <a:ext cx="382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Одинак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4205160" cy="38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 rot="20526600">
            <a:off x="333000" y="1920600"/>
            <a:ext cx="8210520" cy="25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Спасибо за участие</a:t>
            </a:r>
            <a:endParaRPr b="1" lang="en-US" sz="4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1062360" y="-360"/>
            <a:ext cx="118195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2. Как зовут героя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ростом только в три вершк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да на спине с двумя горбам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Несмотря на свою неказистую внешность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он мог встряхнуться, встрепенутьс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хлопнуть гривой, захрап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  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и стрелою полете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95960" y="53006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51800" y="5589720"/>
            <a:ext cx="516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Конёк - Горбун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3722760"/>
            <a:ext cx="367344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896480" y="238320"/>
            <a:ext cx="12814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Monotype Corsiv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Сказочное дерево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у которого "и днём, и ночью кот учё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все ходит по цепи кругом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59280" y="5346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13080" y="5516640"/>
            <a:ext cx="121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ду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55640" y="2492280"/>
            <a:ext cx="291132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-253080" y="619560"/>
            <a:ext cx="989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4. Какой город построил Гудвин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63040" y="5203800"/>
            <a:ext cx="4034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Изумруд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3232080" cy="47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9640" y="187560"/>
            <a:ext cx="8015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Monotype Corsiv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Как звали домовёнка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который поселился у девочки Наташ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77080" y="544500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97160" y="4869000"/>
            <a:ext cx="221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Кузь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42920" y="2852640"/>
            <a:ext cx="250056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1683360" y="259200"/>
            <a:ext cx="124426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6.</a:t>
            </a: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Что решили продать братья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из сказки П.П.Ершова «Конёк-Горбунок»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чтобы заработа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«хоть тысячу рублей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09520" y="5661000"/>
            <a:ext cx="788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двух коней золотогрив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95280" y="2997360"/>
            <a:ext cx="273060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22320"/>
            <a:ext cx="820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7. В чем Ёжик, из мультфильма «Ёжик в тумане», нёс варень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12000" y="5734080"/>
            <a:ext cx="27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в узелк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3419640" cy="46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5:46:58Z</dcterms:created>
  <dc:creator>XTreme</dc:creator>
  <dc:description/>
  <dc:language>en-US</dc:language>
  <cp:lastModifiedBy>XTreme</cp:lastModifiedBy>
  <dcterms:modified xsi:type="dcterms:W3CDTF">2009-06-08T15:19:28Z</dcterms:modified>
  <cp:revision>17</cp:revision>
  <dc:subject/>
  <dc:title>Слайд 1</dc:title>
</cp:coreProperties>
</file>