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jpeg" ContentType="image/jpeg"/>
  <Override PartName="/ppt/media/image21.gif" ContentType="image/gif"/>
  <Override PartName="/ppt/media/image10.jpeg" ContentType="image/jpeg"/>
  <Override PartName="/ppt/media/image27.jpeg" ContentType="image/jpeg"/>
  <Override PartName="/ppt/media/image8.png" ContentType="image/png"/>
  <Override PartName="/ppt/media/image11.jpeg" ContentType="image/jpeg"/>
  <Override PartName="/ppt/media/image9.jpeg" ContentType="image/jpeg"/>
  <Override PartName="/ppt/media/image5.jpeg" ContentType="image/jpeg"/>
  <Override PartName="/ppt/media/image32.gif" ContentType="image/gif"/>
  <Override PartName="/ppt/media/image26.jpeg" ContentType="image/jpeg"/>
  <Override PartName="/ppt/media/image28.jpeg" ContentType="image/jpeg"/>
  <Override PartName="/ppt/media/image20.png" ContentType="image/png"/>
  <Override PartName="/ppt/media/image6.jpeg" ContentType="image/jpeg"/>
  <Override PartName="/ppt/media/image18.png" ContentType="image/png"/>
  <Override PartName="/ppt/media/image12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13.jpeg" ContentType="image/jpeg"/>
  <Override PartName="/ppt/media/image29.jpeg" ContentType="image/jpeg"/>
  <Override PartName="/ppt/media/image3.wmf" ContentType="image/x-wmf"/>
  <Override PartName="/ppt/media/image2.wmf" ContentType="image/x-wmf"/>
  <Override PartName="/ppt/media/image23.jpeg" ContentType="image/jpeg"/>
  <Override PartName="/ppt/media/image7.jpeg" ContentType="image/jpeg"/>
  <Override PartName="/ppt/media/image1.wmf" ContentType="image/x-wmf"/>
  <Override PartName="/ppt/media/image14.jpeg" ContentType="image/jpeg"/>
  <Override PartName="/ppt/media/image15.wmf" ContentType="image/x-wmf"/>
  <Override PartName="/ppt/media/image22.jpeg" ContentType="image/jpeg"/>
  <Override PartName="/ppt/media/image16.jpeg" ContentType="image/jpeg"/>
  <Override PartName="/ppt/media/image17.jpeg" ContentType="image/jpeg"/>
  <Override PartName="/ppt/media/image1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7FCB9-A43F-4142-A87D-EDD6447F0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95C48-3F41-4FB1-B449-179852B76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4B0ED-48D2-4F74-8416-C6EBF9F62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9D169-3FF5-4A08-878B-EC06B1E1D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87A0F-0C87-4AC0-99EF-4576404C0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C119F-E7D6-4369-B30C-DD18AFEFD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62D55-80D7-40B3-902E-DBDD9B5C4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62685-E2C7-44D7-8DA0-C868D37C4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9B687-7581-4D32-B296-6CF496E3D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E4BFC-D6C2-496F-B6F2-A2DCEE448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8DA91-3B8C-4DBB-9595-7E2ED1372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7B8EC-593F-4258-A364-8DCAB8ADD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ff"/>
            </a:gs>
            <a:gs pos="100000">
              <a:srgbClr val="00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A6538-FA30-48B5-978E-255D0D9D1A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2.gi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ff"/>
            </a:gs>
            <a:gs pos="100000">
              <a:srgbClr val="00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 rot="20664600">
            <a:off x="1042920" y="2060640"/>
            <a:ext cx="7274160" cy="28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Monotype Corsiva"/>
              </a:rPr>
              <a:t>Самый умный</a:t>
            </a:r>
            <a:endParaRPr b="1" lang="en-US" sz="1800" spc="1" strike="noStrike">
              <a:ln w="255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Monotype Corsiva"/>
              <a:ea typeface="Monotype Corsiva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2131920" cy="25909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315120" y="3789360"/>
            <a:ext cx="2160720" cy="28526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620280" y="5367960"/>
            <a:ext cx="6285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Ергина Наталья Николаев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МОУ «СОШ №5 г.Коряжм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ff"/>
            </a:gs>
            <a:gs pos="100000">
              <a:srgbClr val="00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-1775520" y="259200"/>
            <a:ext cx="12663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Monotype Corsiva"/>
              </a:rPr>
              <a:t>8. Как звали девочку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Monotype Corsiva"/>
              </a:rPr>
              <a:t>попавшую в королевство кривых зеркал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218360" y="5516640"/>
            <a:ext cx="1419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Monotype Corsiva"/>
              </a:rPr>
              <a:t>Ол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476360" y="1844640"/>
            <a:ext cx="2660760" cy="43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ff"/>
            </a:gs>
            <a:gs pos="100000">
              <a:srgbClr val="00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013400" y="906840"/>
            <a:ext cx="6833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Monotype Corsiva"/>
              </a:rPr>
              <a:t>9. На какой улице жи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Monotype Corsiva"/>
              </a:rPr>
              <a:t>человек рассеянный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724360" y="5445000"/>
            <a:ext cx="184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80000" y="4724280"/>
            <a:ext cx="25495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Monotype Corsiva"/>
              </a:rPr>
              <a:t>Бассейно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547640" y="2565360"/>
            <a:ext cx="2451240" cy="36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ff"/>
            </a:gs>
            <a:gs pos="100000">
              <a:srgbClr val="00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12240" y="332280"/>
            <a:ext cx="8797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Monotype Corsiva"/>
              </a:rPr>
              <a:t>10. Кто написал сказку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Monotype Corsiva"/>
              </a:rPr>
              <a:t>"Приключения Чиполлино"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356000" y="5373720"/>
            <a:ext cx="4249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Monotype Corsiva"/>
              </a:rPr>
              <a:t>Джанни Родар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900000" y="2349360"/>
            <a:ext cx="2271960" cy="316404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5292720" y="2492280"/>
            <a:ext cx="2519280" cy="24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ff"/>
            </a:gs>
            <a:gs pos="100000">
              <a:srgbClr val="00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 rot="20178000">
            <a:off x="1258920" y="2708280"/>
            <a:ext cx="7634160" cy="24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Monotype Corsiva"/>
              </a:rPr>
              <a:t>Русский язык</a:t>
            </a:r>
            <a:endParaRPr b="1" lang="en-US" sz="1800" spc="1" strike="noStrike">
              <a:ln w="255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Monotype Corsiva"/>
              <a:ea typeface="Monotype Corsiva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3806640" cy="34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ff"/>
            </a:gs>
            <a:gs pos="100000">
              <a:srgbClr val="00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55640" y="333360"/>
            <a:ext cx="777708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Monotype Corsiva"/>
              </a:rPr>
              <a:t>1. </a:t>
            </a:r>
            <a:r>
              <a:rPr b="1" lang="en-US" sz="4400" spc="-1" strike="noStrike">
                <a:solidFill>
                  <a:srgbClr val="000000"/>
                </a:solidFill>
                <a:latin typeface="Monotype Corsiva"/>
              </a:rPr>
              <a:t>Из писка птиц мой первый слог возьмите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Monotype Corsiva"/>
              </a:rPr>
              <a:t>Второй – с бараньей головы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Monotype Corsiva"/>
              </a:rPr>
              <a:t>Откройте печь и там найдет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Monotype Corsiva"/>
              </a:rPr>
              <a:t>То, что не раз едали вы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095880" y="5300640"/>
            <a:ext cx="1913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Monotype Corsiva"/>
              </a:rPr>
              <a:t>пиро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755640" y="3870360"/>
            <a:ext cx="316872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ff"/>
            </a:gs>
            <a:gs pos="100000">
              <a:srgbClr val="00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971640" y="449280"/>
            <a:ext cx="727236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Monotype Corsiva"/>
              </a:rPr>
              <a:t>2. Корнем – с дорогой роднится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Monotype Corsiva"/>
              </a:rPr>
              <a:t>В сборе приставка таится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Monotype Corsiva"/>
              </a:rPr>
              <a:t>Суффикс как в слове «дневник»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Monotype Corsiva"/>
              </a:rPr>
              <a:t>Целым же – в космос проник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703480" y="5516640"/>
            <a:ext cx="2579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Monotype Corsiva"/>
              </a:rPr>
              <a:t>спутн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042920" y="3710160"/>
            <a:ext cx="3168720" cy="259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ff"/>
            </a:gs>
            <a:gs pos="100000">
              <a:srgbClr val="00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4457880" y="2462040"/>
            <a:ext cx="1839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-1116000" y="404640"/>
            <a:ext cx="114368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Monotype Corsiv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Monotype Corsiva"/>
              </a:rPr>
              <a:t>Прочитайте зашифрованную фраз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Monotype Corsiva"/>
              </a:rPr>
              <a:t>и запишите её правильн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464480" y="5373720"/>
            <a:ext cx="8363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Monotype Corsiva"/>
              </a:rPr>
              <a:t>Любите наш могучий язык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50920" y="1989000"/>
            <a:ext cx="61930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К   Й   Г   А   И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Ы  И   О   Н   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З   Ч   М   Е   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Я   У   Ш   Т   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ff"/>
            </a:gs>
            <a:gs pos="100000">
              <a:srgbClr val="00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476360" y="35002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4360" y="549360"/>
            <a:ext cx="79200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Monotype Corsiva"/>
              </a:rPr>
              <a:t>4. Среди букв спрятались имена собственные и названия. Не переставляя букв, отыщите эти сло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84360" y="4797360"/>
            <a:ext cx="7848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Monotype Corsiva"/>
              </a:rPr>
              <a:t>Иван, Иванов, Иваново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Monotype Corsiva"/>
              </a:rPr>
              <a:t>Вано, Волга, Галя, Ал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-560880" y="3429000"/>
            <a:ext cx="1027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Monotype Corsiva"/>
              </a:rPr>
              <a:t>И – В –А –Н – О – В – О – Л – Г – А – Л – Я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ff"/>
            </a:gs>
            <a:gs pos="100000">
              <a:srgbClr val="00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-111600" y="2203200"/>
            <a:ext cx="618948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Monotype Corsiva"/>
              </a:rPr>
              <a:t>Клевать носом 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Monotype Corsiva"/>
              </a:rPr>
              <a:t>Зарубить на носу 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Monotype Corsiva"/>
              </a:rPr>
              <a:t>Чесать языком -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Monotype Corsiva"/>
              </a:rPr>
              <a:t>Ломать голову –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Monotype Corsiva"/>
              </a:rPr>
              <a:t>Дать стрекача 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-1278720" y="765000"/>
            <a:ext cx="11680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Monotype Corsiva"/>
              </a:rPr>
              <a:t>5. Замени выражения одним глаголо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978800" y="2205000"/>
            <a:ext cx="358236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Monotype Corsiva"/>
              </a:rPr>
              <a:t>дрема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Monotype Corsiva"/>
              </a:rPr>
              <a:t>запомнить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Monotype Corsiva"/>
              </a:rPr>
              <a:t>болта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Monotype Corsiva"/>
              </a:rPr>
              <a:t>дума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Monotype Corsiva"/>
              </a:rPr>
              <a:t>убегать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ff"/>
            </a:gs>
            <a:gs pos="100000">
              <a:srgbClr val="00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218600" y="404640"/>
            <a:ext cx="7142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Monotype Corsiva"/>
              </a:rPr>
              <a:t>6. Разгадайте ребусы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042920" y="5013360"/>
            <a:ext cx="3529080" cy="10764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1258920" y="1341360"/>
            <a:ext cx="3744720" cy="165276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1116000" y="3213000"/>
            <a:ext cx="1873440" cy="143676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5952240" y="1989000"/>
            <a:ext cx="2562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Monotype Corsiva"/>
              </a:rPr>
              <a:t>догово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280560" y="3500280"/>
            <a:ext cx="1902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Monotype Corsiva"/>
              </a:rPr>
              <a:t>верб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496560" y="5157720"/>
            <a:ext cx="1614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Monotype Corsiva"/>
              </a:rPr>
              <a:t>сто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ff"/>
            </a:gs>
            <a:gs pos="100000">
              <a:srgbClr val="00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 rot="20410800">
            <a:off x="1042920" y="2923920"/>
            <a:ext cx="7345440" cy="24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Monotype Corsiva"/>
              </a:rPr>
              <a:t>Литература</a:t>
            </a:r>
            <a:endParaRPr b="1" lang="en-US" sz="1800" spc="1" strike="noStrike">
              <a:ln w="255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Monotype Corsiva"/>
              <a:ea typeface="Monotype Corsiva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4019760" cy="34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ff"/>
            </a:gs>
            <a:gs pos="100000">
              <a:srgbClr val="00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-308880" y="635760"/>
            <a:ext cx="10181160" cy="35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Monotype Corsiva"/>
              </a:rPr>
              <a:t>7. Какие слова так произносятся?</a:t>
            </a:r>
            <a:r>
              <a:rPr b="1" lang="en-US" sz="48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[ Г РУ С’ Т’ 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[ Л’ Э С’ Т’ ]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187280" y="5300640"/>
            <a:ext cx="6840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Monotype Corsiva"/>
              </a:rPr>
              <a:t>   </a:t>
            </a:r>
            <a:r>
              <a:rPr b="1" lang="en-US" sz="4400" spc="-1" strike="noStrike">
                <a:solidFill>
                  <a:srgbClr val="000000"/>
                </a:solidFill>
                <a:latin typeface="Monotype Corsiva"/>
              </a:rPr>
              <a:t>Груздь, грусть, лезть, ле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ff"/>
            </a:gs>
            <a:gs pos="100000">
              <a:srgbClr val="00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 rot="20425800">
            <a:off x="900000" y="2852280"/>
            <a:ext cx="7993080" cy="266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Monotype Corsiva"/>
              </a:rPr>
              <a:t>Окружающий мир</a:t>
            </a:r>
            <a:endParaRPr b="1" lang="en-US" sz="1800" spc="1" strike="noStrike">
              <a:ln w="255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Monotype Corsiva"/>
              <a:ea typeface="Monotype Corsiv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971640" y="907920"/>
            <a:ext cx="2232000" cy="20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ff"/>
            </a:gs>
            <a:gs pos="100000">
              <a:srgbClr val="00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539640" y="-338040"/>
            <a:ext cx="80154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Monotype Corsiva"/>
              </a:rPr>
              <a:t>Соберите из букв названия деревьев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Monotype Corsiva"/>
              </a:rPr>
              <a:t>(буквы в слове не повторять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84360" y="2276640"/>
            <a:ext cx="770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О  Т  Л  К  Е  Р  С  Я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И  П  Б  Ё  Н  А  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500120" y="4869000"/>
            <a:ext cx="8018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Monotype Corsiva"/>
              </a:rPr>
              <a:t>осина, рябина, клён, липа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Monotype Corsiva"/>
              </a:rPr>
              <a:t>ясень, ель (ёлка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ff"/>
            </a:gs>
            <a:gs pos="100000">
              <a:srgbClr val="00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697320" y="260280"/>
            <a:ext cx="8030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Monotype Corsiva"/>
              </a:rPr>
              <a:t>2. Какая птица выводит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Monotype Corsiva"/>
              </a:rPr>
              <a:t>птенцов зимой?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492240" y="5445000"/>
            <a:ext cx="2120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Monotype Corsiva"/>
              </a:rPr>
              <a:t>клес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684360" y="2276640"/>
            <a:ext cx="5040000" cy="33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ff"/>
            </a:gs>
            <a:gs pos="100000">
              <a:srgbClr val="00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89720" y="535320"/>
            <a:ext cx="89330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Monotype Corsiva"/>
              </a:rPr>
              <a:t>3. След какого хищного звер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Monotype Corsiva"/>
              </a:rPr>
              <a:t>похож на человеческий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275160" y="5634000"/>
            <a:ext cx="2742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Monotype Corsiva"/>
              </a:rPr>
              <a:t>медвед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4932360" y="2349360"/>
            <a:ext cx="3960720" cy="29718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179280" y="3645000"/>
            <a:ext cx="4319640" cy="28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ff"/>
            </a:gs>
            <a:gs pos="100000">
              <a:srgbClr val="00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-76680" y="259560"/>
            <a:ext cx="933228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Monotype Corsiva"/>
              </a:rPr>
              <a:t>4.</a:t>
            </a:r>
            <a:r>
              <a:rPr b="1" lang="en-US" sz="48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Monotype Corsiva"/>
              </a:rPr>
              <a:t>Из букв каждой тройки сл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Monotype Corsiva"/>
              </a:rPr>
              <a:t>составьте название гриб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4360" y="2492280"/>
            <a:ext cx="457200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Диво + пони + сок 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Хор + ум + ом =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Лён + ас + ком =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01800" y="2421000"/>
            <a:ext cx="4115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Monotype Corsiva"/>
              </a:rPr>
              <a:t>подосинов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053400" y="3716280"/>
            <a:ext cx="2812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Monotype Corsiva"/>
              </a:rPr>
              <a:t>мухомо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891400" y="5059440"/>
            <a:ext cx="3033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Monotype Corsiva"/>
              </a:rPr>
              <a:t>маслёно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ff"/>
            </a:gs>
            <a:gs pos="100000">
              <a:srgbClr val="00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611280" y="428760"/>
            <a:ext cx="8286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Monotype Corsiva"/>
              </a:rPr>
              <a:t>5. Какую траву узнает даже слепой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719320" y="5084640"/>
            <a:ext cx="288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Monotype Corsiva"/>
              </a:rPr>
              <a:t>крапив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5148360" y="1700280"/>
            <a:ext cx="2878200" cy="29527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755640" y="2781360"/>
            <a:ext cx="3681360" cy="34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ff"/>
            </a:gs>
            <a:gs pos="100000">
              <a:srgbClr val="00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221040" y="548640"/>
            <a:ext cx="9262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Monotype Corsiva"/>
              </a:rPr>
              <a:t>6.</a:t>
            </a:r>
            <a:r>
              <a:rPr b="1" lang="en-US" sz="48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Monotype Corsiva"/>
              </a:rPr>
              <a:t>Что растет вниз верхушкой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547240" y="5084640"/>
            <a:ext cx="3048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Monotype Corsiva"/>
              </a:rPr>
              <a:t>сосульк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4360" y="2276640"/>
            <a:ext cx="4752720" cy="336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ff"/>
            </a:gs>
            <a:gs pos="100000">
              <a:srgbClr val="00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-1138680" y="548640"/>
            <a:ext cx="11728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Monotype Corsiva"/>
              </a:rPr>
              <a:t>7.</a:t>
            </a:r>
            <a:r>
              <a:rPr b="1" lang="en-US" sz="48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Monotype Corsiva"/>
              </a:rPr>
              <a:t>Перистые, слоистые, кучевые... Что это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387840" y="5560920"/>
            <a:ext cx="2402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Monotype Corsiva"/>
              </a:rPr>
              <a:t>облак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4859280" y="1844640"/>
            <a:ext cx="3708360" cy="296532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971640" y="1484280"/>
            <a:ext cx="3671640" cy="240984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971640" y="4005360"/>
            <a:ext cx="3598920" cy="26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ff"/>
            </a:gs>
            <a:gs pos="100000">
              <a:srgbClr val="00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-552600" y="108360"/>
            <a:ext cx="10341000" cy="28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Monotype Corsiva"/>
              </a:rPr>
              <a:t>8.</a:t>
            </a:r>
            <a:r>
              <a:rPr b="1" lang="en-US" sz="48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Monotype Corsiva"/>
              </a:rPr>
              <a:t>Как заканчивается народная примет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Monotype Corsiva"/>
              </a:rPr>
              <a:t>«Собака свертывается и лежи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Monotype Corsiva"/>
              </a:rPr>
              <a:t>калачиком – к...»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601320" y="5661000"/>
            <a:ext cx="2247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Monotype Corsiva"/>
              </a:rPr>
              <a:t>холод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556000" y="2781360"/>
            <a:ext cx="45720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Monotype Corsiva"/>
              </a:rPr>
              <a:t>а) теплу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Monotype Corsiva"/>
              </a:rPr>
              <a:t>б) холоду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Monotype Corsiva"/>
              </a:rPr>
              <a:t>в) голоду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Monotype Corsiva"/>
              </a:rPr>
              <a:t>г) землетрясению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ff"/>
            </a:gs>
            <a:gs pos="100000">
              <a:srgbClr val="00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379760" y="1459080"/>
            <a:ext cx="58752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71840" y="5516640"/>
            <a:ext cx="5760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Monotype Corsiva"/>
              </a:rPr>
              <a:t>Старик Хоттабыч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-1330920" y="185760"/>
            <a:ext cx="1191420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Monotype Corsiva"/>
              </a:rPr>
              <a:t>Как зовут тощего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Monotype Corsiva"/>
              </a:rPr>
              <a:t>смуглого старичка с бородой по пояс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Monotype Corsiva"/>
              </a:rPr>
              <a:t>в роскошной чалме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Monotype Corsiva"/>
              </a:rPr>
              <a:t>тонком белом шерстяном кафтане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Monotype Corsiva"/>
              </a:rPr>
              <a:t>обильно расшитом золотом и серебром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Monotype Corsiva"/>
              </a:rPr>
              <a:t>в белоснежных шелковых шаровара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Monotype Corsiva"/>
              </a:rPr>
              <a:t>и нежно-розовых сафьяновых туфлях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Monotype Corsiva"/>
              </a:rPr>
              <a:t>с высоко загнутыми носами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ff"/>
            </a:gs>
            <a:gs pos="100000">
              <a:srgbClr val="00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996120" y="771480"/>
            <a:ext cx="7096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Monotype Corsiva"/>
              </a:rPr>
              <a:t>9. </a:t>
            </a:r>
            <a:r>
              <a:rPr b="1" lang="en-US" sz="4400" spc="-1" strike="noStrike">
                <a:solidFill>
                  <a:srgbClr val="000000"/>
                </a:solidFill>
                <a:latin typeface="Monotype Corsiva"/>
              </a:rPr>
              <a:t>Трава от 99 болезне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139720" y="5156640"/>
            <a:ext cx="311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Monotype Corsiva"/>
              </a:rPr>
              <a:t>зверобой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288960" y="32464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539640" y="1773360"/>
            <a:ext cx="3559320" cy="47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ff"/>
            </a:gs>
            <a:gs pos="100000">
              <a:srgbClr val="00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971640" y="-266400"/>
            <a:ext cx="7559640" cy="28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Monotype Corsiva"/>
              </a:rPr>
              <a:t>10.</a:t>
            </a:r>
            <a:r>
              <a:rPr b="1" lang="en-US" sz="48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Monotype Corsiva"/>
              </a:rPr>
              <a:t>Какое из перечисленных животных впадает в спячку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439240" y="5373360"/>
            <a:ext cx="1072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Monotype Corsiva"/>
              </a:rPr>
              <a:t>ёж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260000" y="2419920"/>
            <a:ext cx="687708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Monotype Corsiva"/>
              </a:rPr>
              <a:t>белка, ёж ,кабан, кро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2124000" y="4365720"/>
            <a:ext cx="208908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2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ff"/>
            </a:gs>
            <a:gs pos="100000">
              <a:srgbClr val="00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 rot="20526600">
            <a:off x="333000" y="1920600"/>
            <a:ext cx="8210520" cy="2552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Monotype Corsiva"/>
              </a:rPr>
              <a:t>Спасибо за участие</a:t>
            </a:r>
            <a:endParaRPr b="1" lang="en-US" sz="4800" spc="1" strike="noStrike">
              <a:ln w="255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Monotype Corsiva"/>
              <a:ea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ff"/>
            </a:gs>
            <a:gs pos="100000">
              <a:srgbClr val="00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740520" y="403560"/>
            <a:ext cx="10691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Monotype Corsiva"/>
              </a:rPr>
              <a:t>2. Назовите име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Monotype Corsiva"/>
              </a:rPr>
              <a:t>трех русских былинных богатыре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27480" y="5300640"/>
            <a:ext cx="9521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Monotype Corsiva"/>
              </a:rPr>
              <a:t>Илья Муромец, Добрыня Никитич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Monotype Corsiva"/>
              </a:rPr>
              <a:t>Алёша Попови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124000" y="2060640"/>
            <a:ext cx="4969080" cy="32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ff"/>
            </a:gs>
            <a:gs pos="100000">
              <a:srgbClr val="00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-572040" y="404280"/>
            <a:ext cx="1016280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Monotype Corsiva"/>
              </a:rPr>
              <a:t>3.</a:t>
            </a:r>
            <a:r>
              <a:rPr b="1" lang="en-US" sz="48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Monotype Corsiva"/>
              </a:rPr>
              <a:t>В каких горах выро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Monotype Corsiva"/>
              </a:rPr>
              <a:t> “</a:t>
            </a:r>
            <a:r>
              <a:rPr b="1" lang="en-US" sz="4400" spc="-1" strike="noStrike">
                <a:solidFill>
                  <a:srgbClr val="000000"/>
                </a:solidFill>
                <a:latin typeface="Monotype Corsiva"/>
              </a:rPr>
              <a:t>Каменный цветок” П.П. Бажова?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174920" y="5084640"/>
            <a:ext cx="4964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Monotype Corsiva"/>
              </a:rPr>
              <a:t>Уральские гор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042920" y="2133720"/>
            <a:ext cx="2652840" cy="43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ff"/>
            </a:gs>
            <a:gs pos="100000">
              <a:srgbClr val="00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-945360" y="403200"/>
            <a:ext cx="106459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Monotype Corsiva"/>
              </a:rPr>
              <a:t>4. Кто носит яркую голубую шляпу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Monotype Corsiva"/>
              </a:rPr>
              <a:t>оранжевую рубашку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Monotype Corsiva"/>
              </a:rPr>
              <a:t>с зелёным галстуко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Monotype Corsiva"/>
              </a:rPr>
              <a:t>и жёлтые, канареечные брюки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26920" y="3500280"/>
            <a:ext cx="3097440" cy="2934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5207400" y="5203800"/>
            <a:ext cx="3045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Monotype Corsiva"/>
              </a:rPr>
              <a:t>Незнай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ff"/>
            </a:gs>
            <a:gs pos="100000">
              <a:srgbClr val="00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539640" y="-482760"/>
            <a:ext cx="80154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Monotype Corsiva"/>
              </a:rPr>
              <a:t>5. Герой сказки, к которому обращаются со словам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Monotype Corsiva"/>
              </a:rPr>
              <a:t>"Не гонялся бы ты за дешевизной!"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746760" y="5445000"/>
            <a:ext cx="130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Monotype Corsiva"/>
              </a:rPr>
              <a:t>По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507960" y="2619360"/>
            <a:ext cx="5143680" cy="38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ff"/>
            </a:gs>
            <a:gs pos="100000">
              <a:srgbClr val="00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-1665360" y="259560"/>
            <a:ext cx="1255572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Monotype Corsiva"/>
              </a:rPr>
              <a:t>6.</a:t>
            </a:r>
            <a:r>
              <a:rPr b="1" lang="en-US" sz="48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Monotype Corsiva"/>
              </a:rPr>
              <a:t>На какие камушки были похожи ядра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Monotype Corsiva"/>
              </a:rPr>
              <a:t>которые вынимала белочка из орешков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425560" y="5373720"/>
            <a:ext cx="2958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Monotype Corsiva"/>
              </a:rPr>
              <a:t>изумруд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611280" y="3213000"/>
            <a:ext cx="2371680" cy="31305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3492360" y="2276640"/>
            <a:ext cx="2827440" cy="282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ff"/>
            </a:gs>
            <a:gs pos="100000">
              <a:srgbClr val="00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468360" y="500400"/>
            <a:ext cx="8209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Monotype Corsiva"/>
              </a:rPr>
              <a:t>7. Какое было прозвище у Финиста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292720" y="5084640"/>
            <a:ext cx="3313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Monotype Corsiva"/>
              </a:rPr>
              <a:t>Ясный Соко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403280" y="2060640"/>
            <a:ext cx="24480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3T15:46:58Z</dcterms:created>
  <dc:creator>XTreme</dc:creator>
  <dc:description/>
  <dc:language>en-US</dc:language>
  <cp:lastModifiedBy>XTreme</cp:lastModifiedBy>
  <dcterms:modified xsi:type="dcterms:W3CDTF">2009-06-14T18:01:42Z</dcterms:modified>
  <cp:revision>15</cp:revision>
  <dc:subject/>
  <dc:title>Слайд 1</dc:title>
</cp:coreProperties>
</file>