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4.png" ContentType="image/png"/>
  <Override PartName="/ppt/media/image11.jpeg" ContentType="image/jpeg"/>
  <Override PartName="/ppt/media/image19.gif" ContentType="image/gif"/>
  <Override PartName="/ppt/media/image23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9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4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25EE-D0F9-468D-BE1E-7DB3668662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ABB3-60DC-4069-A862-62DD398DC5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8FFF-899B-49DB-A904-B57E0069DB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14EE-C5E1-43A9-9BF7-944D45C596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F4C-2AA4-4108-9C2E-D9E87EC4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DD1-8696-4C14-B669-D3DC47D5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91B-FE56-4817-9A60-CE0A0D2B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571-95C4-4EEB-8AA2-E286F5E9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5AC-B33F-4C49-8C05-8B1563DD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A33-EA7A-4F85-A126-2959AF9C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0D4-E329-42CD-9049-B002354C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3D8-66BB-4694-8F1F-D8B8CA48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4E6-EA08-417D-ACAC-A89F36C7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FF1-5886-4F43-9917-7B6A4F3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43F-81CA-4CA8-9C6F-09E4FA6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8E9-D7F5-493D-975C-CB591339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6263-D231-4F01-959B-460F38296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8" descr=""/>
          <p:cNvPicPr/>
          <p:nvPr/>
        </p:nvPicPr>
        <p:blipFill>
          <a:blip r:embed="rId2"/>
          <a:stretch/>
        </p:blipFill>
        <p:spPr>
          <a:xfrm>
            <a:off x="1279440" y="1030320"/>
            <a:ext cx="6827760" cy="82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5516640"/>
            <a:ext cx="35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ик Ольга Юрьевна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ww.russisch-fuer-kinder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 3" descr=""/>
          <p:cNvPicPr/>
          <p:nvPr/>
        </p:nvPicPr>
        <p:blipFill>
          <a:blip r:embed="rId2"/>
          <a:stretch/>
        </p:blipFill>
        <p:spPr>
          <a:xfrm>
            <a:off x="96840" y="1407960"/>
            <a:ext cx="4816440" cy="744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слон"/>
          <p:cNvPicPr/>
          <p:nvPr/>
        </p:nvPicPr>
        <p:blipFill>
          <a:blip r:embed="rId3"/>
          <a:srcRect l="4724" t="4724" r="4724" b="4724"/>
          <a:stretch/>
        </p:blipFill>
        <p:spPr>
          <a:xfrm>
            <a:off x="4929120" y="1214280"/>
            <a:ext cx="3979800" cy="2935440"/>
          </a:xfrm>
          <a:prstGeom prst="rect">
            <a:avLst/>
          </a:prstGeom>
          <a:ln w="0">
            <a:noFill/>
          </a:ln>
        </p:spPr>
      </p:pic>
      <p:sp>
        <p:nvSpPr>
          <p:cNvPr id="170" name="Заголовок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extBox 7" descr=""/>
          <p:cNvPicPr/>
          <p:nvPr/>
        </p:nvPicPr>
        <p:blipFill>
          <a:blip r:embed="rId4"/>
          <a:stretch/>
        </p:blipFill>
        <p:spPr>
          <a:xfrm>
            <a:off x="652320" y="4095720"/>
            <a:ext cx="7851960" cy="847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5"/>
          <a:stretch/>
        </p:blipFill>
        <p:spPr>
          <a:xfrm>
            <a:off x="357120" y="5000760"/>
            <a:ext cx="121464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17"/>
          <p:cNvGrpSpPr/>
          <p:nvPr/>
        </p:nvGrpSpPr>
        <p:grpSpPr>
          <a:xfrm>
            <a:off x="3286080" y="5286240"/>
            <a:ext cx="4429080" cy="928800"/>
            <a:chOff x="3286080" y="5286240"/>
            <a:chExt cx="4429080" cy="928800"/>
          </a:xfrm>
        </p:grpSpPr>
        <p:sp>
          <p:nvSpPr>
            <p:cNvPr id="174" name="Прямоугольник 9"/>
            <p:cNvSpPr/>
            <p:nvPr/>
          </p:nvSpPr>
          <p:spPr>
            <a:xfrm>
              <a:off x="4491000" y="5286240"/>
              <a:ext cx="857160" cy="857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оугольник 10"/>
            <p:cNvSpPr/>
            <p:nvPr/>
          </p:nvSpPr>
          <p:spPr>
            <a:xfrm>
              <a:off x="6858000" y="5286240"/>
              <a:ext cx="857160" cy="857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Овал 12"/>
            <p:cNvSpPr/>
            <p:nvPr/>
          </p:nvSpPr>
          <p:spPr>
            <a:xfrm>
              <a:off x="5572080" y="5286240"/>
              <a:ext cx="1000080" cy="928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оугольник 13"/>
            <p:cNvSpPr/>
            <p:nvPr/>
          </p:nvSpPr>
          <p:spPr>
            <a:xfrm>
              <a:off x="3286080" y="5286240"/>
              <a:ext cx="857160" cy="857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500200" y="2143080"/>
            <a:ext cx="3429000" cy="400068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6" descr=""/>
          <p:cNvPicPr/>
          <p:nvPr/>
        </p:nvPicPr>
        <p:blipFill>
          <a:blip r:embed="rId2"/>
          <a:stretch/>
        </p:blipFill>
        <p:spPr>
          <a:xfrm>
            <a:off x="1731960" y="285840"/>
            <a:ext cx="5553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81" name="Группа 23"/>
          <p:cNvGrpSpPr/>
          <p:nvPr/>
        </p:nvGrpSpPr>
        <p:grpSpPr>
          <a:xfrm>
            <a:off x="1889280" y="2000160"/>
            <a:ext cx="6325920" cy="4222800"/>
            <a:chOff x="1889280" y="2000160"/>
            <a:chExt cx="6325920" cy="4222800"/>
          </a:xfrm>
        </p:grpSpPr>
        <p:pic>
          <p:nvPicPr>
            <p:cNvPr id="182" name="Picture 4" descr=""/>
            <p:cNvPicPr/>
            <p:nvPr/>
          </p:nvPicPr>
          <p:blipFill>
            <a:blip r:embed="rId2"/>
            <a:stretch/>
          </p:blipFill>
          <p:spPr>
            <a:xfrm>
              <a:off x="1928880" y="2000160"/>
              <a:ext cx="132552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" descr=""/>
            <p:cNvPicPr/>
            <p:nvPr/>
          </p:nvPicPr>
          <p:blipFill>
            <a:blip r:embed="rId3"/>
            <a:stretch/>
          </p:blipFill>
          <p:spPr>
            <a:xfrm>
              <a:off x="1889280" y="3396960"/>
              <a:ext cx="114300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6" descr=""/>
            <p:cNvPicPr/>
            <p:nvPr/>
          </p:nvPicPr>
          <p:blipFill>
            <a:blip r:embed="rId4"/>
            <a:stretch/>
          </p:blipFill>
          <p:spPr>
            <a:xfrm>
              <a:off x="1928880" y="5000760"/>
              <a:ext cx="936360" cy="122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Группа 25"/>
            <p:cNvGrpSpPr/>
            <p:nvPr/>
          </p:nvGrpSpPr>
          <p:grpSpPr>
            <a:xfrm>
              <a:off x="5143680" y="4786200"/>
              <a:ext cx="3071520" cy="571320"/>
              <a:chOff x="5143680" y="4786200"/>
              <a:chExt cx="3071520" cy="571320"/>
            </a:xfrm>
          </p:grpSpPr>
          <p:grpSp>
            <p:nvGrpSpPr>
              <p:cNvPr id="186" name="Группа 18"/>
              <p:cNvGrpSpPr/>
              <p:nvPr/>
            </p:nvGrpSpPr>
            <p:grpSpPr>
              <a:xfrm>
                <a:off x="5143680" y="4857480"/>
                <a:ext cx="2214360" cy="500040"/>
                <a:chOff x="5143680" y="4857480"/>
                <a:chExt cx="2214360" cy="500040"/>
              </a:xfrm>
            </p:grpSpPr>
            <p:sp>
              <p:nvSpPr>
                <p:cNvPr id="187" name="Овал 7"/>
                <p:cNvSpPr/>
                <p:nvPr/>
              </p:nvSpPr>
              <p:spPr>
                <a:xfrm>
                  <a:off x="6000840" y="4857480"/>
                  <a:ext cx="571320" cy="5000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Прямоугольник 8"/>
                <p:cNvSpPr/>
                <p:nvPr/>
              </p:nvSpPr>
              <p:spPr>
                <a:xfrm>
                  <a:off x="6858000" y="4857480"/>
                  <a:ext cx="500040" cy="4287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Прямоугольник 10"/>
                <p:cNvSpPr/>
                <p:nvPr/>
              </p:nvSpPr>
              <p:spPr>
                <a:xfrm>
                  <a:off x="5143680" y="4857480"/>
                  <a:ext cx="500040" cy="4287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Овал 16"/>
              <p:cNvSpPr/>
              <p:nvPr/>
            </p:nvSpPr>
            <p:spPr>
              <a:xfrm>
                <a:off x="7643880" y="4786200"/>
                <a:ext cx="571320" cy="5000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Группа 24"/>
            <p:cNvGrpSpPr/>
            <p:nvPr/>
          </p:nvGrpSpPr>
          <p:grpSpPr>
            <a:xfrm>
              <a:off x="5143680" y="3643200"/>
              <a:ext cx="2857320" cy="500040"/>
              <a:chOff x="5143680" y="3643200"/>
              <a:chExt cx="2857320" cy="500040"/>
            </a:xfrm>
          </p:grpSpPr>
          <p:sp>
            <p:nvSpPr>
              <p:cNvPr id="192" name="Прямоугольник 9"/>
              <p:cNvSpPr/>
              <p:nvPr/>
            </p:nvSpPr>
            <p:spPr>
              <a:xfrm>
                <a:off x="7500960" y="3714480"/>
                <a:ext cx="500040" cy="4287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Группа 19"/>
              <p:cNvGrpSpPr/>
              <p:nvPr/>
            </p:nvGrpSpPr>
            <p:grpSpPr>
              <a:xfrm>
                <a:off x="5143680" y="3643200"/>
                <a:ext cx="2143080" cy="500040"/>
                <a:chOff x="5143680" y="3643200"/>
                <a:chExt cx="2143080" cy="500040"/>
              </a:xfrm>
            </p:grpSpPr>
            <p:sp>
              <p:nvSpPr>
                <p:cNvPr id="194" name="Прямоугольник 14"/>
                <p:cNvSpPr/>
                <p:nvPr/>
              </p:nvSpPr>
              <p:spPr>
                <a:xfrm>
                  <a:off x="5143680" y="3714480"/>
                  <a:ext cx="500040" cy="4287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Овал 15"/>
                <p:cNvSpPr/>
                <p:nvPr/>
              </p:nvSpPr>
              <p:spPr>
                <a:xfrm>
                  <a:off x="5929560" y="3643200"/>
                  <a:ext cx="571320" cy="5000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Прямоугольник 17"/>
                <p:cNvSpPr/>
                <p:nvPr/>
              </p:nvSpPr>
              <p:spPr>
                <a:xfrm>
                  <a:off x="6786720" y="3714480"/>
                  <a:ext cx="500040" cy="4287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7" name="Группа 23"/>
            <p:cNvGrpSpPr/>
            <p:nvPr/>
          </p:nvGrpSpPr>
          <p:grpSpPr>
            <a:xfrm>
              <a:off x="5072040" y="2428560"/>
              <a:ext cx="3071520" cy="500040"/>
              <a:chOff x="5072040" y="2428560"/>
              <a:chExt cx="3071520" cy="500040"/>
            </a:xfrm>
          </p:grpSpPr>
          <p:sp>
            <p:nvSpPr>
              <p:cNvPr id="198" name="Овал 11"/>
              <p:cNvSpPr/>
              <p:nvPr/>
            </p:nvSpPr>
            <p:spPr>
              <a:xfrm>
                <a:off x="7572240" y="2428560"/>
                <a:ext cx="571320" cy="5000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Прямоугольник 20"/>
              <p:cNvSpPr/>
              <p:nvPr/>
            </p:nvSpPr>
            <p:spPr>
              <a:xfrm>
                <a:off x="5072040" y="2499840"/>
                <a:ext cx="500040" cy="4287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Прямоугольник 21"/>
              <p:cNvSpPr/>
              <p:nvPr/>
            </p:nvSpPr>
            <p:spPr>
              <a:xfrm>
                <a:off x="5929200" y="2499840"/>
                <a:ext cx="500040" cy="4287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Прямоугольник 22"/>
              <p:cNvSpPr/>
              <p:nvPr/>
            </p:nvSpPr>
            <p:spPr>
              <a:xfrm>
                <a:off x="6786360" y="2499840"/>
                <a:ext cx="500040" cy="4287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2" name="Picture 2" descr=""/>
          <p:cNvPicPr/>
          <p:nvPr/>
        </p:nvPicPr>
        <p:blipFill>
          <a:blip r:embed="rId5"/>
          <a:stretch/>
        </p:blipFill>
        <p:spPr>
          <a:xfrm>
            <a:off x="214200" y="13572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04" name="Группа 15"/>
          <p:cNvGrpSpPr/>
          <p:nvPr/>
        </p:nvGrpSpPr>
        <p:grpSpPr>
          <a:xfrm>
            <a:off x="1071720" y="2143080"/>
            <a:ext cx="6429240" cy="3368880"/>
            <a:chOff x="1071720" y="2143080"/>
            <a:chExt cx="6429240" cy="3368880"/>
          </a:xfrm>
        </p:grpSpPr>
        <p:sp>
          <p:nvSpPr>
            <p:cNvPr id="205" name="Прямая соединительная линия 5"/>
            <p:cNvSpPr/>
            <p:nvPr/>
          </p:nvSpPr>
          <p:spPr>
            <a:xfrm>
              <a:off x="6858000" y="2214360"/>
              <a:ext cx="69840" cy="2643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Группа 14"/>
            <p:cNvGrpSpPr/>
            <p:nvPr/>
          </p:nvGrpSpPr>
          <p:grpSpPr>
            <a:xfrm>
              <a:off x="1071720" y="2143080"/>
              <a:ext cx="3643200" cy="3368880"/>
              <a:chOff x="1071720" y="2143080"/>
              <a:chExt cx="3643200" cy="3368880"/>
            </a:xfrm>
          </p:grpSpPr>
          <p:grpSp>
            <p:nvGrpSpPr>
              <p:cNvPr id="207" name="Группа 13"/>
              <p:cNvGrpSpPr/>
              <p:nvPr/>
            </p:nvGrpSpPr>
            <p:grpSpPr>
              <a:xfrm>
                <a:off x="1071720" y="2143080"/>
                <a:ext cx="1285920" cy="3368880"/>
                <a:chOff x="1071720" y="2143080"/>
                <a:chExt cx="1285920" cy="3368880"/>
              </a:xfrm>
            </p:grpSpPr>
            <p:sp>
              <p:nvSpPr>
                <p:cNvPr id="208" name="Прямая соединительная линия 6"/>
                <p:cNvSpPr/>
                <p:nvPr/>
              </p:nvSpPr>
              <p:spPr>
                <a:xfrm flipH="1">
                  <a:off x="1785960" y="2143080"/>
                  <a:ext cx="1440" cy="2714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Box 8"/>
                <p:cNvSpPr/>
                <p:nvPr/>
              </p:nvSpPr>
              <p:spPr>
                <a:xfrm>
                  <a:off x="1071720" y="5143680"/>
                  <a:ext cx="128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4f6228"/>
                      </a:solidFill>
                      <a:latin typeface="Calibri"/>
                    </a:rPr>
                    <a:t>интересн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Box 9"/>
              <p:cNvSpPr/>
              <p:nvPr/>
            </p:nvSpPr>
            <p:spPr>
              <a:xfrm>
                <a:off x="3786480" y="5143680"/>
                <a:ext cx="92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4f6228"/>
                    </a:solidFill>
                    <a:latin typeface="Calibri"/>
                  </a:rPr>
                  <a:t>трудн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Прямая соединительная линия 10"/>
              <p:cNvSpPr/>
              <p:nvPr/>
            </p:nvSpPr>
            <p:spPr>
              <a:xfrm>
                <a:off x="4214880" y="2143080"/>
                <a:ext cx="69840" cy="2643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11"/>
            <p:cNvSpPr/>
            <p:nvPr/>
          </p:nvSpPr>
          <p:spPr>
            <a:xfrm>
              <a:off x="6429600" y="507204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Calibri"/>
                </a:rPr>
                <a:t>понят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3" descr="http://im3-tub.yandex.net/i?id=20240393&amp;tov=3"/>
          <p:cNvPicPr/>
          <p:nvPr/>
        </p:nvPicPr>
        <p:blipFill>
          <a:blip r:embed="rId2"/>
          <a:stretch/>
        </p:blipFill>
        <p:spPr>
          <a:xfrm>
            <a:off x="357120" y="214200"/>
            <a:ext cx="18576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Группа 22"/>
          <p:cNvGrpSpPr/>
          <p:nvPr/>
        </p:nvGrpSpPr>
        <p:grpSpPr>
          <a:xfrm>
            <a:off x="714240" y="3786120"/>
            <a:ext cx="7929720" cy="1395360"/>
            <a:chOff x="714240" y="3786120"/>
            <a:chExt cx="7929720" cy="1395360"/>
          </a:xfrm>
        </p:grpSpPr>
        <p:grpSp>
          <p:nvGrpSpPr>
            <p:cNvPr id="215" name="Группа 48"/>
            <p:cNvGrpSpPr/>
            <p:nvPr/>
          </p:nvGrpSpPr>
          <p:grpSpPr>
            <a:xfrm>
              <a:off x="714240" y="3833280"/>
              <a:ext cx="1256040" cy="1146960"/>
              <a:chOff x="714240" y="3833280"/>
              <a:chExt cx="1256040" cy="1146960"/>
            </a:xfrm>
          </p:grpSpPr>
          <p:sp>
            <p:nvSpPr>
              <p:cNvPr id="216" name="Овал 6"/>
              <p:cNvSpPr/>
              <p:nvPr/>
            </p:nvSpPr>
            <p:spPr>
              <a:xfrm>
                <a:off x="714240" y="3833280"/>
                <a:ext cx="1256040" cy="1146960"/>
              </a:xfrm>
              <a:prstGeom prst="ellipse">
                <a:avLst/>
              </a:prstGeom>
              <a:solidFill>
                <a:srgbClr val="fdeada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Овал 7"/>
              <p:cNvSpPr/>
              <p:nvPr/>
            </p:nvSpPr>
            <p:spPr>
              <a:xfrm>
                <a:off x="1083600" y="4120560"/>
                <a:ext cx="147240" cy="1688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Овал 8"/>
              <p:cNvSpPr/>
              <p:nvPr/>
            </p:nvSpPr>
            <p:spPr>
              <a:xfrm>
                <a:off x="1453320" y="4120560"/>
                <a:ext cx="147240" cy="1688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Прямая соединительная линия 5"/>
            <p:cNvSpPr/>
            <p:nvPr/>
          </p:nvSpPr>
          <p:spPr>
            <a:xfrm>
              <a:off x="1158120" y="4549320"/>
              <a:ext cx="36792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TextBox 19" descr=""/>
            <p:cNvPicPr/>
            <p:nvPr/>
          </p:nvPicPr>
          <p:blipFill>
            <a:blip r:embed="rId1"/>
            <a:stretch/>
          </p:blipFill>
          <p:spPr>
            <a:xfrm>
              <a:off x="2290680" y="3786120"/>
              <a:ext cx="6353280" cy="13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6215040" y="0"/>
            <a:ext cx="2571840" cy="333864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возврат 9"/>
          <p:cNvSpPr/>
          <p:nvPr/>
        </p:nvSpPr>
        <p:spPr>
          <a:xfrm>
            <a:off x="842976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7493"/>
                </a:moveTo>
                <a:lnTo>
                  <a:pt x="9095" y="7493"/>
                </a:lnTo>
                <a:lnTo>
                  <a:pt x="9095" y="12828"/>
                </a:lnTo>
                <a:cubicBezTo>
                  <a:pt x="9095" y="13751"/>
                  <a:pt x="9896" y="14482"/>
                  <a:pt x="10932" y="14482"/>
                </a:cubicBezTo>
                <a:lnTo>
                  <a:pt x="12594" y="14482"/>
                </a:lnTo>
                <a:cubicBezTo>
                  <a:pt x="13630" y="14482"/>
                  <a:pt x="14430" y="13751"/>
                  <a:pt x="14430" y="12828"/>
                </a:cubicBezTo>
                <a:lnTo>
                  <a:pt x="14430" y="7493"/>
                </a:lnTo>
                <a:lnTo>
                  <a:pt x="12594" y="7493"/>
                </a:lnTo>
                <a:lnTo>
                  <a:pt x="16102" y="3985"/>
                </a:lnTo>
                <a:lnTo>
                  <a:pt x="19775" y="7493"/>
                </a:lnTo>
                <a:lnTo>
                  <a:pt x="17938" y="7493"/>
                </a:lnTo>
                <a:lnTo>
                  <a:pt x="17938" y="12828"/>
                </a:lnTo>
                <a:cubicBezTo>
                  <a:pt x="17938" y="15596"/>
                  <a:pt x="15362" y="18155"/>
                  <a:pt x="12594" y="18155"/>
                </a:cubicBezTo>
                <a:lnTo>
                  <a:pt x="10932" y="18155"/>
                </a:lnTo>
                <a:cubicBezTo>
                  <a:pt x="8164" y="18155"/>
                  <a:pt x="5587" y="15596"/>
                  <a:pt x="5587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6215040" y="0"/>
            <a:ext cx="2571840" cy="3338640"/>
          </a:xfrm>
          <a:prstGeom prst="rect">
            <a:avLst/>
          </a:prstGeom>
          <a:ln w="0">
            <a:noFill/>
          </a:ln>
        </p:spPr>
      </p:pic>
      <p:grpSp>
        <p:nvGrpSpPr>
          <p:cNvPr id="224" name="Группа 15"/>
          <p:cNvGrpSpPr/>
          <p:nvPr/>
        </p:nvGrpSpPr>
        <p:grpSpPr>
          <a:xfrm>
            <a:off x="928800" y="3857760"/>
            <a:ext cx="7715160" cy="1357200"/>
            <a:chOff x="928800" y="3857760"/>
            <a:chExt cx="7715160" cy="1357200"/>
          </a:xfrm>
        </p:grpSpPr>
        <p:pic>
          <p:nvPicPr>
            <p:cNvPr id="225" name="TextBox 19" descr=""/>
            <p:cNvPicPr/>
            <p:nvPr/>
          </p:nvPicPr>
          <p:blipFill>
            <a:blip r:embed="rId2"/>
            <a:stretch/>
          </p:blipFill>
          <p:spPr>
            <a:xfrm>
              <a:off x="2291040" y="3857760"/>
              <a:ext cx="6352920" cy="133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Группа 9"/>
            <p:cNvGrpSpPr/>
            <p:nvPr/>
          </p:nvGrpSpPr>
          <p:grpSpPr>
            <a:xfrm>
              <a:off x="928800" y="4165200"/>
              <a:ext cx="1213200" cy="1049760"/>
              <a:chOff x="928800" y="4165200"/>
              <a:chExt cx="1213200" cy="1049760"/>
            </a:xfrm>
          </p:grpSpPr>
          <p:grpSp>
            <p:nvGrpSpPr>
              <p:cNvPr id="227" name="Группа 49"/>
              <p:cNvGrpSpPr/>
              <p:nvPr/>
            </p:nvGrpSpPr>
            <p:grpSpPr>
              <a:xfrm>
                <a:off x="928800" y="4165200"/>
                <a:ext cx="1213200" cy="1049760"/>
                <a:chOff x="928800" y="4165200"/>
                <a:chExt cx="1213200" cy="1049760"/>
              </a:xfrm>
            </p:grpSpPr>
            <p:sp>
              <p:nvSpPr>
                <p:cNvPr id="228" name="Овал 12"/>
                <p:cNvSpPr/>
                <p:nvPr/>
              </p:nvSpPr>
              <p:spPr>
                <a:xfrm>
                  <a:off x="928800" y="4165200"/>
                  <a:ext cx="1213200" cy="1049760"/>
                </a:xfrm>
                <a:prstGeom prst="ellipse">
                  <a:avLst/>
                </a:prstGeom>
                <a:solidFill>
                  <a:srgbClr val="fdeada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Овал 13"/>
                <p:cNvSpPr/>
                <p:nvPr/>
              </p:nvSpPr>
              <p:spPr>
                <a:xfrm>
                  <a:off x="1285560" y="4427640"/>
                  <a:ext cx="142560" cy="1544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Овал 14"/>
                <p:cNvSpPr/>
                <p:nvPr/>
              </p:nvSpPr>
              <p:spPr>
                <a:xfrm>
                  <a:off x="1642320" y="4427640"/>
                  <a:ext cx="142560" cy="1544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Овал 11"/>
              <p:cNvSpPr/>
              <p:nvPr/>
            </p:nvSpPr>
            <p:spPr>
              <a:xfrm>
                <a:off x="1356840" y="4690080"/>
                <a:ext cx="356760" cy="262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Управляющая кнопка: возврат 16"/>
          <p:cNvSpPr/>
          <p:nvPr/>
        </p:nvSpPr>
        <p:spPr>
          <a:xfrm>
            <a:off x="842976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7493"/>
                </a:moveTo>
                <a:lnTo>
                  <a:pt x="9095" y="7493"/>
                </a:lnTo>
                <a:lnTo>
                  <a:pt x="9095" y="12828"/>
                </a:lnTo>
                <a:cubicBezTo>
                  <a:pt x="9095" y="13751"/>
                  <a:pt x="9896" y="14482"/>
                  <a:pt x="10932" y="14482"/>
                </a:cubicBezTo>
                <a:lnTo>
                  <a:pt x="12594" y="14482"/>
                </a:lnTo>
                <a:cubicBezTo>
                  <a:pt x="13630" y="14482"/>
                  <a:pt x="14430" y="13751"/>
                  <a:pt x="14430" y="12828"/>
                </a:cubicBezTo>
                <a:lnTo>
                  <a:pt x="14430" y="7493"/>
                </a:lnTo>
                <a:lnTo>
                  <a:pt x="12594" y="7493"/>
                </a:lnTo>
                <a:lnTo>
                  <a:pt x="16102" y="3985"/>
                </a:lnTo>
                <a:lnTo>
                  <a:pt x="19775" y="7493"/>
                </a:lnTo>
                <a:lnTo>
                  <a:pt x="17938" y="7493"/>
                </a:lnTo>
                <a:lnTo>
                  <a:pt x="17938" y="12828"/>
                </a:lnTo>
                <a:cubicBezTo>
                  <a:pt x="17938" y="15596"/>
                  <a:pt x="15362" y="18155"/>
                  <a:pt x="12594" y="18155"/>
                </a:cubicBezTo>
                <a:lnTo>
                  <a:pt x="10932" y="18155"/>
                </a:lnTo>
                <a:cubicBezTo>
                  <a:pt x="8164" y="18155"/>
                  <a:pt x="5587" y="15596"/>
                  <a:pt x="5587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2627280" y="928800"/>
            <a:ext cx="2309760" cy="3000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5940360" y="4500720"/>
            <a:ext cx="1774800" cy="23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861840" y="3214800"/>
            <a:ext cx="2638440" cy="3425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5"/>
          <a:stretch/>
        </p:blipFill>
        <p:spPr>
          <a:xfrm>
            <a:off x="6858000" y="857160"/>
            <a:ext cx="2146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62863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86160" y="4429080"/>
            <a:ext cx="2643120" cy="2068560"/>
          </a:xfrm>
          <a:prstGeom prst="rect">
            <a:avLst/>
          </a:prstGeom>
          <a:ln w="0">
            <a:noFill/>
          </a:ln>
        </p:spPr>
      </p:pic>
      <p:pic>
        <p:nvPicPr>
          <p:cNvPr id="62" name="Заголовок 1" descr=""/>
          <p:cNvPicPr/>
          <p:nvPr/>
        </p:nvPicPr>
        <p:blipFill>
          <a:blip r:embed="rId3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2920" y="0"/>
            <a:ext cx="4357800" cy="475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http://im5-tub.yandex.net/i?id=2854309&amp;tov=5"/>
          <p:cNvPicPr/>
          <p:nvPr/>
        </p:nvPicPr>
        <p:blipFill>
          <a:blip r:embed="rId2"/>
          <a:stretch/>
        </p:blipFill>
        <p:spPr>
          <a:xfrm>
            <a:off x="5065560" y="353880"/>
            <a:ext cx="1371600" cy="190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im7-tub.yandex.net/i?id=68536748&amp;tov=7"/>
          <p:cNvPicPr/>
          <p:nvPr/>
        </p:nvPicPr>
        <p:blipFill>
          <a:blip r:embed="rId3"/>
          <a:stretch/>
        </p:blipFill>
        <p:spPr>
          <a:xfrm>
            <a:off x="6715080" y="642960"/>
            <a:ext cx="1714680" cy="204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im7-tub.yandex.net/i?id=29662858&amp;tov=7"/>
          <p:cNvPicPr/>
          <p:nvPr/>
        </p:nvPicPr>
        <p:blipFill>
          <a:blip r:embed="rId4"/>
          <a:stretch/>
        </p:blipFill>
        <p:spPr>
          <a:xfrm>
            <a:off x="7215120" y="3786120"/>
            <a:ext cx="1714680" cy="2297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im3-tub.yandex.net/i?id=36528804&amp;tov=3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2786040" y="5000760"/>
            <a:ext cx="264312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ttp://im7-tub.yandex.net/i?id=35004953&amp;tov=7"/>
          <p:cNvPicPr/>
          <p:nvPr/>
        </p:nvPicPr>
        <p:blipFill>
          <a:blip r:embed="rId6"/>
          <a:stretch/>
        </p:blipFill>
        <p:spPr>
          <a:xfrm>
            <a:off x="4929120" y="3143160"/>
            <a:ext cx="1571760" cy="2090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7"/>
          <a:stretch/>
        </p:blipFill>
        <p:spPr>
          <a:xfrm>
            <a:off x="285840" y="507204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" name="Плюс 5"/>
          <p:cNvSpPr/>
          <p:nvPr/>
        </p:nvSpPr>
        <p:spPr>
          <a:xfrm>
            <a:off x="1143000" y="3857760"/>
            <a:ext cx="857160" cy="928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люс 6"/>
          <p:cNvSpPr/>
          <p:nvPr/>
        </p:nvSpPr>
        <p:spPr>
          <a:xfrm>
            <a:off x="2286000" y="3857760"/>
            <a:ext cx="857160" cy="928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люс 7"/>
          <p:cNvSpPr/>
          <p:nvPr/>
        </p:nvSpPr>
        <p:spPr>
          <a:xfrm>
            <a:off x="6000840" y="3857760"/>
            <a:ext cx="857160" cy="928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инус 8"/>
          <p:cNvSpPr/>
          <p:nvPr/>
        </p:nvSpPr>
        <p:spPr>
          <a:xfrm>
            <a:off x="3571920" y="3929040"/>
            <a:ext cx="78588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инус 9"/>
          <p:cNvSpPr/>
          <p:nvPr/>
        </p:nvSpPr>
        <p:spPr>
          <a:xfrm>
            <a:off x="4786200" y="3929040"/>
            <a:ext cx="78588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http://im5-tub.yandex.net/i?id=2854309&amp;tov=5"/>
          <p:cNvPicPr/>
          <p:nvPr/>
        </p:nvPicPr>
        <p:blipFill>
          <a:blip r:embed="rId2"/>
          <a:stretch/>
        </p:blipFill>
        <p:spPr>
          <a:xfrm>
            <a:off x="781200" y="1920960"/>
            <a:ext cx="1371600" cy="191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http://im7-tub.yandex.net/i?id=68536748&amp;tov=7"/>
          <p:cNvPicPr/>
          <p:nvPr/>
        </p:nvPicPr>
        <p:blipFill>
          <a:blip r:embed="rId3"/>
          <a:stretch/>
        </p:blipFill>
        <p:spPr>
          <a:xfrm>
            <a:off x="2143080" y="1714680"/>
            <a:ext cx="1000080" cy="119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http://im3-tub.yandex.net/i?id=36528804&amp;tov=3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3214800" y="2500200"/>
            <a:ext cx="142848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http://im7-tub.yandex.net/i?id=35004953&amp;tov=7"/>
          <p:cNvPicPr/>
          <p:nvPr/>
        </p:nvPicPr>
        <p:blipFill>
          <a:blip r:embed="rId5"/>
          <a:stretch/>
        </p:blipFill>
        <p:spPr>
          <a:xfrm>
            <a:off x="4626000" y="1714680"/>
            <a:ext cx="108756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http://im7-tub.yandex.net/i?id=29662858&amp;tov=7"/>
          <p:cNvPicPr/>
          <p:nvPr/>
        </p:nvPicPr>
        <p:blipFill>
          <a:blip r:embed="rId6"/>
          <a:stretch/>
        </p:blipFill>
        <p:spPr>
          <a:xfrm>
            <a:off x="5857920" y="2143080"/>
            <a:ext cx="121284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071960" y="5429160"/>
            <a:ext cx="857160" cy="116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214200" y="2643120"/>
            <a:ext cx="857520" cy="116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4"/>
          <a:stretch/>
        </p:blipFill>
        <p:spPr>
          <a:xfrm rot="21448200">
            <a:off x="4000680" y="356760"/>
            <a:ext cx="857160" cy="116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5"/>
          <a:stretch/>
        </p:blipFill>
        <p:spPr>
          <a:xfrm>
            <a:off x="8072280" y="2714760"/>
            <a:ext cx="857520" cy="1162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6"/>
          <a:stretch/>
        </p:blipFill>
        <p:spPr>
          <a:xfrm>
            <a:off x="571680" y="4714920"/>
            <a:ext cx="857160" cy="116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7"/>
          <a:stretch/>
        </p:blipFill>
        <p:spPr>
          <a:xfrm>
            <a:off x="571680" y="428760"/>
            <a:ext cx="857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500"/>
                            </p:stCondLst>
                            <p:childTnLst>
                              <p:par>
                                <p:cTn id="238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500"/>
                            </p:stCondLst>
                            <p:childTnLst>
                              <p:par>
                                <p:cTn id="24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6.66667E-006 C 0.00069 0.00417 0.24723 -0.67708 0.38543 -0.66898 C 0.52362 -0.66087 0.82883 0.0507 0.82883 0.04931 C 0.82883 0.04792 0.52362 -0.67175 0.38543 -0.67754 C 0.24723 -0.68333 0.00086 0.01644 5E-006 0.01505 C -0.00088 0.01366 0.24289 -0.68703 0.38074 -0.68611 C 0.51841 -0.68518 0.82588 0.02269 0.82588 0.0213 C 0.82588 0.01991 0.51841 -0.69212 0.38074 -0.69467 C 0.24289 -0.69722 -0.0007 -0.00416 5E-006 6.66667E-006 Z">
                                      <p:cBhvr>
                                        <p:cTn id="253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5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5.55556E-006 C -0.00035 -0.00185 0.2507 0.747 0.39029 0.73982 C 0.52987 0.73265 0.83734 -0.04421 0.83716 -0.04305 C 0.83699 -0.04189 0.5264 0.74098 0.38873 0.7463 C 0.25105 0.75163 0.01147 -0.00995 0.01129 -0.01064 C 0.01112 -0.01134 0.2481 0.74723 0.38716 0.74167 C 0.52588 0.73658 0.84567 -0.04259 0.84515 -0.04305 C 0.84463 -0.04351 0.52952 0.73751 0.39029 0.74422 C 0.25105 0.75093 0.00973 -0.00277 0.00973 -0.00208 C 0.00973 -0.00138 0.25192 0.75579 0.39029 0.74839 C 0.52866 0.74098 0.83994 -0.04768 0.84029 -0.04722 C 0.84064 -0.04675 0.53126 0.74353 0.39202 0.7507 C 0.25279 0.75788 0.00034 0.00186 5E-006 5.55556E-006 Z">
                                      <p:cBhvr>
                                        <p:cTn id="270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3500"/>
                            </p:stCondLst>
                            <p:childTnLst>
                              <p:par>
                                <p:cTn id="27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6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782 4.44444E-006 C 0.1941 4.44444E-006 0.34636 0.18009 0.34636 0.40208 C 0.34636 0.62361 0.1941 0.80416 0.00782 0.80416 C -0.17917 0.80416 -0.33073 0.62361 -0.33073 0.40208 C -0.33073 0.18009 -0.17917 4.44444E-006 0.00782 4.44444E-006 Z">
                                      <p:cBhvr>
                                        <p:cTn id="287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9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781 4.44444E-006 C 0.18941 4.44444E-006 0.33733 0.18032 0.33733 0.40208 C 0.33733 0.62361 0.18941 0.80416 0.00781 0.80416 C -0.17396 0.80416 -0.32153 0.62361 -0.32153 0.40208 C -0.32153 0.18032 -0.17396 4.44444E-006 0.00781 4.44444E-006 Z">
                                      <p:cBhvr>
                                        <p:cTn id="290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2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2.59259E-006 C 0.17657 2.59259E-006 0.32032 0.18356 0.32032 0.40926 C 0.32032 0.63472 0.17657 0.81898 -3.33333E-006 0.81898 C -0.17673 0.81898 -0.32031 0.63472 -0.32031 0.40926 C -0.32031 0.18356 -0.17673 2.59259E-006 -3.33333E-006 2.59259E-006 Z">
                                      <p:cBhvr>
                                        <p:cTn id="293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500"/>
                            </p:stCondLst>
                            <p:childTnLst>
                              <p:par>
                                <p:cTn id="29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2.59259E-006 C 0.17657 2.59259E-006 0.32032 0.18264 0.32032 0.40717 C 0.32032 0.63171 0.17657 0.81458 -3.33333E-006 0.81458 C -0.17673 0.81458 -0.32031 0.63171 -0.32031 0.40717 C -0.32031 0.18264 -0.17673 2.59259E-006 -3.33333E-006 2.59259E-006 Z">
                                      <p:cBhvr>
                                        <p:cTn id="296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500"/>
                            </p:stCondLst>
                            <p:childTnLst>
                              <p:par>
                                <p:cTn id="298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93560" y="792000"/>
            <a:ext cx="8242560" cy="1725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Новогодний подарок «Чумовая собака»"/>
          <p:cNvPicPr/>
          <p:nvPr/>
        </p:nvPicPr>
        <p:blipFill>
          <a:blip r:embed="rId2"/>
          <a:stretch/>
        </p:blipFill>
        <p:spPr>
          <a:xfrm flipH="1">
            <a:off x="5214960" y="2428920"/>
            <a:ext cx="2643120" cy="383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Новогодний подарок «Танцующий осел»"/>
          <p:cNvPicPr/>
          <p:nvPr/>
        </p:nvPicPr>
        <p:blipFill>
          <a:blip r:embed="rId3"/>
          <a:stretch/>
        </p:blipFill>
        <p:spPr>
          <a:xfrm>
            <a:off x="1285920" y="2357280"/>
            <a:ext cx="2643120" cy="3746520"/>
          </a:xfrm>
          <a:prstGeom prst="rect">
            <a:avLst/>
          </a:prstGeom>
          <a:ln w="0">
            <a:noFill/>
          </a:ln>
        </p:spPr>
      </p:pic>
      <p:pic>
        <p:nvPicPr>
          <p:cNvPr id="91" name="detskie_pesni_-_tanec_malenkih_utyat.mp3" descr=""/>
          <p:cNvPicPr/>
          <p:nvPr/>
        </p:nvPicPr>
        <p:blipFill>
          <a:blip r:embed="rId4"/>
          <a:stretch/>
        </p:blipFill>
        <p:spPr>
          <a:xfrm>
            <a:off x="864396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57122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0840" y="103320"/>
            <a:ext cx="8242200" cy="1854000"/>
          </a:xfrm>
          <a:prstGeom prst="rect">
            <a:avLst/>
          </a:prstGeom>
          <a:ln w="0">
            <a:noFill/>
          </a:ln>
        </p:spPr>
      </p:pic>
      <p:sp>
        <p:nvSpPr>
          <p:cNvPr id="93" name="Равнобедренный треугольник 3"/>
          <p:cNvSpPr/>
          <p:nvPr/>
        </p:nvSpPr>
        <p:spPr>
          <a:xfrm>
            <a:off x="1285920" y="2143080"/>
            <a:ext cx="6572160" cy="1000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3571920" y="3143160"/>
            <a:ext cx="1928880" cy="17859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5500800" y="3143160"/>
            <a:ext cx="1928880" cy="17859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1643040" y="3143160"/>
            <a:ext cx="1928880" cy="17859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45"/>
          <p:cNvGrpSpPr/>
          <p:nvPr/>
        </p:nvGrpSpPr>
        <p:grpSpPr>
          <a:xfrm>
            <a:off x="1928880" y="3143160"/>
            <a:ext cx="1357200" cy="1513080"/>
            <a:chOff x="1928880" y="3143160"/>
            <a:chExt cx="1357200" cy="1513080"/>
          </a:xfrm>
        </p:grpSpPr>
        <p:grpSp>
          <p:nvGrpSpPr>
            <p:cNvPr id="98" name="Group 15"/>
            <p:cNvGrpSpPr/>
            <p:nvPr/>
          </p:nvGrpSpPr>
          <p:grpSpPr>
            <a:xfrm>
              <a:off x="1928880" y="3357360"/>
              <a:ext cx="1357200" cy="1298880"/>
              <a:chOff x="1928880" y="3357360"/>
              <a:chExt cx="1357200" cy="1298880"/>
            </a:xfrm>
          </p:grpSpPr>
          <p:sp>
            <p:nvSpPr>
              <p:cNvPr id="99" name="Oval 5"/>
              <p:cNvSpPr/>
              <p:nvPr/>
            </p:nvSpPr>
            <p:spPr>
              <a:xfrm>
                <a:off x="1928880" y="3357360"/>
                <a:ext cx="1357200" cy="12988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8"/>
              <p:cNvGrpSpPr/>
              <p:nvPr/>
            </p:nvGrpSpPr>
            <p:grpSpPr>
              <a:xfrm>
                <a:off x="2199240" y="3682080"/>
                <a:ext cx="249120" cy="239040"/>
                <a:chOff x="2199240" y="3682080"/>
                <a:chExt cx="249120" cy="239040"/>
              </a:xfrm>
            </p:grpSpPr>
            <p:sp>
              <p:nvSpPr>
                <p:cNvPr id="101" name="Oval 6"/>
                <p:cNvSpPr/>
                <p:nvPr/>
              </p:nvSpPr>
              <p:spPr>
                <a:xfrm>
                  <a:off x="2199240" y="3682080"/>
                  <a:ext cx="249120" cy="23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7"/>
                <p:cNvSpPr/>
                <p:nvPr/>
              </p:nvSpPr>
              <p:spPr>
                <a:xfrm>
                  <a:off x="2266200" y="3747600"/>
                  <a:ext cx="133920" cy="130320"/>
                </a:xfrm>
                <a:prstGeom prst="ellipse">
                  <a:avLst/>
                </a:prstGeom>
                <a:solidFill>
                  <a:srgbClr val="1f49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9"/>
              <p:cNvGrpSpPr/>
              <p:nvPr/>
            </p:nvGrpSpPr>
            <p:grpSpPr>
              <a:xfrm>
                <a:off x="2674440" y="3682080"/>
                <a:ext cx="249120" cy="239040"/>
                <a:chOff x="2674440" y="3682080"/>
                <a:chExt cx="249120" cy="239040"/>
              </a:xfrm>
            </p:grpSpPr>
            <p:sp>
              <p:nvSpPr>
                <p:cNvPr id="104" name="Oval 10"/>
                <p:cNvSpPr/>
                <p:nvPr/>
              </p:nvSpPr>
              <p:spPr>
                <a:xfrm>
                  <a:off x="2674440" y="3682080"/>
                  <a:ext cx="249120" cy="23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11"/>
                <p:cNvSpPr/>
                <p:nvPr/>
              </p:nvSpPr>
              <p:spPr>
                <a:xfrm>
                  <a:off x="2741400" y="3747600"/>
                  <a:ext cx="133920" cy="130320"/>
                </a:xfrm>
                <a:prstGeom prst="ellipse">
                  <a:avLst/>
                </a:prstGeom>
                <a:solidFill>
                  <a:srgbClr val="1f49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Oval 12"/>
              <p:cNvSpPr/>
              <p:nvPr/>
            </p:nvSpPr>
            <p:spPr>
              <a:xfrm>
                <a:off x="2402280" y="4007160"/>
                <a:ext cx="406440" cy="12996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AutoShape 16"/>
            <p:cNvSpPr/>
            <p:nvPr/>
          </p:nvSpPr>
          <p:spPr>
            <a:xfrm rot="16200000">
              <a:off x="2503440" y="4068720"/>
              <a:ext cx="133560" cy="56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1"/>
            <p:cNvSpPr/>
            <p:nvPr/>
          </p:nvSpPr>
          <p:spPr>
            <a:xfrm>
              <a:off x="2143080" y="3143160"/>
              <a:ext cx="737280" cy="5101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Группа 46"/>
          <p:cNvGrpSpPr/>
          <p:nvPr/>
        </p:nvGrpSpPr>
        <p:grpSpPr>
          <a:xfrm>
            <a:off x="3857760" y="3142440"/>
            <a:ext cx="1357200" cy="1513800"/>
            <a:chOff x="3857760" y="3142440"/>
            <a:chExt cx="1357200" cy="1513800"/>
          </a:xfrm>
        </p:grpSpPr>
        <p:grpSp>
          <p:nvGrpSpPr>
            <p:cNvPr id="110" name="Group 15"/>
            <p:cNvGrpSpPr/>
            <p:nvPr/>
          </p:nvGrpSpPr>
          <p:grpSpPr>
            <a:xfrm>
              <a:off x="3857760" y="3357000"/>
              <a:ext cx="1357200" cy="1299240"/>
              <a:chOff x="3857760" y="3357000"/>
              <a:chExt cx="1357200" cy="1299240"/>
            </a:xfrm>
          </p:grpSpPr>
          <p:sp>
            <p:nvSpPr>
              <p:cNvPr id="111" name="Oval 5"/>
              <p:cNvSpPr/>
              <p:nvPr/>
            </p:nvSpPr>
            <p:spPr>
              <a:xfrm>
                <a:off x="3857760" y="3357000"/>
                <a:ext cx="1357200" cy="129924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8"/>
              <p:cNvGrpSpPr/>
              <p:nvPr/>
            </p:nvGrpSpPr>
            <p:grpSpPr>
              <a:xfrm>
                <a:off x="4128120" y="3682080"/>
                <a:ext cx="249120" cy="239040"/>
                <a:chOff x="4128120" y="3682080"/>
                <a:chExt cx="249120" cy="239040"/>
              </a:xfrm>
            </p:grpSpPr>
            <p:sp>
              <p:nvSpPr>
                <p:cNvPr id="113" name="Oval 6"/>
                <p:cNvSpPr/>
                <p:nvPr/>
              </p:nvSpPr>
              <p:spPr>
                <a:xfrm>
                  <a:off x="4128120" y="3682080"/>
                  <a:ext cx="249120" cy="23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7"/>
                <p:cNvSpPr/>
                <p:nvPr/>
              </p:nvSpPr>
              <p:spPr>
                <a:xfrm>
                  <a:off x="4195080" y="3747600"/>
                  <a:ext cx="133920" cy="130320"/>
                </a:xfrm>
                <a:prstGeom prst="ellipse">
                  <a:avLst/>
                </a:prstGeom>
                <a:solidFill>
                  <a:srgbClr val="1f49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9"/>
              <p:cNvGrpSpPr/>
              <p:nvPr/>
            </p:nvGrpSpPr>
            <p:grpSpPr>
              <a:xfrm>
                <a:off x="4603320" y="3682080"/>
                <a:ext cx="249120" cy="239040"/>
                <a:chOff x="4603320" y="3682080"/>
                <a:chExt cx="249120" cy="239040"/>
              </a:xfrm>
            </p:grpSpPr>
            <p:sp>
              <p:nvSpPr>
                <p:cNvPr id="116" name="Oval 10"/>
                <p:cNvSpPr/>
                <p:nvPr/>
              </p:nvSpPr>
              <p:spPr>
                <a:xfrm>
                  <a:off x="4603320" y="3682080"/>
                  <a:ext cx="249120" cy="23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Oval 11"/>
                <p:cNvSpPr/>
                <p:nvPr/>
              </p:nvSpPr>
              <p:spPr>
                <a:xfrm>
                  <a:off x="4670280" y="3747600"/>
                  <a:ext cx="133920" cy="130320"/>
                </a:xfrm>
                <a:prstGeom prst="ellipse">
                  <a:avLst/>
                </a:prstGeom>
                <a:solidFill>
                  <a:srgbClr val="1f49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Oval 12"/>
              <p:cNvSpPr/>
              <p:nvPr/>
            </p:nvSpPr>
            <p:spPr>
              <a:xfrm>
                <a:off x="4331160" y="4007160"/>
                <a:ext cx="406440" cy="12996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4399920" y="4266360"/>
                <a:ext cx="250920" cy="23904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Равнобедренный треугольник 41"/>
            <p:cNvSpPr/>
            <p:nvPr/>
          </p:nvSpPr>
          <p:spPr>
            <a:xfrm rot="5599200">
              <a:off x="4065120" y="3104280"/>
              <a:ext cx="357120" cy="61128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Равнобедренный треугольник 42"/>
            <p:cNvSpPr/>
            <p:nvPr/>
          </p:nvSpPr>
          <p:spPr>
            <a:xfrm rot="15823200">
              <a:off x="4430520" y="3047760"/>
              <a:ext cx="357120" cy="61128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Группа 48"/>
          <p:cNvGrpSpPr/>
          <p:nvPr/>
        </p:nvGrpSpPr>
        <p:grpSpPr>
          <a:xfrm>
            <a:off x="5786280" y="3143160"/>
            <a:ext cx="1357560" cy="1441440"/>
            <a:chOff x="5786280" y="3143160"/>
            <a:chExt cx="1357560" cy="1441440"/>
          </a:xfrm>
        </p:grpSpPr>
        <p:grpSp>
          <p:nvGrpSpPr>
            <p:cNvPr id="123" name="Group 15"/>
            <p:cNvGrpSpPr/>
            <p:nvPr/>
          </p:nvGrpSpPr>
          <p:grpSpPr>
            <a:xfrm>
              <a:off x="5786280" y="3285720"/>
              <a:ext cx="1357560" cy="1298880"/>
              <a:chOff x="5786280" y="3285720"/>
              <a:chExt cx="1357560" cy="1298880"/>
            </a:xfrm>
          </p:grpSpPr>
          <p:sp>
            <p:nvSpPr>
              <p:cNvPr id="124" name="Oval 5"/>
              <p:cNvSpPr/>
              <p:nvPr/>
            </p:nvSpPr>
            <p:spPr>
              <a:xfrm>
                <a:off x="5786280" y="3285720"/>
                <a:ext cx="1357560" cy="12988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8"/>
              <p:cNvGrpSpPr/>
              <p:nvPr/>
            </p:nvGrpSpPr>
            <p:grpSpPr>
              <a:xfrm>
                <a:off x="6056640" y="3610440"/>
                <a:ext cx="249480" cy="239040"/>
                <a:chOff x="6056640" y="3610440"/>
                <a:chExt cx="249480" cy="239040"/>
              </a:xfrm>
            </p:grpSpPr>
            <p:sp>
              <p:nvSpPr>
                <p:cNvPr id="126" name="Oval 6"/>
                <p:cNvSpPr/>
                <p:nvPr/>
              </p:nvSpPr>
              <p:spPr>
                <a:xfrm>
                  <a:off x="6056640" y="3610440"/>
                  <a:ext cx="249480" cy="23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7"/>
                <p:cNvSpPr/>
                <p:nvPr/>
              </p:nvSpPr>
              <p:spPr>
                <a:xfrm>
                  <a:off x="6123960" y="3675960"/>
                  <a:ext cx="134280" cy="130320"/>
                </a:xfrm>
                <a:prstGeom prst="ellipse">
                  <a:avLst/>
                </a:prstGeom>
                <a:solidFill>
                  <a:srgbClr val="1f49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9"/>
              <p:cNvGrpSpPr/>
              <p:nvPr/>
            </p:nvGrpSpPr>
            <p:grpSpPr>
              <a:xfrm>
                <a:off x="6532200" y="3610440"/>
                <a:ext cx="249480" cy="239040"/>
                <a:chOff x="6532200" y="3610440"/>
                <a:chExt cx="249480" cy="239040"/>
              </a:xfrm>
            </p:grpSpPr>
            <p:sp>
              <p:nvSpPr>
                <p:cNvPr id="129" name="Oval 10"/>
                <p:cNvSpPr/>
                <p:nvPr/>
              </p:nvSpPr>
              <p:spPr>
                <a:xfrm>
                  <a:off x="6532200" y="3610440"/>
                  <a:ext cx="249480" cy="239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11"/>
                <p:cNvSpPr/>
                <p:nvPr/>
              </p:nvSpPr>
              <p:spPr>
                <a:xfrm>
                  <a:off x="6599520" y="3675960"/>
                  <a:ext cx="134280" cy="130320"/>
                </a:xfrm>
                <a:prstGeom prst="ellipse">
                  <a:avLst/>
                </a:prstGeom>
                <a:solidFill>
                  <a:srgbClr val="1f49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Oval 12"/>
              <p:cNvSpPr/>
              <p:nvPr/>
            </p:nvSpPr>
            <p:spPr>
              <a:xfrm>
                <a:off x="6259680" y="3935520"/>
                <a:ext cx="406800" cy="12996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AutoShape 16"/>
            <p:cNvSpPr/>
            <p:nvPr/>
          </p:nvSpPr>
          <p:spPr>
            <a:xfrm rot="16200000">
              <a:off x="6360840" y="3997080"/>
              <a:ext cx="133560" cy="56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Овал 43"/>
            <p:cNvSpPr/>
            <p:nvPr/>
          </p:nvSpPr>
          <p:spPr>
            <a:xfrm>
              <a:off x="5929200" y="3214440"/>
              <a:ext cx="1143360" cy="357120"/>
            </a:xfrm>
            <a:prstGeom prst="ellipse">
              <a:avLst/>
            </a:prstGeom>
            <a:solidFill>
              <a:srgbClr val="77933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44"/>
            <p:cNvSpPr/>
            <p:nvPr/>
          </p:nvSpPr>
          <p:spPr>
            <a:xfrm>
              <a:off x="6429240" y="3143160"/>
              <a:ext cx="214200" cy="142560"/>
            </a:xfrm>
            <a:prstGeom prst="ellipse">
              <a:avLst/>
            </a:prstGeom>
            <a:solidFill>
              <a:srgbClr val="4f622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Стрелка вверх 52"/>
          <p:cNvSpPr/>
          <p:nvPr/>
        </p:nvSpPr>
        <p:spPr>
          <a:xfrm>
            <a:off x="2500200" y="5286240"/>
            <a:ext cx="285840" cy="714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верх 53"/>
          <p:cNvSpPr/>
          <p:nvPr/>
        </p:nvSpPr>
        <p:spPr>
          <a:xfrm>
            <a:off x="4429080" y="5286240"/>
            <a:ext cx="285840" cy="714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54"/>
          <p:cNvSpPr/>
          <p:nvPr/>
        </p:nvSpPr>
        <p:spPr>
          <a:xfrm>
            <a:off x="6429240" y="5286240"/>
            <a:ext cx="285840" cy="714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214200" y="85716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40" name="Группа 29"/>
          <p:cNvGrpSpPr/>
          <p:nvPr/>
        </p:nvGrpSpPr>
        <p:grpSpPr>
          <a:xfrm>
            <a:off x="1714680" y="1857240"/>
            <a:ext cx="5786280" cy="1785960"/>
            <a:chOff x="1714680" y="1857240"/>
            <a:chExt cx="5786280" cy="1785960"/>
          </a:xfrm>
        </p:grpSpPr>
        <p:grpSp>
          <p:nvGrpSpPr>
            <p:cNvPr id="141" name="Группа 68"/>
            <p:cNvGrpSpPr/>
            <p:nvPr/>
          </p:nvGrpSpPr>
          <p:grpSpPr>
            <a:xfrm>
              <a:off x="1714680" y="1857240"/>
              <a:ext cx="5786280" cy="1785960"/>
              <a:chOff x="1714680" y="1857240"/>
              <a:chExt cx="5786280" cy="1785960"/>
            </a:xfrm>
          </p:grpSpPr>
          <p:sp>
            <p:nvSpPr>
              <p:cNvPr id="142" name="Прямоугольник 40"/>
              <p:cNvSpPr/>
              <p:nvPr/>
            </p:nvSpPr>
            <p:spPr>
              <a:xfrm>
                <a:off x="3643560" y="1857240"/>
                <a:ext cx="1928520" cy="1785960"/>
              </a:xfrm>
              <a:prstGeom prst="rect">
                <a:avLst/>
              </a:prstGeom>
              <a:solidFill>
                <a:srgbClr val="dce6f2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Прямоугольник 41"/>
              <p:cNvSpPr/>
              <p:nvPr/>
            </p:nvSpPr>
            <p:spPr>
              <a:xfrm>
                <a:off x="1714680" y="1857240"/>
                <a:ext cx="1928880" cy="1785960"/>
              </a:xfrm>
              <a:prstGeom prst="rect">
                <a:avLst/>
              </a:prstGeom>
              <a:solidFill>
                <a:srgbClr val="dce6f2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Прямоугольник 42"/>
              <p:cNvSpPr/>
              <p:nvPr/>
            </p:nvSpPr>
            <p:spPr>
              <a:xfrm>
                <a:off x="5572440" y="1857240"/>
                <a:ext cx="1928520" cy="1785960"/>
              </a:xfrm>
              <a:prstGeom prst="rect">
                <a:avLst/>
              </a:prstGeom>
              <a:solidFill>
                <a:srgbClr val="dce6f2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Группа 27"/>
            <p:cNvGrpSpPr/>
            <p:nvPr/>
          </p:nvGrpSpPr>
          <p:grpSpPr>
            <a:xfrm>
              <a:off x="2071800" y="2142720"/>
              <a:ext cx="5072040" cy="1143000"/>
              <a:chOff x="2071800" y="2142720"/>
              <a:chExt cx="5072040" cy="1143000"/>
            </a:xfrm>
          </p:grpSpPr>
          <p:grpSp>
            <p:nvGrpSpPr>
              <p:cNvPr id="146" name="Группа 26"/>
              <p:cNvGrpSpPr/>
              <p:nvPr/>
            </p:nvGrpSpPr>
            <p:grpSpPr>
              <a:xfrm>
                <a:off x="4000680" y="2142720"/>
                <a:ext cx="1214280" cy="1143000"/>
                <a:chOff x="4000680" y="2142720"/>
                <a:chExt cx="1214280" cy="1143000"/>
              </a:xfrm>
            </p:grpSpPr>
            <p:grpSp>
              <p:nvGrpSpPr>
                <p:cNvPr id="147" name="Группа 49"/>
                <p:cNvGrpSpPr/>
                <p:nvPr/>
              </p:nvGrpSpPr>
              <p:grpSpPr>
                <a:xfrm>
                  <a:off x="4000680" y="2142720"/>
                  <a:ext cx="1214280" cy="1143000"/>
                  <a:chOff x="4000680" y="2142720"/>
                  <a:chExt cx="1214280" cy="1143000"/>
                </a:xfrm>
              </p:grpSpPr>
              <p:sp>
                <p:nvSpPr>
                  <p:cNvPr id="148" name="Овал 50"/>
                  <p:cNvSpPr/>
                  <p:nvPr/>
                </p:nvSpPr>
                <p:spPr>
                  <a:xfrm>
                    <a:off x="4000680" y="2142720"/>
                    <a:ext cx="1214280" cy="1143000"/>
                  </a:xfrm>
                  <a:prstGeom prst="ellipse">
                    <a:avLst/>
                  </a:prstGeom>
                  <a:solidFill>
                    <a:srgbClr val="fdeada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Овал 51"/>
                  <p:cNvSpPr/>
                  <p:nvPr/>
                </p:nvSpPr>
                <p:spPr>
                  <a:xfrm>
                    <a:off x="4357800" y="2428200"/>
                    <a:ext cx="142560" cy="16812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Овал 52"/>
                  <p:cNvSpPr/>
                  <p:nvPr/>
                </p:nvSpPr>
                <p:spPr>
                  <a:xfrm>
                    <a:off x="4714920" y="2428200"/>
                    <a:ext cx="142560" cy="16812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" name="Овал 57"/>
                <p:cNvSpPr/>
                <p:nvPr/>
              </p:nvSpPr>
              <p:spPr>
                <a:xfrm>
                  <a:off x="4429080" y="2714040"/>
                  <a:ext cx="357120" cy="28548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Группа 61"/>
              <p:cNvGrpSpPr/>
              <p:nvPr/>
            </p:nvGrpSpPr>
            <p:grpSpPr>
              <a:xfrm>
                <a:off x="2071800" y="2142720"/>
                <a:ext cx="1214280" cy="1143000"/>
                <a:chOff x="2071800" y="2142720"/>
                <a:chExt cx="1214280" cy="1143000"/>
              </a:xfrm>
            </p:grpSpPr>
            <p:grpSp>
              <p:nvGrpSpPr>
                <p:cNvPr id="153" name="Группа 48"/>
                <p:cNvGrpSpPr/>
                <p:nvPr/>
              </p:nvGrpSpPr>
              <p:grpSpPr>
                <a:xfrm>
                  <a:off x="2071800" y="2142720"/>
                  <a:ext cx="1214280" cy="1143000"/>
                  <a:chOff x="2071800" y="2142720"/>
                  <a:chExt cx="1214280" cy="1143000"/>
                </a:xfrm>
              </p:grpSpPr>
              <p:sp>
                <p:nvSpPr>
                  <p:cNvPr id="154" name="Овал 43"/>
                  <p:cNvSpPr/>
                  <p:nvPr/>
                </p:nvSpPr>
                <p:spPr>
                  <a:xfrm>
                    <a:off x="2071800" y="2142720"/>
                    <a:ext cx="1214280" cy="1143000"/>
                  </a:xfrm>
                  <a:prstGeom prst="ellipse">
                    <a:avLst/>
                  </a:prstGeom>
                  <a:solidFill>
                    <a:srgbClr val="fdeada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Овал 46"/>
                  <p:cNvSpPr/>
                  <p:nvPr/>
                </p:nvSpPr>
                <p:spPr>
                  <a:xfrm>
                    <a:off x="2428920" y="2428200"/>
                    <a:ext cx="142560" cy="16812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Овал 47"/>
                  <p:cNvSpPr/>
                  <p:nvPr/>
                </p:nvSpPr>
                <p:spPr>
                  <a:xfrm>
                    <a:off x="2786040" y="2428200"/>
                    <a:ext cx="142560" cy="16812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Прямая соединительная линия 59"/>
                <p:cNvSpPr/>
                <p:nvPr/>
              </p:nvSpPr>
              <p:spPr>
                <a:xfrm>
                  <a:off x="2500200" y="2856960"/>
                  <a:ext cx="357120" cy="1440"/>
                </a:xfrm>
                <a:prstGeom prst="line">
                  <a:avLst/>
                </a:prstGeom>
                <a:ln w="381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Группа 62"/>
              <p:cNvGrpSpPr/>
              <p:nvPr/>
            </p:nvGrpSpPr>
            <p:grpSpPr>
              <a:xfrm>
                <a:off x="5929560" y="2142720"/>
                <a:ext cx="1214280" cy="1143000"/>
                <a:chOff x="5929560" y="2142720"/>
                <a:chExt cx="1214280" cy="1143000"/>
              </a:xfrm>
            </p:grpSpPr>
            <p:grpSp>
              <p:nvGrpSpPr>
                <p:cNvPr id="159" name="Группа 63"/>
                <p:cNvGrpSpPr/>
                <p:nvPr/>
              </p:nvGrpSpPr>
              <p:grpSpPr>
                <a:xfrm>
                  <a:off x="5929560" y="2142720"/>
                  <a:ext cx="1214280" cy="1143000"/>
                  <a:chOff x="5929560" y="2142720"/>
                  <a:chExt cx="1214280" cy="1143000"/>
                </a:xfrm>
              </p:grpSpPr>
              <p:sp>
                <p:nvSpPr>
                  <p:cNvPr id="160" name="Овал 65"/>
                  <p:cNvSpPr/>
                  <p:nvPr/>
                </p:nvSpPr>
                <p:spPr>
                  <a:xfrm>
                    <a:off x="5929560" y="2142720"/>
                    <a:ext cx="1214280" cy="1143000"/>
                  </a:xfrm>
                  <a:prstGeom prst="ellipse">
                    <a:avLst/>
                  </a:prstGeom>
                  <a:solidFill>
                    <a:srgbClr val="fdeada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Овал 66"/>
                  <p:cNvSpPr/>
                  <p:nvPr/>
                </p:nvSpPr>
                <p:spPr>
                  <a:xfrm>
                    <a:off x="6286680" y="2428200"/>
                    <a:ext cx="142560" cy="16812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Овал 67"/>
                  <p:cNvSpPr/>
                  <p:nvPr/>
                </p:nvSpPr>
                <p:spPr>
                  <a:xfrm>
                    <a:off x="6643800" y="2428200"/>
                    <a:ext cx="142560" cy="16812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Прямая соединительная линия 64"/>
                <p:cNvSpPr/>
                <p:nvPr/>
              </p:nvSpPr>
              <p:spPr>
                <a:xfrm>
                  <a:off x="6357960" y="2856960"/>
                  <a:ext cx="357120" cy="1440"/>
                </a:xfrm>
                <a:prstGeom prst="line">
                  <a:avLst/>
                </a:prstGeom>
                <a:ln w="381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4" name="Овал 69"/>
          <p:cNvSpPr/>
          <p:nvPr/>
        </p:nvSpPr>
        <p:spPr>
          <a:xfrm>
            <a:off x="3857760" y="4143240"/>
            <a:ext cx="1785960" cy="164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70"/>
          <p:cNvSpPr/>
          <p:nvPr/>
        </p:nvSpPr>
        <p:spPr>
          <a:xfrm>
            <a:off x="2000160" y="4286160"/>
            <a:ext cx="1643040" cy="150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71"/>
          <p:cNvSpPr/>
          <p:nvPr/>
        </p:nvSpPr>
        <p:spPr>
          <a:xfrm>
            <a:off x="5857920" y="4286160"/>
            <a:ext cx="1643040" cy="150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4:47:27Z</dcterms:created>
  <dc:creator>Мама</dc:creator>
  <dc:description/>
  <dc:language>en-US</dc:language>
  <cp:lastModifiedBy>27631873</cp:lastModifiedBy>
  <dcterms:modified xsi:type="dcterms:W3CDTF">2010-07-22T08:35:04Z</dcterms:modified>
  <cp:revision>56</cp:revision>
  <dc:subject/>
  <dc:title>Слайд 1</dc:title>
</cp:coreProperties>
</file>