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10.gif" ContentType="image/gif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452B-7163-43BB-B2F0-000D797C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5E46-D9A7-4442-A9A8-F36D9DF0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344C-60CD-4324-99C3-DDDCED0BC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3952-6C63-4644-9720-A346DE7C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B283-EDD5-4FD4-9D0E-C5688A79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325C-E11A-4594-838B-9E611199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7C33-4C56-42FD-88DD-0EC32065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5B96-C1D5-4C3F-B0E5-BDD9E06A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3EFD-587A-4B4E-8A4A-D6946725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91E7-3E46-49B0-A2C3-501CEDB8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196E-7CAF-4451-819E-F89C68ED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7263-440E-4C98-B87F-24BDB189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0F50-E609-4C42-A1D1-E338DEC9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F656-A0C9-491C-A2E7-45256699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3531-F15B-4D7D-945C-726261C2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8016-7C71-426E-B225-E9D3D561D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9A82-4E6C-4767-959B-348B14198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8D4C-BE20-4DA7-99F0-9E8246D6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49A8-7B5A-4233-923E-7CB2A578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F0C4-614E-470D-9C07-1686FF38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559D-4F54-4039-9378-56F9D93C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E6A2-18A8-49F7-95A3-4C9F3F02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B786-D979-4F43-A49E-CDE4E39D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6628-12D5-458E-ABA0-78C3C11C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4F5D-4082-4D35-9A4A-BED341919C6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70D9-AEB8-435C-AA7C-0A3D8515F73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smiles.rc-mir.com/smile.68299.html" TargetMode="Externa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smiles.rc-mir.com/smile.bereich0_136_60.html" TargetMode="External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63640" y="260280"/>
            <a:ext cx="633744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3366"/>
                </a:solidFill>
                <a:latin typeface="Monotype Corsiva"/>
              </a:rPr>
              <a:t>        </a:t>
            </a:r>
            <a:r>
              <a:rPr b="1" lang="en-US" sz="8000" spc="-1" strike="noStrike">
                <a:solidFill>
                  <a:srgbClr val="0000cc"/>
                </a:solidFill>
                <a:latin typeface="Monotype Corsiva"/>
              </a:rPr>
              <a:t>Урок </a:t>
            </a:r>
            <a:endParaRPr b="0" lang="en-US" sz="8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cc"/>
                </a:solidFill>
                <a:latin typeface="Monotype Corsiva"/>
              </a:rPr>
              <a:t>русского языка</a:t>
            </a:r>
            <a:endParaRPr b="0" lang="en-US" sz="8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cc"/>
                </a:solidFill>
                <a:latin typeface="Monotype Corsiva"/>
              </a:rPr>
              <a:t>       </a:t>
            </a:r>
            <a:r>
              <a:rPr b="1" lang="en-US" sz="8000" spc="-1" strike="noStrike">
                <a:solidFill>
                  <a:srgbClr val="0000cc"/>
                </a:solidFill>
                <a:latin typeface="Monotype Corsiva"/>
              </a:rPr>
              <a:t>3 класс</a:t>
            </a:r>
            <a:endParaRPr b="0" lang="en-US" sz="8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87280" y="4941720"/>
            <a:ext cx="8209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Презентация составлена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учителем начальных классов Копцовой Е.А. </a:t>
            </a:r>
            <a:r>
              <a:rPr b="1" lang="de-DE" sz="1200" spc="-1" strike="noStrike">
                <a:solidFill>
                  <a:srgbClr val="003366"/>
                </a:solidFill>
                <a:latin typeface="Monotype Corsiva"/>
              </a:rPr>
              <a:t>elenakopcova@yandex.ru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МОУ «Верейская СОШ» Орехово-Зуевского района Московской облас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11280" y="2205000"/>
            <a:ext cx="2695320" cy="139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627280" y="633240"/>
            <a:ext cx="651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ак запомним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—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род мужской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Гонит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ягкий Знак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 метлой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Женский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род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—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аоборот,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ягкий Знак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в друзья берёт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Замени словосочетание одним словом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Объясни написание слов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773360"/>
            <a:ext cx="88930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Близкий приятель, друг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Сила, могущество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Часть суток от вечера до утра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Двенадцать часов ночи, середина ночи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Молодые люди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Человек, лечащий больных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320"/>
                            </p:stCondLst>
                            <p:childTnLst>
                              <p:par>
                                <p:cTn id="3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5128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85128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268360" y="260280"/>
            <a:ext cx="41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Проверка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84360" y="1052640"/>
            <a:ext cx="5473800" cy="90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Товарищ (м.р.),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мощ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ь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( ж.р.),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оч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(ж.р.),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олноч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ь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ж.р.),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молодеж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(ж.р.),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рач          (м.р.)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      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 rot="20782200">
            <a:off x="0" y="0"/>
            <a:ext cx="2016000" cy="1746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050920" y="0"/>
            <a:ext cx="6553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ыполни упр. 453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о заданию учебника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16360" y="148428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Проверка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3429000"/>
            <a:ext cx="856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133720"/>
            <a:ext cx="9396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Шалаш(м.р.), чиж(м.р.), мыш</a:t>
            </a:r>
            <a:r>
              <a:rPr b="1" lang="en-US" sz="4000" spc="-1" strike="noStrike">
                <a:solidFill>
                  <a:srgbClr val="cc0066"/>
                </a:solidFill>
                <a:latin typeface="Times New Roman"/>
              </a:rPr>
              <a:t>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cc0066"/>
                </a:solidFill>
                <a:latin typeface="Times New Roman"/>
              </a:rPr>
              <a:t>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р.),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ёрш(м.р.), грач(м.р.), вещ</a:t>
            </a:r>
            <a:r>
              <a:rPr b="1" lang="en-US" sz="4000" spc="-1" strike="noStrike">
                <a:solidFill>
                  <a:srgbClr val="cc0066"/>
                </a:solidFill>
                <a:latin typeface="Times New Roman"/>
              </a:rPr>
              <a:t>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cc0066"/>
                </a:solidFill>
                <a:latin typeface="Times New Roman"/>
              </a:rPr>
              <a:t>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р.),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лащ(м.р.), ноч</a:t>
            </a:r>
            <a:r>
              <a:rPr b="1" lang="en-US" sz="4000" spc="-1" strike="noStrike">
                <a:solidFill>
                  <a:srgbClr val="cc0066"/>
                </a:solidFill>
                <a:latin typeface="Times New Roman"/>
              </a:rPr>
              <a:t>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cc0066"/>
                </a:solidFill>
                <a:latin typeface="Times New Roman"/>
              </a:rPr>
              <a:t>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р.), мяч(м.р.),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ож(м.р.), лещ(м.р.), камыш(м.р.),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вощ(м.р.)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600"/>
                            </p:stCondLst>
                            <p:childTnLst>
                              <p:par>
                                <p:cTn id="3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20782200">
            <a:off x="755640" y="620280"/>
            <a:ext cx="2232000" cy="1933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84360" y="2997360"/>
            <a:ext cx="7848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читаем правила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 учебнике на стр. 170 и 17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680"/>
                            </p:stCondLst>
                            <p:childTnLst>
                              <p:par>
                                <p:cTn id="4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268360" y="0"/>
            <a:ext cx="41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Вывод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4000" y="620640"/>
            <a:ext cx="8820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а конце существительных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женского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ода  после шипящих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пишется Ь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знак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а конце существительных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мужского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ода после шипящих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Ь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знак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не пишется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50920" y="2349360"/>
            <a:ext cx="849780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cc"/>
                </a:solidFill>
                <a:latin typeface="Monotype Corsiva"/>
              </a:rPr>
              <a:t>Задание на дом.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Выучить правила</a:t>
            </a:r>
            <a:r>
              <a:rPr b="1" lang="en-US" sz="6600" spc="-1" strike="noStrike">
                <a:solidFill>
                  <a:srgbClr val="003366"/>
                </a:solidFill>
                <a:latin typeface="Monotype Corsiva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на стр.</a:t>
            </a:r>
            <a:r>
              <a:rPr b="1" lang="en-US" sz="6600" spc="-1" strike="noStrike">
                <a:solidFill>
                  <a:srgbClr val="003366"/>
                </a:solidFill>
                <a:latin typeface="Monotype Corsiva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170, 171, упр.457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 rot="304800">
            <a:off x="6012000" y="0"/>
            <a:ext cx="2868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60"/>
                            </p:stCondLst>
                            <p:childTnLst>
                              <p:par>
                                <p:cTn id="4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2781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http://smiles.rc-mir.com/smile.bereich0_136_60.htm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-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нимация книг, еж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9144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                           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Источн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рок составлен на основе книги М.В. Сергеево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Веселые подсказки. Русский язык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т странный Мягкий Знак». Издат.»Белый город»2004г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789360"/>
            <a:ext cx="777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ебник Т.Г. Рамзаева. Русский язык. 3к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дательство «Дрофа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 rot="10800000">
            <a:off x="259920" y="5013360"/>
            <a:ext cx="888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meinfish.ru/ersch.php- картинка ерш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 rot="10800000">
            <a:off x="178920" y="5589720"/>
            <a:ext cx="81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lenagold.ru/ -картинка карандаш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 rot="10800000">
            <a:off x="250560" y="6165720"/>
            <a:ext cx="81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ачано на сайте http://www.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russisch-fuer-kinder.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11280" y="476280"/>
            <a:ext cx="7993080" cy="66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66"/>
                </a:solidFill>
                <a:latin typeface="Monotype Corsiva"/>
              </a:rPr>
              <a:t>              </a:t>
            </a:r>
            <a:r>
              <a:rPr b="1" lang="en-US" sz="6600" spc="-1" strike="noStrike">
                <a:solidFill>
                  <a:srgbClr val="0000cc"/>
                </a:solidFill>
                <a:latin typeface="Monotype Corsiva"/>
              </a:rPr>
              <a:t>Тема: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cc"/>
                </a:solidFill>
                <a:latin typeface="Monotype Corsiva"/>
              </a:rPr>
              <a:t> </a:t>
            </a:r>
            <a:r>
              <a:rPr b="1" lang="en-US" sz="6600" spc="-1" strike="noStrike">
                <a:solidFill>
                  <a:srgbClr val="0000cc"/>
                </a:solidFill>
                <a:latin typeface="Monotype Corsiva"/>
              </a:rPr>
              <a:t>«Мягкий знак на конце существительных после         шипящих».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763640" y="1557360"/>
            <a:ext cx="5915160" cy="3400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08000" y="5157720"/>
            <a:ext cx="60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cc"/>
                </a:solidFill>
                <a:latin typeface="Monotype Corsiva"/>
              </a:rPr>
              <a:t>о Мягком Знаке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cc"/>
                </a:solidFill>
                <a:latin typeface="Monotype Corsiva"/>
              </a:rPr>
              <a:t>Сказка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5472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я ночЬ,вещЬ и рожЬ,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я дочЬ, печЬ, брошЬ,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и дорогие, красивые,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ам нужна моя помощЬ,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юбимые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Выпишите</a:t>
            </a: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слова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с мягким знаком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на конце слова и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подчеркните его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788000" y="2565360"/>
            <a:ext cx="4133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6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6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40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16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1125360"/>
            <a:ext cx="84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астрогались добрые существительные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               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ЖЕНСКОГО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ода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 окончанием в корне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Ч, Щ, Ж, Ш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 согласились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дружить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 Мягким Знаком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567720" y="99720"/>
            <a:ext cx="8012520" cy="13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Запишите слова и объясните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            их написание.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00000" y="2349360"/>
            <a:ext cx="374328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иш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ь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ч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ь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ыш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ь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елоч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ь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749480" y="2349000"/>
            <a:ext cx="3770280" cy="37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луш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ь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ож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ь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ч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ь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рож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ь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492360" y="3141720"/>
            <a:ext cx="5362560" cy="2305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50920" y="0"/>
            <a:ext cx="806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ой товарищ, врач, скрипач,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Ключ, гараж, кумач и грач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Хочу я с вами поиграть,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Хочу в конце у вас стоять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537372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Выпишите</a:t>
            </a: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слова,оканчивающиеся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на шипящие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187280" y="836640"/>
            <a:ext cx="7201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765000"/>
            <a:ext cx="8820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о сильные существительные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МУЖСКОГО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ода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не захотели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ерять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вою твёрдость. Они сказали Мягкому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знаку: « Пожалуйста, никогда не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иставай к нам»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68360" y="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Отгадай загадки, напиши отгадки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Объясни их правописание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268280"/>
            <a:ext cx="54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Под соснами, под ёлками лежит мешок с иголкам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421000"/>
            <a:ext cx="5076720" cy="31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Драчун и забияка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е знает страха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живет в воде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осит иглы на спин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508640"/>
            <a:ext cx="76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Умный Ивашка, красная рубашка, Где пройдет –коснётся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589720"/>
            <a:ext cx="47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ам след остаётс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84720" y="14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Ёж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80000" y="25653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ёрш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5445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карандаш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7236000" y="1268280"/>
            <a:ext cx="1028520" cy="981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7238880" y="5300640"/>
            <a:ext cx="1905120" cy="1238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540480" y="2565360"/>
            <a:ext cx="260352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20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05:11:50Z</dcterms:created>
  <dc:creator>User</dc:creator>
  <dc:description/>
  <dc:language>en-US</dc:language>
  <cp:lastModifiedBy>Polina Sorel</cp:lastModifiedBy>
  <dcterms:modified xsi:type="dcterms:W3CDTF">2009-07-25T15:58:15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