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4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7523-B1B2-42BE-9F2E-6F6567EBEC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7748-29F4-459F-B047-7C51F1D7632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3EA3-FDB1-4BD2-8875-84AA3A2F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59AA-B75C-4651-A3FF-527C0969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D18B-6385-4A99-B9AE-4448A9D1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9F91-67B0-4715-8A7C-5231147E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7B8E-E338-4DE6-A0BE-50D8A6F5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96CD-A6C0-4E80-9D09-48F073AB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16D9-FE58-41A0-A4FD-6CF09571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822A-5FB7-4F21-8CD0-87270291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477B-F508-4DED-904C-B574057C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E001-8382-4175-AEB6-18DEA3C2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B50B-B2A3-45CE-B259-388C2352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49DF-66E2-4A1A-84D3-A327268C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CC9F-D571-4AB4-9F75-1D8C07D0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B321-98D7-4C0B-8672-9D430EB8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8692-94A4-4D0F-AFB9-44FE3C33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A5B6-34C3-4603-9374-C21B8A15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5616-1E7A-46BB-85F6-29875EBF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1915-2FD4-4B4C-9159-AE1109E0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974F-B041-4560-AC78-D320D643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A1FB-AD48-4A30-BAE8-93699F94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C567-C5F9-4664-BEF7-1A87ECB6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B13F-A2DE-4BF3-A7C6-17EB8C66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6177-55C6-4FCA-B702-80F5CF01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58F4-AB38-4C9D-94DA-5D097350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C474-1D3B-4C15-ACC6-16916B2CC73A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ЗО Шишлянникова Е.В. г. Дубна Московской об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9C2E-C4F8-471C-9DFD-53A21D75C46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1B05-4239-484A-A5F2-09252E367D1A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ЗО Шишлянникова Е.В. г. Дубна Московской об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053F-B27D-4466-9878-8EE035A5D2AC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182520" y="914400"/>
            <a:ext cx="9010800" cy="2554200"/>
          </a:xfrm>
          <a:prstGeom prst="rect">
            <a:avLst/>
          </a:prstGeom>
          <a:ln w="0">
            <a:noFill/>
          </a:ln>
        </p:spPr>
      </p:pic>
      <p:sp>
        <p:nvSpPr>
          <p:cNvPr id="90" name="Нижний колонтитул 3"/>
          <p:cNvSpPr/>
          <p:nvPr/>
        </p:nvSpPr>
        <p:spPr>
          <a:xfrm>
            <a:off x="2819520" y="5257800"/>
            <a:ext cx="3733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cbcbc"/>
                </a:solidFill>
                <a:latin typeface="Times New Roman"/>
              </a:rPr>
              <a:t>учитель ИЗО Шишлянникова Е.В. г. Дубна Московской об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Amanda.wma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Содержимое 3" descr="сказ2.jpg"/>
          <p:cNvPicPr/>
          <p:nvPr/>
        </p:nvPicPr>
        <p:blipFill>
          <a:blip r:embed="rId2"/>
          <a:stretch/>
        </p:blipFill>
        <p:spPr>
          <a:xfrm>
            <a:off x="0" y="0"/>
            <a:ext cx="9132840" cy="68500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4515120" y="304920"/>
            <a:ext cx="4617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А здесь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ы видите целый гор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нем каждый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дом-сказ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Нижний колонтитул 5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ЗО Шишлянникова Е.В. г. Дубна Московской об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E:\домики -образы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5574960" y="0"/>
            <a:ext cx="343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омик-Башма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3195000" y="1066680"/>
            <a:ext cx="303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Домик-Гри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229320" y="5486400"/>
            <a:ext cx="35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Times New Roman"/>
              </a:rPr>
              <a:t>Домик -Тык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ЗО Шишлянникова Е.В. г. Дубна Московской об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доимик6.jpg"/>
          <p:cNvPicPr/>
          <p:nvPr/>
        </p:nvPicPr>
        <p:blipFill>
          <a:blip r:embed="rId2"/>
          <a:stretch/>
        </p:blipFill>
        <p:spPr>
          <a:xfrm>
            <a:off x="533520" y="1143000"/>
            <a:ext cx="4343400" cy="57150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2" descr="домик5.jpg"/>
          <p:cNvPicPr/>
          <p:nvPr/>
        </p:nvPicPr>
        <p:blipFill>
          <a:blip r:embed="rId3"/>
          <a:stretch/>
        </p:blipFill>
        <p:spPr>
          <a:xfrm>
            <a:off x="5029200" y="1143000"/>
            <a:ext cx="3703680" cy="5715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E:\домик4.jpg"/>
          <p:cNvPicPr/>
          <p:nvPr/>
        </p:nvPicPr>
        <p:blipFill>
          <a:blip r:embed="rId4"/>
          <a:stretch/>
        </p:blipFill>
        <p:spPr>
          <a:xfrm>
            <a:off x="4343400" y="1143000"/>
            <a:ext cx="4800600" cy="571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E:\домик 2.jpg"/>
          <p:cNvPicPr/>
          <p:nvPr/>
        </p:nvPicPr>
        <p:blipFill>
          <a:blip r:embed="rId5"/>
          <a:stretch/>
        </p:blipFill>
        <p:spPr>
          <a:xfrm>
            <a:off x="228600" y="1066680"/>
            <a:ext cx="4495680" cy="57913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304920" y="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Эти домики художники слепили из гли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Нижний колонтитул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ЗО Шишлянникова Е.В. г. Дубна Московской об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домик1.jpg"/>
          <p:cNvPicPr/>
          <p:nvPr/>
        </p:nvPicPr>
        <p:blipFill>
          <a:blip r:embed="rId2"/>
          <a:stretch/>
        </p:blipFill>
        <p:spPr>
          <a:xfrm>
            <a:off x="0" y="0"/>
            <a:ext cx="924732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E:\домик7.jpg"/>
          <p:cNvPicPr/>
          <p:nvPr/>
        </p:nvPicPr>
        <p:blipFill>
          <a:blip r:embed="rId3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Нижний колонтитул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ЗО Шишлянникова Е.В. г. Дубна Московской об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5" descr="2008_0524детработыучителя0019.JPG"/>
          <p:cNvPicPr/>
          <p:nvPr/>
        </p:nvPicPr>
        <p:blipFill>
          <a:blip r:embed="rId2"/>
          <a:stretch/>
        </p:blipFill>
        <p:spPr>
          <a:xfrm>
            <a:off x="2590920" y="0"/>
            <a:ext cx="5238720" cy="69850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8" descr="2008_0524детработыучителя0020.JPG"/>
          <p:cNvPicPr/>
          <p:nvPr/>
        </p:nvPicPr>
        <p:blipFill>
          <a:blip r:embed="rId3"/>
          <a:stretch/>
        </p:blipFill>
        <p:spPr>
          <a:xfrm>
            <a:off x="2590920" y="0"/>
            <a:ext cx="514332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7" descr="2008_0524детработыучителя0021.JPG"/>
          <p:cNvPicPr/>
          <p:nvPr/>
        </p:nvPicPr>
        <p:blipFill>
          <a:blip r:embed="rId4"/>
          <a:stretch/>
        </p:blipFill>
        <p:spPr>
          <a:xfrm>
            <a:off x="2514600" y="0"/>
            <a:ext cx="560088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0" descr="2008_0524детработыучителя0022.JPG"/>
          <p:cNvPicPr/>
          <p:nvPr/>
        </p:nvPicPr>
        <p:blipFill>
          <a:blip r:embed="rId5"/>
          <a:stretch/>
        </p:blipFill>
        <p:spPr>
          <a:xfrm>
            <a:off x="2590920" y="0"/>
            <a:ext cx="5410080" cy="72136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3" descr="2008_0524детработыучителя0028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6" descr="2008_0524детработыучителя0027.JP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Нижний колонтитул 17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ЗО Шишлянникова Е.В. г. Дубна Московской об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9"/>
          <p:cNvSpPr/>
          <p:nvPr/>
        </p:nvSpPr>
        <p:spPr>
          <a:xfrm>
            <a:off x="423360" y="6095880"/>
            <a:ext cx="86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 эти домики слепили ученики 2 класс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2" descr="2008_0524детработыучителя002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" descr="2008_0524детработыучителя0025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5" descr="2008_0524детработыучителя0018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4" descr="2008_0524детработыучителя0023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ЗО Шишлянникова Е.В. г. Дубна Московской об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1780200" y="380880"/>
            <a:ext cx="612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ни очень старались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1" descr="2008_0524детработыучителя003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2" descr="2008_0524детработыучителя003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3" descr="2008_0524детработыучителя0032.JPG"/>
          <p:cNvPicPr/>
          <p:nvPr/>
        </p:nvPicPr>
        <p:blipFill>
          <a:blip r:embed="rId4"/>
          <a:stretch/>
        </p:blipFill>
        <p:spPr>
          <a:xfrm>
            <a:off x="-527040" y="0"/>
            <a:ext cx="967104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Нижний колонтитул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ЗО Шишлянникова Е.В. г. Дубна Московской об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Прямоугольник 2" descr=""/>
          <p:cNvPicPr/>
          <p:nvPr/>
        </p:nvPicPr>
        <p:blipFill>
          <a:blip r:embed="rId2"/>
          <a:stretch/>
        </p:blipFill>
        <p:spPr>
          <a:xfrm>
            <a:off x="146160" y="493560"/>
            <a:ext cx="8759880" cy="434052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ЗО Шишлянникова Е.В. г. Дубна Московской об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088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a123-3.narod.ru/jy09.jp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t.foto.radikal.ru/0705/b6/92fad75ec0a3.jp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allday.ru/uploads/posts/2008-10/1223577932_20a2b583c74a-kopija.jp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Нижний колонтитул 3"/>
          <p:cNvSpPr/>
          <p:nvPr/>
        </p:nvSpPr>
        <p:spPr>
          <a:xfrm>
            <a:off x="609480" y="44956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cbcbc"/>
                </a:solidFill>
                <a:latin typeface="Arial"/>
              </a:rPr>
              <a:t>Материал подготовил </a:t>
            </a:r>
            <a:r>
              <a:rPr b="1" lang="ru-RU" sz="2000" spc="-1" strike="noStrike">
                <a:solidFill>
                  <a:srgbClr val="bcbcbc"/>
                </a:solidFill>
                <a:latin typeface="Times New Roman"/>
              </a:rPr>
              <a:t>учитель ИЗО Шишлянникова Е.В. г. Дубна Московской об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cbcbc"/>
                </a:solidFill>
                <a:latin typeface="Arial"/>
              </a:rPr>
              <a:t>Презентация скачена с сайта </a:t>
            </a:r>
            <a:r>
              <a:rPr b="1" lang="de-DE" sz="2000" spc="-1" strike="noStrike">
                <a:solidFill>
                  <a:srgbClr val="bcbcbc"/>
                </a:solidFill>
                <a:latin typeface="Arial"/>
              </a:rPr>
              <a:t>www.russisch-fuer-kinder.de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cbcbc"/>
                </a:solidFill>
                <a:latin typeface="Arial"/>
              </a:rPr>
              <a:t>РУССКИЙ ЯЗЫК ЗА ГРАНИЦЕЙ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Выноска-облако 5"/>
          <p:cNvSpPr/>
          <p:nvPr/>
        </p:nvSpPr>
        <p:spPr>
          <a:xfrm>
            <a:off x="152280" y="0"/>
            <a:ext cx="5181840" cy="40384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7e6bc9"/>
          </a:solidFill>
          <a:ln w="25560">
            <a:solidFill>
              <a:srgbClr val="5b4d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4560" y="456840"/>
            <a:ext cx="46479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Сейчас вам предстоит  прогуляться немного и посмотреть какие же сказочные домики построили и нарисовали сказочные мастер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Нижний колонтитул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ЗО Шишлянникова Е.В. г. Дубна Московской об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5232240" y="152280"/>
            <a:ext cx="39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орабль -ЗАМ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Нижний колонтитул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ЗО Шишлянникова Е.В. г. Дубна Московской об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Содержимое 3" descr="сказка3.jpg"/>
          <p:cNvPicPr/>
          <p:nvPr/>
        </p:nvPicPr>
        <p:blipFill>
          <a:blip r:embed="rId2"/>
          <a:stretch/>
        </p:blipFill>
        <p:spPr>
          <a:xfrm>
            <a:off x="0" y="22320"/>
            <a:ext cx="9144000" cy="6939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457200" y="457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Домик с «грибными» крыша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 лягушками у входа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ЗО Шишлянникова Е.В. г. Дубна Московской об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Содержимое 3" descr="сказочный замок.jpg"/>
          <p:cNvPicPr/>
          <p:nvPr/>
        </p:nvPicPr>
        <p:blipFill>
          <a:blip r:embed="rId2"/>
          <a:stretch/>
        </p:blipFill>
        <p:spPr>
          <a:xfrm>
            <a:off x="-52560" y="-3240"/>
            <a:ext cx="9196560" cy="69548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чень красивый замок…наверное, там живет Добрая Фея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Нижний колонтитул 5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ЗО Шишлянникова Е.В. г. Дубна Московской об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Содержимое 3" descr="сказка1.jpeg"/>
          <p:cNvPicPr/>
          <p:nvPr/>
        </p:nvPicPr>
        <p:blipFill>
          <a:blip r:embed="rId2"/>
          <a:stretch/>
        </p:blipFill>
        <p:spPr>
          <a:xfrm>
            <a:off x="11160" y="0"/>
            <a:ext cx="9132840" cy="68500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234000" y="5638680"/>
            <a:ext cx="88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одумайте…Кто может жить в этих сказочных ДОМИКАХ…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Нижний колонтитул 5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ЗО Шишлянникова Е.В. г. Дубна Московской об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Users\User\Desktop\сказочный домик\фотомонтаж.jpg"/>
          <p:cNvPicPr/>
          <p:nvPr/>
        </p:nvPicPr>
        <p:blipFill>
          <a:blip r:embed="rId2"/>
          <a:stretch/>
        </p:blipFill>
        <p:spPr>
          <a:xfrm>
            <a:off x="0" y="46080"/>
            <a:ext cx="9205920" cy="6811920"/>
          </a:xfrm>
          <a:prstGeom prst="rect">
            <a:avLst/>
          </a:prstGeom>
          <a:ln w="0">
            <a:noFill/>
          </a:ln>
        </p:spPr>
      </p:pic>
      <p:sp>
        <p:nvSpPr>
          <p:cNvPr id="110" name="Нижний колонтитул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ЗО Шишлянникова Е.В. г. Дубна Московской об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2530080" y="609480"/>
            <a:ext cx="324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 здесь кто жив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к вы думаете..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Содержимое 3" descr="грибы.jpg"/>
          <p:cNvPicPr/>
          <p:nvPr/>
        </p:nvPicPr>
        <p:blipFill>
          <a:blip r:embed="rId2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165240" y="380880"/>
            <a:ext cx="871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смотрите…это целое семейство грибных домик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 окошками и главным входом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Нижний колонтитул 5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ЗО Шишлянникова Е.В. г. Дубна Московской об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Содержимое 3" descr="дом-морковка.jpg"/>
          <p:cNvPicPr/>
          <p:nvPr/>
        </p:nvPicPr>
        <p:blipFill>
          <a:blip r:embed="rId2"/>
          <a:stretch/>
        </p:blipFill>
        <p:spPr>
          <a:xfrm>
            <a:off x="0" y="-4932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919800" y="990720"/>
            <a:ext cx="68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Какой интересный ДОМ-МОРКОВКА…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Нижний колонтитул 5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ЗО Шишлянникова Е.В. г. Дубна Московской об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23:40Z</dcterms:created>
  <dc:creator>User</dc:creator>
  <dc:description/>
  <dc:language>en-US</dc:language>
  <cp:lastModifiedBy>Polina Sorel</cp:lastModifiedBy>
  <dcterms:modified xsi:type="dcterms:W3CDTF">2009-07-25T18:56:41Z</dcterms:modified>
  <cp:revision>27</cp:revision>
  <dc:subject/>
  <dc:title>Дом, где живет сказка…</dc:title>
</cp:coreProperties>
</file>