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F7C7-2DE9-46DB-9C76-AA1EC5FF2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B44-FD3E-40BB-9C7C-A8837E46E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11D-8F36-4945-BDD7-37BA1E08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407-659A-4232-AAE0-9376C93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007-423D-42CE-A896-5D9DD2E2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FE7-853F-4B24-8550-446E6B6A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3EA-22E9-4708-8EFF-CF1EF40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10E-CCCA-4393-95C1-32B9A96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F56-6206-49B8-9F98-E7710CCB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F45-531A-44CA-B378-C84DE391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B5E-03CB-45E1-B75D-299F8741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4C4-EFC8-4484-B9EC-88BAEEE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19D-59A3-4F04-B966-E74C8A20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ED3-98E9-4714-B143-2B6FD52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DBFC-A468-4672-98DC-8D8C13805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к урокам чтения, рус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286000" y="357192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гимназия №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академика Н.Н. Боголюб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ужной Галины Пет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143000" y="2074320"/>
            <a:ext cx="72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День и ноч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14200" y="1143000"/>
            <a:ext cx="70725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 апрель, и значит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 теплее станет!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оньки и лыжи спрячем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елосипед достанем!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ки ярки у апреля -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дь взяла природа кисти,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тоб зелёной акварелью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ить травку, ветки, листья!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им с радостью в апреле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теклом оконным нашим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проснувшейся капели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бетанье милых пташек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рель 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ья Ивано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4724" t="0" r="4724" b="5673"/>
          <a:stretch/>
        </p:blipFill>
        <p:spPr>
          <a:xfrm>
            <a:off x="5500800" y="1857240"/>
            <a:ext cx="323352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рель 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ья Ивано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Группа 11"/>
          <p:cNvGrpSpPr/>
          <p:nvPr/>
        </p:nvGrpSpPr>
        <p:grpSpPr>
          <a:xfrm>
            <a:off x="214200" y="1143000"/>
            <a:ext cx="8520120" cy="6032880"/>
            <a:chOff x="214200" y="1143000"/>
            <a:chExt cx="8520120" cy="6032880"/>
          </a:xfrm>
        </p:grpSpPr>
        <p:sp>
          <p:nvSpPr>
            <p:cNvPr id="109" name="Прямоугольник 1"/>
            <p:cNvSpPr/>
            <p:nvPr/>
          </p:nvSpPr>
          <p:spPr>
            <a:xfrm>
              <a:off x="214200" y="1143000"/>
              <a:ext cx="7071840" cy="60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тупил апрель, и значит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конец теплее станет!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коньки и лыжи спрячем,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велосипед достанем!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Краски ярки у апреля -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Ведь взяла природа кисти,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Чтоб зелёной акварелью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Красить травку, ветки, листья!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ышим с радостью в апреле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стеклом оконным нашим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он проснувшейся капели,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Щебетанье милых пташек.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2" descr=""/>
            <p:cNvPicPr/>
            <p:nvPr/>
          </p:nvPicPr>
          <p:blipFill>
            <a:blip r:embed="rId1"/>
            <a:srcRect l="4724" t="0" r="4724" b="5673"/>
            <a:stretch/>
          </p:blipFill>
          <p:spPr>
            <a:xfrm>
              <a:off x="5500440" y="1857240"/>
              <a:ext cx="3233880" cy="239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Прямоугольник 9"/>
          <p:cNvSpPr/>
          <p:nvPr/>
        </p:nvSpPr>
        <p:spPr>
          <a:xfrm>
            <a:off x="2714760" y="2214720"/>
            <a:ext cx="100008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071800" y="1285920"/>
            <a:ext cx="128592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286000" y="3571920"/>
            <a:ext cx="142884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1857240" y="4500720"/>
            <a:ext cx="121464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2357280" y="6286680"/>
            <a:ext cx="114300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785880" y="5357880"/>
            <a:ext cx="142884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714240" y="2643120"/>
            <a:ext cx="1714680" cy="357120"/>
          </a:xfrm>
          <a:prstGeom prst="rect">
            <a:avLst/>
          </a:prstGeom>
          <a:solidFill>
            <a:srgbClr val="4f6228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рель 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ья Иванов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2071800" y="1285920"/>
            <a:ext cx="128592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18"/>
          <p:cNvGrpSpPr/>
          <p:nvPr/>
        </p:nvGrpSpPr>
        <p:grpSpPr>
          <a:xfrm>
            <a:off x="214200" y="1143000"/>
            <a:ext cx="8663040" cy="6032880"/>
            <a:chOff x="214200" y="1143000"/>
            <a:chExt cx="8663040" cy="603288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rcRect l="4724" t="0" r="4724" b="5673"/>
            <a:stretch/>
          </p:blipFill>
          <p:spPr>
            <a:xfrm>
              <a:off x="5643000" y="1928880"/>
              <a:ext cx="3234240" cy="23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Прямоугольник 1"/>
            <p:cNvSpPr/>
            <p:nvPr/>
          </p:nvSpPr>
          <p:spPr>
            <a:xfrm>
              <a:off x="214200" y="1143000"/>
              <a:ext cx="7071840" cy="60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тупил апрель, и значит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конец теплее станет!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коньки и лыжи спрячем,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велосипед достанем!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Краски ярки у апреля -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Ведь взяла природа кисти,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Чтоб зелёной акварелью</a:t>
              </a:r>
              <a:br>
                <a:rPr sz="3000"/>
              </a:br>
              <a:r>
                <a:rPr b="1" lang="ru-RU" sz="3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Красить травку, ветки, листья!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ышим с радостью в апреле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стеклом оконным нашим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вон проснувшейся капели,</a:t>
              </a:r>
              <a:br>
                <a:rPr sz="3000"/>
              </a:b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Щебетанье милых пташек.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10"/>
          <p:cNvSpPr/>
          <p:nvPr/>
        </p:nvSpPr>
        <p:spPr>
          <a:xfrm>
            <a:off x="3143160" y="1714680"/>
            <a:ext cx="107172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214200" y="1285920"/>
            <a:ext cx="171468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285840" y="4500720"/>
            <a:ext cx="142884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3857760" y="2214720"/>
            <a:ext cx="142848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2500200" y="2643120"/>
            <a:ext cx="157176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1214280" y="3571920"/>
            <a:ext cx="92880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6"/>
          <p:cNvSpPr/>
          <p:nvPr/>
        </p:nvSpPr>
        <p:spPr>
          <a:xfrm>
            <a:off x="285840" y="4929120"/>
            <a:ext cx="157140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0" y="3571920"/>
            <a:ext cx="142884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1857240" y="4500720"/>
            <a:ext cx="121464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357280" y="6286680"/>
            <a:ext cx="114300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785880" y="5357880"/>
            <a:ext cx="142884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714240" y="2643120"/>
            <a:ext cx="171468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2714760" y="2214720"/>
            <a:ext cx="100008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9"/>
          <p:cNvSpPr/>
          <p:nvPr/>
        </p:nvSpPr>
        <p:spPr>
          <a:xfrm>
            <a:off x="2071800" y="1285920"/>
            <a:ext cx="1285920" cy="357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рисую  солнце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ьга Чусови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Группа 4"/>
          <p:cNvGrpSpPr/>
          <p:nvPr/>
        </p:nvGrpSpPr>
        <p:grpSpPr>
          <a:xfrm>
            <a:off x="285840" y="1143000"/>
            <a:ext cx="8334360" cy="5730120"/>
            <a:chOff x="285840" y="1143000"/>
            <a:chExt cx="8334360" cy="5730120"/>
          </a:xfrm>
        </p:grpSpPr>
        <p:sp>
          <p:nvSpPr>
            <p:cNvPr id="139" name="Прямоугольник 1"/>
            <p:cNvSpPr/>
            <p:nvPr/>
          </p:nvSpPr>
          <p:spPr>
            <a:xfrm>
              <a:off x="285840" y="1143000"/>
              <a:ext cx="6572160" cy="57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окошком дождик льёт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инутам день ползёт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оело долго ждать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у солнце рисовать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исую солнце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клею на оконце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ло в комнате светлей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азу стало веселей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 скажу вам, не тая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ть без солнышка нельзя!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5500800" y="1785960"/>
              <a:ext cx="3119400" cy="311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рисую  солнце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ьга Чусови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Группа 4"/>
          <p:cNvGrpSpPr/>
          <p:nvPr/>
        </p:nvGrpSpPr>
        <p:grpSpPr>
          <a:xfrm>
            <a:off x="285840" y="1143000"/>
            <a:ext cx="8334360" cy="5730120"/>
            <a:chOff x="285840" y="1143000"/>
            <a:chExt cx="8334360" cy="5730120"/>
          </a:xfrm>
        </p:grpSpPr>
        <p:sp>
          <p:nvSpPr>
            <p:cNvPr id="143" name="Прямоугольник 1"/>
            <p:cNvSpPr/>
            <p:nvPr/>
          </p:nvSpPr>
          <p:spPr>
            <a:xfrm>
              <a:off x="285840" y="1143000"/>
              <a:ext cx="6572160" cy="57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окошком дождик льёт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инутам день ползёт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оело долго ждать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у солнце рисовать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исую солнце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клею на оконце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ло в комнате светлей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азу стало веселей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 скажу вам, не тая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ть без солнышка нельзя!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2" descr=""/>
            <p:cNvPicPr/>
            <p:nvPr/>
          </p:nvPicPr>
          <p:blipFill>
            <a:blip r:embed="rId1"/>
            <a:stretch/>
          </p:blipFill>
          <p:spPr>
            <a:xfrm>
              <a:off x="5500800" y="1785960"/>
              <a:ext cx="3119400" cy="31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Прямоугольник 5"/>
          <p:cNvSpPr/>
          <p:nvPr/>
        </p:nvSpPr>
        <p:spPr>
          <a:xfrm>
            <a:off x="2643120" y="1500120"/>
            <a:ext cx="13575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1000080" y="2000160"/>
            <a:ext cx="15717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1357200" y="3000240"/>
            <a:ext cx="12146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2786040" y="4000680"/>
            <a:ext cx="12146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1928880" y="4429080"/>
            <a:ext cx="150012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2143080" y="6000840"/>
            <a:ext cx="192888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рисую  солнце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ьга Чусови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Группа 4"/>
          <p:cNvGrpSpPr/>
          <p:nvPr/>
        </p:nvGrpSpPr>
        <p:grpSpPr>
          <a:xfrm>
            <a:off x="285840" y="1143000"/>
            <a:ext cx="8334360" cy="5730120"/>
            <a:chOff x="285840" y="1143000"/>
            <a:chExt cx="8334360" cy="5730120"/>
          </a:xfrm>
        </p:grpSpPr>
        <p:sp>
          <p:nvSpPr>
            <p:cNvPr id="153" name="Прямоугольник 1"/>
            <p:cNvSpPr/>
            <p:nvPr/>
          </p:nvSpPr>
          <p:spPr>
            <a:xfrm>
              <a:off x="285840" y="1143000"/>
              <a:ext cx="6572160" cy="57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окошком дождик льёт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минутам день ползёт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оело долго ждать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у солнце рисовать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исую солнце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клею на оконце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ло в комнате светлей,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азу стало веселей.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 скажу вам, не тая -</a:t>
              </a:r>
              <a:br>
                <a:rPr sz="3200"/>
              </a:b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ть без солнышка нельзя!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" descr=""/>
            <p:cNvPicPr/>
            <p:nvPr/>
          </p:nvPicPr>
          <p:blipFill>
            <a:blip r:embed="rId1"/>
            <a:stretch/>
          </p:blipFill>
          <p:spPr>
            <a:xfrm>
              <a:off x="5500800" y="1785960"/>
              <a:ext cx="3119400" cy="31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Прямоугольник 5"/>
          <p:cNvSpPr/>
          <p:nvPr/>
        </p:nvSpPr>
        <p:spPr>
          <a:xfrm>
            <a:off x="2643120" y="1500120"/>
            <a:ext cx="13575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1000080" y="2000160"/>
            <a:ext cx="157176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357200" y="3000240"/>
            <a:ext cx="12146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2786040" y="4000680"/>
            <a:ext cx="12146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1928880" y="4500720"/>
            <a:ext cx="150012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0"/>
          <p:cNvSpPr/>
          <p:nvPr/>
        </p:nvSpPr>
        <p:spPr>
          <a:xfrm>
            <a:off x="2143080" y="6000840"/>
            <a:ext cx="192888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1"/>
          <p:cNvSpPr/>
          <p:nvPr/>
        </p:nvSpPr>
        <p:spPr>
          <a:xfrm>
            <a:off x="4143240" y="1571760"/>
            <a:ext cx="78588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428760" y="3500280"/>
            <a:ext cx="1571400" cy="35748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3"/>
          <p:cNvSpPr/>
          <p:nvPr/>
        </p:nvSpPr>
        <p:spPr>
          <a:xfrm>
            <a:off x="428760" y="4000680"/>
            <a:ext cx="164304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357120" y="4500720"/>
            <a:ext cx="114300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5"/>
          <p:cNvSpPr/>
          <p:nvPr/>
        </p:nvSpPr>
        <p:spPr>
          <a:xfrm>
            <a:off x="785880" y="5500800"/>
            <a:ext cx="107136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357120" y="5929200"/>
            <a:ext cx="1071720" cy="35748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3071880" y="2571840"/>
            <a:ext cx="114300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8"/>
          <p:cNvSpPr/>
          <p:nvPr/>
        </p:nvSpPr>
        <p:spPr>
          <a:xfrm>
            <a:off x="2714760" y="3071880"/>
            <a:ext cx="157140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9"/>
          <p:cNvSpPr/>
          <p:nvPr/>
        </p:nvSpPr>
        <p:spPr>
          <a:xfrm>
            <a:off x="3643200" y="2071800"/>
            <a:ext cx="1214640" cy="3571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сенний дождь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ия Анто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4200" y="1600200"/>
            <a:ext cx="64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есенний, озор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наш босон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 вприпрыжку  без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овет: «За мной! За мно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ут гурьбой мальчиш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утки, песни, смех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 бежит быстрее все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есенний, Шалуни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4" descr=""/>
          <p:cNvPicPr/>
          <p:nvPr/>
        </p:nvPicPr>
        <p:blipFill>
          <a:blip r:embed="rId1"/>
          <a:stretch/>
        </p:blipFill>
        <p:spPr>
          <a:xfrm>
            <a:off x="5643720" y="357120"/>
            <a:ext cx="32144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сенний дожд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ия Анто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4200" y="1600200"/>
            <a:ext cx="64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есенний, озор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наш босон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 вприпрыжку  без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овет: «За мной! За мно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ут гурьбой мальчиш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утки, песни, смех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 бежит быстрее все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есенний, Шалуни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428760" y="2286000"/>
            <a:ext cx="85716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3643200" y="1785960"/>
            <a:ext cx="142884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4786200" y="2928960"/>
            <a:ext cx="12859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3429000" y="4071960"/>
            <a:ext cx="22147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1"/>
          <p:cNvSpPr/>
          <p:nvPr/>
        </p:nvSpPr>
        <p:spPr>
          <a:xfrm>
            <a:off x="2643120" y="4643280"/>
            <a:ext cx="100008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000680" y="5786280"/>
            <a:ext cx="228600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4" descr=""/>
          <p:cNvPicPr/>
          <p:nvPr/>
        </p:nvPicPr>
        <p:blipFill>
          <a:blip r:embed="rId1"/>
          <a:stretch/>
        </p:blipFill>
        <p:spPr>
          <a:xfrm>
            <a:off x="5643720" y="285840"/>
            <a:ext cx="321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сенний дождь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лия Анто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4200" y="1600200"/>
            <a:ext cx="64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есенний, озорн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наш босон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 вприпрыжку  без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овет: «За мной! За мно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гут гурьбой мальчишк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утки, песни, смех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 бежит быстрее все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есенний, Шалуни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428760" y="2286000"/>
            <a:ext cx="85716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3643200" y="1785960"/>
            <a:ext cx="142884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9"/>
          <p:cNvSpPr/>
          <p:nvPr/>
        </p:nvSpPr>
        <p:spPr>
          <a:xfrm>
            <a:off x="4786200" y="2928960"/>
            <a:ext cx="12859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0"/>
          <p:cNvSpPr/>
          <p:nvPr/>
        </p:nvSpPr>
        <p:spPr>
          <a:xfrm>
            <a:off x="3429000" y="4071960"/>
            <a:ext cx="22147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2643120" y="4643280"/>
            <a:ext cx="100008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2"/>
          <p:cNvSpPr/>
          <p:nvPr/>
        </p:nvSpPr>
        <p:spPr>
          <a:xfrm>
            <a:off x="4000680" y="5786280"/>
            <a:ext cx="228600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3"/>
          <p:cNvSpPr/>
          <p:nvPr/>
        </p:nvSpPr>
        <p:spPr>
          <a:xfrm>
            <a:off x="1714680" y="1785960"/>
            <a:ext cx="164304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4"/>
          <p:cNvSpPr/>
          <p:nvPr/>
        </p:nvSpPr>
        <p:spPr>
          <a:xfrm>
            <a:off x="2286000" y="2286000"/>
            <a:ext cx="185724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785880" y="3500280"/>
            <a:ext cx="1214280" cy="35748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6"/>
          <p:cNvSpPr/>
          <p:nvPr/>
        </p:nvSpPr>
        <p:spPr>
          <a:xfrm>
            <a:off x="785880" y="4071960"/>
            <a:ext cx="121428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7"/>
          <p:cNvSpPr/>
          <p:nvPr/>
        </p:nvSpPr>
        <p:spPr>
          <a:xfrm>
            <a:off x="2000160" y="5857920"/>
            <a:ext cx="1714680" cy="35712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500040" y="2286000"/>
            <a:ext cx="85716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8"/>
          <p:cNvSpPr/>
          <p:nvPr/>
        </p:nvSpPr>
        <p:spPr>
          <a:xfrm>
            <a:off x="3714840" y="1785960"/>
            <a:ext cx="142884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"/>
          <p:cNvPicPr/>
          <p:nvPr/>
        </p:nvPicPr>
        <p:blipFill>
          <a:blip r:embed="rId1"/>
          <a:stretch/>
        </p:blipFill>
        <p:spPr>
          <a:xfrm>
            <a:off x="5715000" y="214200"/>
            <a:ext cx="32148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357120" y="1143000"/>
            <a:ext cx="75726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ела Снежинка,смеясь и сверка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и лучами на солнце игра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Ветер кружил ее в музыке вьюг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нею кружились снежинки-подруг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уясь собою, Снежинка сказал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авно я об этом танце мечтала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усь я вечно!!!" - и даже не чаял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нулась ладошки и сразу растаял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НЕЖИНКА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ежда Водя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00120" cy="1589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7500960" y="5143680"/>
            <a:ext cx="1428840" cy="151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7738920" y="2643120"/>
            <a:ext cx="1405080" cy="1487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4"/>
          <a:stretch/>
        </p:blipFill>
        <p:spPr>
          <a:xfrm>
            <a:off x="214200" y="0"/>
            <a:ext cx="1428840" cy="1512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5"/>
          <a:stretch/>
        </p:blipFill>
        <p:spPr>
          <a:xfrm>
            <a:off x="214200" y="5421240"/>
            <a:ext cx="1357560" cy="1436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6"/>
          <a:stretch/>
        </p:blipFill>
        <p:spPr>
          <a:xfrm rot="18224400">
            <a:off x="3939120" y="5387040"/>
            <a:ext cx="13572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комство с новыми произведениями и  авторами; обогащение словарного запаса; развитие внимания, памяти;  повторение орфо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РЕМЯ ПРОВЕДЕН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е урока как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 или мобилизующий этап; в середине урока как переход к новой теме (вставить глаголы и т.д.); в конце урока как обоб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357120" y="1143000"/>
            <a:ext cx="75726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ела Снежинка,смеясь и сверка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и лучами на солнце игра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Ветер кружил ее в музыке вьюг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нею кружились снежинки-подруг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уясь собою, Снежинка сказал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авно я об этом танце мечтала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усь я вечно!!!" - и даже не чаял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нулась ладошки и сразу растаял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НЕЖИНКА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ежда Водя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0012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7500960" y="5143680"/>
            <a:ext cx="1428840" cy="151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7738920" y="2643120"/>
            <a:ext cx="1405080" cy="1487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214200" y="0"/>
            <a:ext cx="1428840" cy="151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5"/>
          <a:stretch/>
        </p:blipFill>
        <p:spPr>
          <a:xfrm>
            <a:off x="214200" y="5421240"/>
            <a:ext cx="1357560" cy="1436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6"/>
          <a:stretch/>
        </p:blipFill>
        <p:spPr>
          <a:xfrm rot="18224400">
            <a:off x="3939120" y="5387040"/>
            <a:ext cx="1357200" cy="14382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9"/>
          <p:cNvSpPr/>
          <p:nvPr/>
        </p:nvSpPr>
        <p:spPr>
          <a:xfrm>
            <a:off x="1857240" y="1500120"/>
            <a:ext cx="185760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2428920" y="5000760"/>
            <a:ext cx="1714320" cy="428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1"/>
          <p:cNvSpPr/>
          <p:nvPr/>
        </p:nvSpPr>
        <p:spPr>
          <a:xfrm>
            <a:off x="3643200" y="4000680"/>
            <a:ext cx="1071720" cy="428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2"/>
          <p:cNvSpPr/>
          <p:nvPr/>
        </p:nvSpPr>
        <p:spPr>
          <a:xfrm>
            <a:off x="1285920" y="2500200"/>
            <a:ext cx="107136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3"/>
          <p:cNvSpPr/>
          <p:nvPr/>
        </p:nvSpPr>
        <p:spPr>
          <a:xfrm>
            <a:off x="6072120" y="3000240"/>
            <a:ext cx="142884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4"/>
          <p:cNvSpPr/>
          <p:nvPr/>
        </p:nvSpPr>
        <p:spPr>
          <a:xfrm>
            <a:off x="4786200" y="2500200"/>
            <a:ext cx="12859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5"/>
          <p:cNvSpPr/>
          <p:nvPr/>
        </p:nvSpPr>
        <p:spPr>
          <a:xfrm>
            <a:off x="4000680" y="2000160"/>
            <a:ext cx="121428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57120" y="1143000"/>
            <a:ext cx="75726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ела Снежинка,смеясь и сверка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и лучами на солнце игра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Ветер кружил ее в музыке вьюг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нею кружились снежинки-подруг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уясь собою, Снежинка сказала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авно я об этом танце мечтала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усь я вечно!!!" - и даже не чаяла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нулась ладошки и сразу растаял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НЕЖИНКА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ежда Водя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00120" cy="1589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7500960" y="5143680"/>
            <a:ext cx="1428840" cy="151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7738920" y="2643120"/>
            <a:ext cx="1405080" cy="1487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4"/>
          <a:stretch/>
        </p:blipFill>
        <p:spPr>
          <a:xfrm>
            <a:off x="214200" y="0"/>
            <a:ext cx="14288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5"/>
          <a:stretch/>
        </p:blipFill>
        <p:spPr>
          <a:xfrm>
            <a:off x="214200" y="5421240"/>
            <a:ext cx="1357560" cy="1436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6"/>
          <a:stretch/>
        </p:blipFill>
        <p:spPr>
          <a:xfrm rot="18224400">
            <a:off x="3939120" y="5387040"/>
            <a:ext cx="1357200" cy="14382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9"/>
          <p:cNvSpPr/>
          <p:nvPr/>
        </p:nvSpPr>
        <p:spPr>
          <a:xfrm>
            <a:off x="1857240" y="1500120"/>
            <a:ext cx="185760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2428920" y="5000760"/>
            <a:ext cx="1714320" cy="428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3643200" y="4000680"/>
            <a:ext cx="1071720" cy="428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2"/>
          <p:cNvSpPr/>
          <p:nvPr/>
        </p:nvSpPr>
        <p:spPr>
          <a:xfrm>
            <a:off x="1285920" y="2500200"/>
            <a:ext cx="107136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6072120" y="3000240"/>
            <a:ext cx="142884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4786200" y="2500200"/>
            <a:ext cx="128592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4000680" y="2000160"/>
            <a:ext cx="1214280" cy="42876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6"/>
          <p:cNvSpPr/>
          <p:nvPr/>
        </p:nvSpPr>
        <p:spPr>
          <a:xfrm>
            <a:off x="428760" y="1500120"/>
            <a:ext cx="1285920" cy="4287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7"/>
          <p:cNvSpPr/>
          <p:nvPr/>
        </p:nvSpPr>
        <p:spPr>
          <a:xfrm>
            <a:off x="2500200" y="2500200"/>
            <a:ext cx="1357560" cy="4287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8"/>
          <p:cNvSpPr/>
          <p:nvPr/>
        </p:nvSpPr>
        <p:spPr>
          <a:xfrm>
            <a:off x="1928880" y="3000240"/>
            <a:ext cx="2071800" cy="4287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9"/>
          <p:cNvSpPr/>
          <p:nvPr/>
        </p:nvSpPr>
        <p:spPr>
          <a:xfrm>
            <a:off x="5572080" y="3500280"/>
            <a:ext cx="1428840" cy="4287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0"/>
          <p:cNvSpPr/>
          <p:nvPr/>
        </p:nvSpPr>
        <p:spPr>
          <a:xfrm>
            <a:off x="4857840" y="4000680"/>
            <a:ext cx="150012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1"/>
          <p:cNvSpPr/>
          <p:nvPr/>
        </p:nvSpPr>
        <p:spPr>
          <a:xfrm>
            <a:off x="6500880" y="4500720"/>
            <a:ext cx="100008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2"/>
          <p:cNvSpPr/>
          <p:nvPr/>
        </p:nvSpPr>
        <p:spPr>
          <a:xfrm>
            <a:off x="5643720" y="5000760"/>
            <a:ext cx="164304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снеж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.Се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0" y="1225440"/>
            <a:ext cx="5353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ул подснежник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утьме лесной -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разведчи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нный весной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еще над лесо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вуют снега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лежат под снего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ные луга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 спящей речк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движен лед, -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ришел разведчи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а прид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3068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снеж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.Се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0" y="1225440"/>
            <a:ext cx="5353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ул подснежник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утьме лесной -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разведчи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нный весной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еще над лесо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вуют снега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лежат под снего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ные луга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 спящей речк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движен лед, -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ришел разведчи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а прид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2143080" y="1857240"/>
            <a:ext cx="1214640" cy="35748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2357280" y="5429160"/>
            <a:ext cx="64296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1571760" y="4572000"/>
            <a:ext cx="71424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0"/>
          <p:cNvSpPr/>
          <p:nvPr/>
        </p:nvSpPr>
        <p:spPr>
          <a:xfrm>
            <a:off x="2071800" y="3643200"/>
            <a:ext cx="857160" cy="35748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1"/>
          <p:cNvSpPr/>
          <p:nvPr/>
        </p:nvSpPr>
        <p:spPr>
          <a:xfrm>
            <a:off x="2214720" y="2714760"/>
            <a:ext cx="114300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2"/>
          <p:cNvSpPr/>
          <p:nvPr/>
        </p:nvSpPr>
        <p:spPr>
          <a:xfrm>
            <a:off x="1500120" y="6357960"/>
            <a:ext cx="114300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3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30680" cy="24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снеж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.Се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0" y="1225440"/>
            <a:ext cx="5353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ул подснежник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утьме лесной -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разведчи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анный весной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еще над лесо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вуют снега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лежат под снегом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ные луга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на спящей речк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движен лед, -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ришел разведчик,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сна прид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7"/>
          <p:cNvSpPr/>
          <p:nvPr/>
        </p:nvSpPr>
        <p:spPr>
          <a:xfrm>
            <a:off x="2143080" y="1857240"/>
            <a:ext cx="1214640" cy="35748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8"/>
          <p:cNvSpPr/>
          <p:nvPr/>
        </p:nvSpPr>
        <p:spPr>
          <a:xfrm>
            <a:off x="2357280" y="5429160"/>
            <a:ext cx="64296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571760" y="4572000"/>
            <a:ext cx="71424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0"/>
          <p:cNvSpPr/>
          <p:nvPr/>
        </p:nvSpPr>
        <p:spPr>
          <a:xfrm>
            <a:off x="2071800" y="3643200"/>
            <a:ext cx="857160" cy="35748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1"/>
          <p:cNvSpPr/>
          <p:nvPr/>
        </p:nvSpPr>
        <p:spPr>
          <a:xfrm>
            <a:off x="2214720" y="2714760"/>
            <a:ext cx="114300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2"/>
          <p:cNvSpPr/>
          <p:nvPr/>
        </p:nvSpPr>
        <p:spPr>
          <a:xfrm>
            <a:off x="1500120" y="6357960"/>
            <a:ext cx="1143000" cy="35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3"/>
          <p:cNvSpPr/>
          <p:nvPr/>
        </p:nvSpPr>
        <p:spPr>
          <a:xfrm>
            <a:off x="142920" y="1357200"/>
            <a:ext cx="164304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1214280" y="4143240"/>
            <a:ext cx="100044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1714680" y="5000760"/>
            <a:ext cx="12855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7"/>
          <p:cNvSpPr/>
          <p:nvPr/>
        </p:nvSpPr>
        <p:spPr>
          <a:xfrm>
            <a:off x="785880" y="5929200"/>
            <a:ext cx="128592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8"/>
          <p:cNvSpPr/>
          <p:nvPr/>
        </p:nvSpPr>
        <p:spPr>
          <a:xfrm>
            <a:off x="1214280" y="3214800"/>
            <a:ext cx="7146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7"/>
          <p:cNvSpPr/>
          <p:nvPr/>
        </p:nvSpPr>
        <p:spPr>
          <a:xfrm>
            <a:off x="142920" y="2214720"/>
            <a:ext cx="192888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30680" cy="24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чей-ручеёк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Ладонщ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Группа 4"/>
          <p:cNvGrpSpPr/>
          <p:nvPr/>
        </p:nvGrpSpPr>
        <p:grpSpPr>
          <a:xfrm>
            <a:off x="428760" y="857160"/>
            <a:ext cx="8501040" cy="5946120"/>
            <a:chOff x="428760" y="857160"/>
            <a:chExt cx="8501040" cy="5946120"/>
          </a:xfrm>
        </p:grpSpPr>
        <p:sp>
          <p:nvSpPr>
            <p:cNvPr id="272" name="Прямоугольник 1"/>
            <p:cNvSpPr/>
            <p:nvPr/>
          </p:nvSpPr>
          <p:spPr>
            <a:xfrm>
              <a:off x="428760" y="857160"/>
              <a:ext cx="642960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Эй, ручей-ручеек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леко ли ты потек?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Тороплюсь я в речку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ечку-быстротечку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месте с речкою к рек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помчимся налегк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с рекою вскор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бежим до моря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А из моря ты куда?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А из моря я – сюда!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лым облаком вернусь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неба дождиком прольюсь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у снова ручейком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утем, что так знаком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бегу я в речку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ечку-быстротечку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" descr=""/>
            <p:cNvPicPr/>
            <p:nvPr/>
          </p:nvPicPr>
          <p:blipFill>
            <a:blip r:embed="rId1"/>
            <a:stretch/>
          </p:blipFill>
          <p:spPr>
            <a:xfrm>
              <a:off x="4786560" y="1785960"/>
              <a:ext cx="4143240" cy="310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чей-ручеёк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Ладонщ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Группа 4"/>
          <p:cNvGrpSpPr/>
          <p:nvPr/>
        </p:nvGrpSpPr>
        <p:grpSpPr>
          <a:xfrm>
            <a:off x="428760" y="857160"/>
            <a:ext cx="8501040" cy="5946120"/>
            <a:chOff x="428760" y="857160"/>
            <a:chExt cx="8501040" cy="5946120"/>
          </a:xfrm>
        </p:grpSpPr>
        <p:sp>
          <p:nvSpPr>
            <p:cNvPr id="276" name="Прямоугольник 1"/>
            <p:cNvSpPr/>
            <p:nvPr/>
          </p:nvSpPr>
          <p:spPr>
            <a:xfrm>
              <a:off x="428760" y="857160"/>
              <a:ext cx="642960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Эй, ручей-ручеек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леко ли ты потек?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Тороплюсь я в речку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ечку-быстротечку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месте с речкою к рек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помчимся налегк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с рекою вскор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бежим до моря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А из моря ты куда?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А из моря я – сюда!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лым облаком вернусь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неба дождиком прольюсь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у снова ручейком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утем, что так знаком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бегу я в речку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ечку-быстротечку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" descr=""/>
            <p:cNvPicPr/>
            <p:nvPr/>
          </p:nvPicPr>
          <p:blipFill>
            <a:blip r:embed="rId1"/>
            <a:stretch/>
          </p:blipFill>
          <p:spPr>
            <a:xfrm>
              <a:off x="4786560" y="1785960"/>
              <a:ext cx="4143240" cy="310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Прямоугольник 5"/>
          <p:cNvSpPr/>
          <p:nvPr/>
        </p:nvSpPr>
        <p:spPr>
          <a:xfrm>
            <a:off x="2428920" y="1357200"/>
            <a:ext cx="8571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714240" y="1714680"/>
            <a:ext cx="1476360" cy="28548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1143000" y="2786040"/>
            <a:ext cx="133200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2786040" y="4643280"/>
            <a:ext cx="104472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2928960" y="5000760"/>
            <a:ext cx="1368360" cy="28548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1"/>
          <p:cNvSpPr/>
          <p:nvPr/>
        </p:nvSpPr>
        <p:spPr>
          <a:xfrm>
            <a:off x="500040" y="5357880"/>
            <a:ext cx="8571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571680" y="6072120"/>
            <a:ext cx="9363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3"/>
          <p:cNvSpPr/>
          <p:nvPr/>
        </p:nvSpPr>
        <p:spPr>
          <a:xfrm>
            <a:off x="500040" y="3571920"/>
            <a:ext cx="12603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чей-ручеёк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Ладонщ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Группа 4"/>
          <p:cNvGrpSpPr/>
          <p:nvPr/>
        </p:nvGrpSpPr>
        <p:grpSpPr>
          <a:xfrm>
            <a:off x="357120" y="855720"/>
            <a:ext cx="8501040" cy="5946120"/>
            <a:chOff x="357120" y="855720"/>
            <a:chExt cx="8501040" cy="5946120"/>
          </a:xfrm>
        </p:grpSpPr>
        <p:sp>
          <p:nvSpPr>
            <p:cNvPr id="288" name="Прямоугольник 1"/>
            <p:cNvSpPr/>
            <p:nvPr/>
          </p:nvSpPr>
          <p:spPr>
            <a:xfrm>
              <a:off x="357120" y="855720"/>
              <a:ext cx="642960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Эй, ручей-ручеек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леко ли ты потек?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Тороплюсь я в речку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ечку-быстротечку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месте с речкою к рек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ы помчимся налегк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с рекою вскоре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бежим до моря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А из моря ты куда?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А из моря я – сюда!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лым облаком вернусь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неба дождиком прольюсь.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у снова ручейком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утем, что так знаком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бегу я в речку,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ечку-быстротечку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1" descr=""/>
            <p:cNvPicPr/>
            <p:nvPr/>
          </p:nvPicPr>
          <p:blipFill>
            <a:blip r:embed="rId1"/>
            <a:stretch/>
          </p:blipFill>
          <p:spPr>
            <a:xfrm>
              <a:off x="4714920" y="1784520"/>
              <a:ext cx="4143240" cy="310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Прямоугольник 5"/>
          <p:cNvSpPr/>
          <p:nvPr/>
        </p:nvSpPr>
        <p:spPr>
          <a:xfrm>
            <a:off x="2428920" y="1357200"/>
            <a:ext cx="8571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6"/>
          <p:cNvSpPr/>
          <p:nvPr/>
        </p:nvSpPr>
        <p:spPr>
          <a:xfrm>
            <a:off x="714240" y="1714680"/>
            <a:ext cx="1476360" cy="28548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1143000" y="2786040"/>
            <a:ext cx="133200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"/>
          <p:cNvSpPr/>
          <p:nvPr/>
        </p:nvSpPr>
        <p:spPr>
          <a:xfrm>
            <a:off x="2786040" y="4643280"/>
            <a:ext cx="104472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2928960" y="5000760"/>
            <a:ext cx="1368360" cy="28548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1"/>
          <p:cNvSpPr/>
          <p:nvPr/>
        </p:nvSpPr>
        <p:spPr>
          <a:xfrm>
            <a:off x="500040" y="5357880"/>
            <a:ext cx="8571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571680" y="6072120"/>
            <a:ext cx="9363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500040" y="3571920"/>
            <a:ext cx="1260360" cy="285840"/>
          </a:xfrm>
          <a:prstGeom prst="rect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4"/>
          <p:cNvSpPr/>
          <p:nvPr/>
        </p:nvSpPr>
        <p:spPr>
          <a:xfrm>
            <a:off x="1214280" y="1000080"/>
            <a:ext cx="78588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5"/>
          <p:cNvSpPr/>
          <p:nvPr/>
        </p:nvSpPr>
        <p:spPr>
          <a:xfrm>
            <a:off x="3071880" y="2428920"/>
            <a:ext cx="57636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6"/>
          <p:cNvSpPr/>
          <p:nvPr/>
        </p:nvSpPr>
        <p:spPr>
          <a:xfrm>
            <a:off x="1071720" y="3143160"/>
            <a:ext cx="82836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7"/>
          <p:cNvSpPr/>
          <p:nvPr/>
        </p:nvSpPr>
        <p:spPr>
          <a:xfrm>
            <a:off x="1357200" y="4214880"/>
            <a:ext cx="93672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8"/>
          <p:cNvSpPr/>
          <p:nvPr/>
        </p:nvSpPr>
        <p:spPr>
          <a:xfrm>
            <a:off x="500040" y="4643280"/>
            <a:ext cx="97164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9"/>
          <p:cNvSpPr/>
          <p:nvPr/>
        </p:nvSpPr>
        <p:spPr>
          <a:xfrm>
            <a:off x="785880" y="5000760"/>
            <a:ext cx="785880" cy="2854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0"/>
          <p:cNvSpPr/>
          <p:nvPr/>
        </p:nvSpPr>
        <p:spPr>
          <a:xfrm>
            <a:off x="2286000" y="5357880"/>
            <a:ext cx="133200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1"/>
          <p:cNvSpPr/>
          <p:nvPr/>
        </p:nvSpPr>
        <p:spPr>
          <a:xfrm>
            <a:off x="1714680" y="6429240"/>
            <a:ext cx="1726920" cy="285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ягушат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Корюк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Группа 4"/>
          <p:cNvGrpSpPr/>
          <p:nvPr/>
        </p:nvGrpSpPr>
        <p:grpSpPr>
          <a:xfrm>
            <a:off x="357120" y="1239120"/>
            <a:ext cx="8596440" cy="5213160"/>
            <a:chOff x="357120" y="1239120"/>
            <a:chExt cx="8596440" cy="5213160"/>
          </a:xfrm>
        </p:grpSpPr>
        <p:sp>
          <p:nvSpPr>
            <p:cNvPr id="308" name="Rectangle 1"/>
            <p:cNvSpPr/>
            <p:nvPr/>
          </p:nvSpPr>
          <p:spPr>
            <a:xfrm>
              <a:off x="357120" y="1239120"/>
              <a:ext cx="428616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меня на дач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ть заросший пру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 головастик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м в нем живут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наступит врем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ошек-лягуш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рыгнет на бере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евой отря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х замаскиру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чная трав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ич раздастся звонк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-ква-ква-ква-ква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Picture 4" descr=""/>
            <p:cNvPicPr/>
            <p:nvPr/>
          </p:nvPicPr>
          <p:blipFill>
            <a:blip r:embed="rId1"/>
            <a:stretch/>
          </p:blipFill>
          <p:spPr>
            <a:xfrm>
              <a:off x="4643280" y="1785600"/>
              <a:ext cx="4310280" cy="3232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ягушат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Корюк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Группа 4"/>
          <p:cNvGrpSpPr/>
          <p:nvPr/>
        </p:nvGrpSpPr>
        <p:grpSpPr>
          <a:xfrm>
            <a:off x="357120" y="1239120"/>
            <a:ext cx="8596440" cy="5213160"/>
            <a:chOff x="357120" y="1239120"/>
            <a:chExt cx="8596440" cy="5213160"/>
          </a:xfrm>
        </p:grpSpPr>
        <p:sp>
          <p:nvSpPr>
            <p:cNvPr id="312" name="Rectangle 1"/>
            <p:cNvSpPr/>
            <p:nvPr/>
          </p:nvSpPr>
          <p:spPr>
            <a:xfrm>
              <a:off x="357120" y="1239120"/>
              <a:ext cx="428616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меня на дач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ть заросший пру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 головастик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м в нем живут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наступит врем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ошек-лягуш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рыгнет на бере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евой отря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х замаскиру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чная трав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ич раздастся звонк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-ква-ква-ква-ква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Picture 4" descr=""/>
            <p:cNvPicPr/>
            <p:nvPr/>
          </p:nvPicPr>
          <p:blipFill>
            <a:blip r:embed="rId1"/>
            <a:stretch/>
          </p:blipFill>
          <p:spPr>
            <a:xfrm>
              <a:off x="4643280" y="1785600"/>
              <a:ext cx="4310280" cy="323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Прямоугольник 5"/>
          <p:cNvSpPr/>
          <p:nvPr/>
        </p:nvSpPr>
        <p:spPr>
          <a:xfrm>
            <a:off x="2143080" y="1428840"/>
            <a:ext cx="785880" cy="2858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2928960" y="1857240"/>
            <a:ext cx="828720" cy="2858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1571760" y="2214720"/>
            <a:ext cx="2160360" cy="28548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8"/>
          <p:cNvSpPr/>
          <p:nvPr/>
        </p:nvSpPr>
        <p:spPr>
          <a:xfrm>
            <a:off x="2500200" y="2714760"/>
            <a:ext cx="971640" cy="28548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9"/>
          <p:cNvSpPr/>
          <p:nvPr/>
        </p:nvSpPr>
        <p:spPr>
          <a:xfrm>
            <a:off x="1857240" y="3571920"/>
            <a:ext cx="1332000" cy="2858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1643040" y="4357800"/>
            <a:ext cx="936720" cy="35712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1714680" y="5214960"/>
            <a:ext cx="936360" cy="35712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е стихотворение дано три слай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слайд: читаем, обсуждаем, называем орфограммы (если урок русского язы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слайд: «ночь» - закрываются некоторые слова; «день» – прочитать стихотворение, восстановив все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слайд: «ночь» - еще закрываются слова; «день» - опять прочитать стихотворение, назвав правильно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но обсуждаются и орфограммы, и лексическое значение слов, и морфология (все зависит от цели уро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ернуться к первому слайду и провести списывание или письмо по памяти; если доска интерактивная – разобрать по составу слова, выделить орф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ческих успехов, коллег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ягушат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Корюк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Группа 4"/>
          <p:cNvGrpSpPr/>
          <p:nvPr/>
        </p:nvGrpSpPr>
        <p:grpSpPr>
          <a:xfrm>
            <a:off x="357120" y="1239120"/>
            <a:ext cx="8596440" cy="5213160"/>
            <a:chOff x="357120" y="1239120"/>
            <a:chExt cx="8596440" cy="5213160"/>
          </a:xfrm>
        </p:grpSpPr>
        <p:sp>
          <p:nvSpPr>
            <p:cNvPr id="323" name="Rectangle 1"/>
            <p:cNvSpPr/>
            <p:nvPr/>
          </p:nvSpPr>
          <p:spPr>
            <a:xfrm>
              <a:off x="357120" y="1239120"/>
              <a:ext cx="428616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меня на дач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ть заросший пру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 головастик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м в нем живут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наступит время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ошек-лягуш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рыгнет на бере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евой отряд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х замаскиру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чная трав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ич раздастся звонк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1040"/>
                  <a:tab algn="l" pos="1163520"/>
                  <a:tab algn="l" pos="1744560"/>
                  <a:tab algn="l" pos="2327400"/>
                  <a:tab algn="l" pos="2908440"/>
                  <a:tab algn="l" pos="3489480"/>
                  <a:tab algn="l" pos="4071960"/>
                  <a:tab algn="l" pos="4653000"/>
                  <a:tab algn="l" pos="5235480"/>
                  <a:tab algn="l" pos="5816520"/>
                  <a:tab algn="l" pos="6397560"/>
                  <a:tab algn="l" pos="6980400"/>
                  <a:tab algn="l" pos="7561440"/>
                  <a:tab algn="l" pos="8143920"/>
                  <a:tab algn="l" pos="8724960"/>
                  <a:tab algn="l" pos="9306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-ква-ква-ква-ква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Picture 4" descr=""/>
            <p:cNvPicPr/>
            <p:nvPr/>
          </p:nvPicPr>
          <p:blipFill>
            <a:blip r:embed="rId1"/>
            <a:stretch/>
          </p:blipFill>
          <p:spPr>
            <a:xfrm>
              <a:off x="4643280" y="1785600"/>
              <a:ext cx="4310280" cy="323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Прямоугольник 5"/>
          <p:cNvSpPr/>
          <p:nvPr/>
        </p:nvSpPr>
        <p:spPr>
          <a:xfrm>
            <a:off x="2143080" y="1428840"/>
            <a:ext cx="785880" cy="2858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2928960" y="1857240"/>
            <a:ext cx="828720" cy="2858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1571760" y="2214720"/>
            <a:ext cx="2160360" cy="28548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2500200" y="2714760"/>
            <a:ext cx="971640" cy="28548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9"/>
          <p:cNvSpPr/>
          <p:nvPr/>
        </p:nvSpPr>
        <p:spPr>
          <a:xfrm>
            <a:off x="1857240" y="3571920"/>
            <a:ext cx="1332000" cy="28584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1643040" y="4357800"/>
            <a:ext cx="936720" cy="35712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1"/>
          <p:cNvSpPr/>
          <p:nvPr/>
        </p:nvSpPr>
        <p:spPr>
          <a:xfrm>
            <a:off x="1714680" y="5214960"/>
            <a:ext cx="936360" cy="357120"/>
          </a:xfrm>
          <a:prstGeom prst="rect">
            <a:avLst/>
          </a:prstGeom>
          <a:solidFill>
            <a:srgbClr val="948a54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2"/>
          <p:cNvSpPr/>
          <p:nvPr/>
        </p:nvSpPr>
        <p:spPr>
          <a:xfrm>
            <a:off x="428760" y="1785960"/>
            <a:ext cx="785520" cy="285840"/>
          </a:xfrm>
          <a:prstGeom prst="rect">
            <a:avLst/>
          </a:prstGeom>
          <a:solidFill>
            <a:srgbClr val="cc9b00"/>
          </a:solidFill>
          <a:ln w="25560">
            <a:solidFill>
              <a:srgbClr val="cc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143000" y="3071880"/>
            <a:ext cx="1476360" cy="357120"/>
          </a:xfrm>
          <a:prstGeom prst="rect">
            <a:avLst/>
          </a:prstGeom>
          <a:solidFill>
            <a:srgbClr val="cc9b00"/>
          </a:solidFill>
          <a:ln w="25560">
            <a:solidFill>
              <a:srgbClr val="cc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4"/>
          <p:cNvSpPr/>
          <p:nvPr/>
        </p:nvSpPr>
        <p:spPr>
          <a:xfrm>
            <a:off x="428760" y="3929040"/>
            <a:ext cx="1908000" cy="357120"/>
          </a:xfrm>
          <a:prstGeom prst="rect">
            <a:avLst/>
          </a:prstGeom>
          <a:solidFill>
            <a:srgbClr val="cc9b00"/>
          </a:solidFill>
          <a:ln w="25560">
            <a:solidFill>
              <a:srgbClr val="cc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5"/>
          <p:cNvSpPr/>
          <p:nvPr/>
        </p:nvSpPr>
        <p:spPr>
          <a:xfrm>
            <a:off x="1000080" y="4786200"/>
            <a:ext cx="1979640" cy="357480"/>
          </a:xfrm>
          <a:prstGeom prst="rect">
            <a:avLst/>
          </a:prstGeom>
          <a:solidFill>
            <a:srgbClr val="cc9b00"/>
          </a:solidFill>
          <a:ln w="25560">
            <a:solidFill>
              <a:srgbClr val="cc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6"/>
          <p:cNvSpPr/>
          <p:nvPr/>
        </p:nvSpPr>
        <p:spPr>
          <a:xfrm>
            <a:off x="1357200" y="5715000"/>
            <a:ext cx="1584360" cy="285840"/>
          </a:xfrm>
          <a:prstGeom prst="rect">
            <a:avLst/>
          </a:prstGeom>
          <a:solidFill>
            <a:srgbClr val="cc9b00"/>
          </a:solidFill>
          <a:ln w="25560">
            <a:solidFill>
              <a:srgbClr val="cc9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428760" y="1000080"/>
            <a:ext cx="842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ussisch-fuer-kinder.de/de_start/gedichte/index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lnet.ee/sol/001/s_animal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lnet.ee/sol/001/s_spring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mai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оробей»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 Гусель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42640"/>
            <a:ext cx="5829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кий, маленький, смешн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ьях грудка, спинка..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, шустрый, озорн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к, как пушин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: Чирик-чирик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собира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холодам давно привы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вой не броса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других он посмеле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тица - вороб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72120" y="2571840"/>
            <a:ext cx="2778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оробей»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 Гусель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кий, маленький, смешн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ьях грудка, спинка..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, шустрый, озорн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к, как пушин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: Чирик-чирик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собира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холодам давно привы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вой не броса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других он посмеле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тица - вороб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2357280" y="1643040"/>
            <a:ext cx="200052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2286000" y="2643120"/>
            <a:ext cx="164304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928800" y="4071960"/>
            <a:ext cx="135720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1714680" y="5072040"/>
            <a:ext cx="78552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1643040" y="6000840"/>
            <a:ext cx="100008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57920" y="2786040"/>
            <a:ext cx="28098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оробей»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 Гусель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кий, маленький, смешн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ьях грудка, спинка..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, шустрый, озорн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к, как пушин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: Чирик-чирик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собира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холодам давно привы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свой не броса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других он посмеле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тица - вороб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357280" y="1643040"/>
            <a:ext cx="200052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2286000" y="2643120"/>
            <a:ext cx="164304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928800" y="4071960"/>
            <a:ext cx="135720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1714680" y="5072040"/>
            <a:ext cx="78552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1643040" y="6000840"/>
            <a:ext cx="100008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3857760" y="2071800"/>
            <a:ext cx="13572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786040" y="3071880"/>
            <a:ext cx="157176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3786120" y="3571920"/>
            <a:ext cx="121464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3857760" y="4572000"/>
            <a:ext cx="135720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5"/>
          <p:cNvSpPr/>
          <p:nvPr/>
        </p:nvSpPr>
        <p:spPr>
          <a:xfrm>
            <a:off x="3643200" y="557208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857920" y="2786040"/>
            <a:ext cx="2928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Луна»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 Гусель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571760"/>
            <a:ext cx="8401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шине висит лу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моим окошко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что не одн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звезд немножк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вять я ложусь в кров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ь за нею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никак пон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уна худе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висит о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ать в сто лестни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а лу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ся меся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21094" t="46758" r="61916" b="24999"/>
          <a:stretch/>
        </p:blipFill>
        <p:spPr>
          <a:xfrm>
            <a:off x="6143760" y="21420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Луна»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 Гусель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3840" y="1571760"/>
            <a:ext cx="8401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шине висит лу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моим окошко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что не одн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звезд немножк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вять я ложусь в кров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ь за нею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никак пон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уна худе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висит о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ать в сто лестни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а лу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ся меся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21094" t="46758" r="61916" b="24999"/>
          <a:stretch/>
        </p:blipFill>
        <p:spPr>
          <a:xfrm>
            <a:off x="6143760" y="2142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3643200" y="1643040"/>
            <a:ext cx="7858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3429000" y="2428920"/>
            <a:ext cx="7858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4143240" y="3214800"/>
            <a:ext cx="142884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286080" y="4000680"/>
            <a:ext cx="121464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2928960" y="5143680"/>
            <a:ext cx="5713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Луна»</a:t>
            </a:r>
            <a:br>
              <a:rPr sz="40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 Гусельни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840" y="1571760"/>
            <a:ext cx="8401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шине висит лу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моим окошко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что не одн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звезд немножк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вять я ложусь в кров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ть за нею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никак пон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уна худе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висит о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тать в сто лестни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а лу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ся меся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21094" t="46758" r="61916" b="24999"/>
          <a:stretch/>
        </p:blipFill>
        <p:spPr>
          <a:xfrm>
            <a:off x="6143760" y="2142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3643200" y="1643040"/>
            <a:ext cx="7858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3429000" y="2428920"/>
            <a:ext cx="7858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4143240" y="3214800"/>
            <a:ext cx="142884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3286080" y="4000680"/>
            <a:ext cx="121464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2928960" y="5143680"/>
            <a:ext cx="5713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1428840" y="2000160"/>
            <a:ext cx="928440" cy="35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0"/>
          <p:cNvSpPr/>
          <p:nvPr/>
        </p:nvSpPr>
        <p:spPr>
          <a:xfrm>
            <a:off x="642960" y="4714920"/>
            <a:ext cx="1285920" cy="35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1"/>
          <p:cNvSpPr/>
          <p:nvPr/>
        </p:nvSpPr>
        <p:spPr>
          <a:xfrm>
            <a:off x="2786040" y="5500800"/>
            <a:ext cx="857160" cy="35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2"/>
          <p:cNvSpPr/>
          <p:nvPr/>
        </p:nvSpPr>
        <p:spPr>
          <a:xfrm>
            <a:off x="2428920" y="5929200"/>
            <a:ext cx="1071360" cy="3574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1000080" y="3214800"/>
            <a:ext cx="1143000" cy="35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1214280" y="4000680"/>
            <a:ext cx="785880" cy="3571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2:37:40Z</dcterms:created>
  <dc:creator>Galina</dc:creator>
  <dc:description/>
  <dc:language>en-US</dc:language>
  <cp:lastModifiedBy>Galina</cp:lastModifiedBy>
  <dcterms:modified xsi:type="dcterms:W3CDTF">2009-05-01T08:36:18Z</dcterms:modified>
  <cp:revision>82</cp:revision>
  <dc:subject/>
  <dc:title>Слайд 1</dc:title>
</cp:coreProperties>
</file>