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DAA-D0BF-4A9D-928F-0D3C3059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578-8882-4AFC-9C4E-0E186207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D0F-1250-4BCB-8D09-2A6BA6F1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34F-AAD9-438C-8B26-AD08E5C0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8E2-2E42-4A5D-8C5B-7EFB3447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236-0950-456B-9AF3-9C76F1CF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68A-8A8B-499A-8983-10465B64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591-3933-43C9-A368-BD9FF9EF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025-0CEB-4215-AFF6-F8647251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BE5-C099-4184-9B88-196DA3F0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1F8-2A42-4DA2-8AF8-C4C8007C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D78-B352-4762-AD99-D2D3D351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0C1C-F077-454F-92E9-622F6F697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1916280"/>
            <a:ext cx="4968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квенный дождик 9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4508640"/>
            <a:ext cx="4319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уруто Валентина Викторовна,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СШ №14 г. Нижневартовска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МАО-Югры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627280" y="4724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  БЯ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6878E-006 L 0.09063 0.35637 E">
                                      <p:cBhvr>
                                        <p:cTn id="458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Ы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63640" y="436572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   В   ЛЮЦ   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03640" y="1916280"/>
            <a:ext cx="64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9.66027E-007 L -0.4566 0.51907 E">
                                      <p:cBhvr>
                                        <p:cTn id="50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24336E-006 L -0.14166 0.39335 E">
                                      <p:cBhvr>
                                        <p:cTn id="505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-3.88889E-006 0.31986 E">
                                      <p:cBhvr>
                                        <p:cTn id="516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68360" y="4437000"/>
            <a:ext cx="439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  СУН  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49503E-006 L -0.23612 0.52416 E">
                                      <p:cBhvr>
                                        <p:cTn id="558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24336E-006 L -0.49601 0.40375 E">
                                      <p:cBhvr>
                                        <p:cTn id="563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67640" y="836640"/>
            <a:ext cx="64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484360" y="429264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ОД   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24336E-006 L -0.32274 0.38271 E">
                                      <p:cBhvr>
                                        <p:cTn id="617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40000" y="90792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492360" y="112536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1640" y="443700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ПРАЗ   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340000" y="1916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7957E-006 L 0.24409 0.37232 E">
                                      <p:cBhvr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11280" y="4653000"/>
            <a:ext cx="43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ПШ   НИ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6878E-006 L 0.16927 0.34597 E">
                                      <p:cBhvr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68360" y="4581360"/>
            <a:ext cx="40309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ПЯТН   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59280" y="98100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35406E-006 L -0.31493 0.41946 E">
                                      <p:cBhvr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9600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627280" y="465300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  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70326E-006 L -0.29132 0.58193 E">
                                      <p:cBhvr>
                                        <p:cTn id="186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9600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00360" y="4653000"/>
            <a:ext cx="360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  К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70326E-006 L -0.28334 0.58193 E">
                                      <p:cBhvr>
                                        <p:cTn id="240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9600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16000" y="14842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700360" y="4653000"/>
            <a:ext cx="3743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  С  КА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70326E-006 L -0.29132 0.58193 E">
                                      <p:cBhvr>
                                        <p:cTn id="294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9101E-007 L 0.35052 0.46661 E">
                                      <p:cBhvr>
                                        <p:cTn id="305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79600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67640" y="83664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6000" y="14842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68360" y="4653000"/>
            <a:ext cx="4175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   С   Т   Я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9.66027E-007 L -0.36615 0.5609 E">
                                      <p:cBhvr>
                                        <p:cTn id="335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70326E-006 L -0.35434 0.58193 E">
                                      <p:cBhvr>
                                        <p:cTn id="346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9101E-007 L 0.26389 0.46661 E">
                                      <p:cBhvr>
                                        <p:cTn id="357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68360" y="220500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24000" y="4076640"/>
            <a:ext cx="453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  СТЕН   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24336E-006 L -0.20469 0.35128 E">
                                      <p:cBhvr>
                                        <p:cTn id="393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66027E-007 L -0.40156 0.477 E">
                                      <p:cBhvr>
                                        <p:cTn id="398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1:12:01Z</dcterms:created>
  <dc:creator>1</dc:creator>
  <dc:description/>
  <dc:language>en-US</dc:language>
  <cp:lastModifiedBy>User</cp:lastModifiedBy>
  <dcterms:modified xsi:type="dcterms:W3CDTF">2009-01-29T06:45:47Z</dcterms:modified>
  <cp:revision>17</cp:revision>
  <dc:subject/>
  <dc:title>Слайд 1</dc:title>
</cp:coreProperties>
</file>