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842-B936-45D8-B76D-1D60E6F1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4A5-D63B-4A33-9048-860453B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CE2-75C1-477C-9095-B1B7D3D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2C7-1233-4A52-A756-42A3A088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CF4-A53D-475F-8DAE-B6C4459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849-EBFD-4604-83E5-A7ECAAC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36D-448C-4B24-A977-ECDA4D08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6DF-2D39-4C03-8F46-450CD3E7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D03-AABC-461E-8FB4-3CFD40E9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446-8ADA-4AAA-9BB5-5739CF3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EF3-14F1-46DE-A75A-78C04B07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E30-1E17-4D12-A1B5-418881A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74A-74D1-40C4-B324-E5EA8F68E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91628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квенный дождик 1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508640"/>
            <a:ext cx="4319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,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а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ы</a:t>
            </a:r>
            <a:endParaRPr b="1" lang="en-US" sz="2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987640" y="4437000"/>
            <a:ext cx="29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ЫСТ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81142E-007 L -0.15729 0.53987 E">
                                      <p:cBhvr>
                                        <p:cTn id="446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00360" y="443700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   Г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29132 0.5505 E">
                                      <p:cBhvr>
                                        <p:cTn id="512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16360" y="4508640"/>
            <a:ext cx="374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АЛ   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8389E-006 L 0.25191 0.33534 E">
                                      <p:cBhvr>
                                        <p:cTn id="572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32000" y="4292640"/>
            <a:ext cx="23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ДР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98764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13682E-007 L 0.28351 0.477 E">
                                      <p:cBhvr>
                                        <p:cTn id="65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4437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ТОБ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44879 0.5505 E">
                                      <p:cBhvr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16360" y="443700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АДР  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29132 0.33026 E">
                                      <p:cBhvr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627280" y="4508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   Е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45678 0.56113 E">
                                      <p:cBhvr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35406E-006 L 0.16528 0.51352 E">
                                      <p:cBhvr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32000" y="436572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П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0326E-006 L -0.39375 0.5401 E">
                                      <p:cBhvr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27280" y="443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РЁ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1806 0.35129 E">
                                      <p:cBhvr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35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24000" y="450864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БЛ       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27640" y="1844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32274 0.41438 E">
                                      <p:cBhvr>
                                        <p:cTn id="27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26771 0.57153 E">
                                      <p:cBhvr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98059E-006 L -0.39358 0.39335 E">
                                      <p:cBhvr>
                                        <p:cTn id="327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87640" y="443700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ЛО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12757E-006 L -0.33854 0.55559 E">
                                      <p:cBhvr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66027E-007 L -0.14167 0.51907 E">
                                      <p:cBhvr>
                                        <p:cTn id="386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00360" y="443700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81142E-007 L -0.45659 0.53987 E">
                                      <p:cBhvr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1:12:01Z</dcterms:created>
  <dc:creator>1</dc:creator>
  <dc:description/>
  <dc:language>en-US</dc:language>
  <cp:lastModifiedBy>User</cp:lastModifiedBy>
  <dcterms:modified xsi:type="dcterms:W3CDTF">2009-01-27T07:06:29Z</dcterms:modified>
  <cp:revision>10</cp:revision>
  <dc:subject/>
  <dc:title>Слайд 1</dc:title>
</cp:coreProperties>
</file>