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83FA-9695-4DDC-BF6A-1A494050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0A9-3698-4D91-AE80-43100EDE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776-FEB8-4F7B-8963-6E969852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39B-2D99-49D9-B8D4-C1D911A9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A28-71AB-4EAE-9BAE-4C7FC7EA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CD8-7731-41CA-8F97-3297FA78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57D-9CD2-4027-90D1-A75809C8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975-1312-4B29-AFDA-F1B7E594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69BA-6187-43B2-8746-0FA30E97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5DEF-1651-48EE-9EA6-08FC464E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9A6-8F16-42B9-8FA3-F7BD543A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9F56-3A85-4444-8724-9519FB66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CF26-CAF9-4C97-A0EF-EA6DEFA69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1916280"/>
            <a:ext cx="4968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квенный дождик 5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84360" y="4508640"/>
            <a:ext cx="4319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уруто Валентина Викторовна,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начальных классов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СШ №14 г. Нижневартовска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МАО-Югры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627280" y="4508640"/>
            <a:ext cx="4105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КР   В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185E-006 L -0.42517 0.57245 E">
                                      <p:cBhvr>
                                        <p:cTn id="444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627280" y="4508640"/>
            <a:ext cx="4105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ЛАГ   Р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6 L 0.27552 0.33587 E">
                                      <p:cBhvr>
                                        <p:cTn id="516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627280" y="4437000"/>
            <a:ext cx="410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ЛЕС   Н   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44444E-006 L -0.2441 0.40439 E">
                                      <p:cBhvr>
                                        <p:cTn id="552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7.40741E-006 L -0.11024 0.44097 E">
                                      <p:cBhvr>
                                        <p:cTn id="575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627280" y="4508640"/>
            <a:ext cx="410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Л   ПА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3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614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5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626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185E-006 L -0.45659 0.5618 E">
                                      <p:cBhvr>
                                        <p:cTn id="653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627280" y="4508640"/>
            <a:ext cx="417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КОМН  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59259E-006 L -0.10244 0.56713 E">
                                      <p:cBhvr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627280" y="4508640"/>
            <a:ext cx="417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К  МПО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2.59259E-006 L -0.48836 0.57754 E">
                                      <p:cBhvr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627280" y="4508640"/>
            <a:ext cx="417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К   РАБ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2.59259E-006 L -0.48836 0.57754 E">
                                      <p:cBhvr>
                                        <p:cTn id="114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340000" y="4508640"/>
            <a:ext cx="489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К   СМ   НА   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04000" y="62064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9259E-006 L 0.56701 0.45162 E">
                                      <p:cBhvr>
                                        <p:cTn id="186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2.59259E-006 L -0.33871 0.56689 E">
                                      <p:cBhvr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85185E-006 L -0.44097 0.57245 E">
                                      <p:cBhvr>
                                        <p:cTn id="220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916360" y="450864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КОСМ  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04000" y="62064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85185E-006 L -0.10226 0.5618 E">
                                      <p:cBhvr>
                                        <p:cTn id="274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08000" y="4508640"/>
            <a:ext cx="554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РАСНАЯ   ПЛОЩ     Д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09 L 0.00799 0.55139 E">
                                      <p:cBhvr>
                                        <p:cTn id="292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85185E-006 L -0.22431 0.4831 E">
                                      <p:cBhvr>
                                        <p:cTn id="321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771640" y="4508640"/>
            <a:ext cx="36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РЕМ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85185E-006 L -0.12188 0.47269 E">
                                      <p:cBhvr>
                                        <p:cTn id="375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627280" y="4508640"/>
            <a:ext cx="417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КР   СТ      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0364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0.12605 0.34143 E">
                                      <p:cBhvr>
                                        <p:cTn id="405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L 0.04722 0.45694 E">
                                      <p:cBhvr>
                                        <p:cTn id="416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-0.14167 0.37291 E">
                                      <p:cBhvr>
                                        <p:cTn id="421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0.37813 0.35185 E">
                                      <p:cBhvr>
                                        <p:cTn id="438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1:12:01Z</dcterms:created>
  <dc:creator>1</dc:creator>
  <dc:description/>
  <dc:language>en-US</dc:language>
  <cp:lastModifiedBy>1</cp:lastModifiedBy>
  <dcterms:modified xsi:type="dcterms:W3CDTF">2009-01-29T17:59:45Z</dcterms:modified>
  <cp:revision>7</cp:revision>
  <dc:subject/>
  <dc:title>Слайд 1</dc:title>
</cp:coreProperties>
</file>