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E32-0FF8-4203-BE85-30D1E86D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657-CC38-496C-A801-AE3BC736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684-AB6B-4A77-8932-409E4444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B57-6038-4037-B899-968BE4DC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AB5-4F5E-4FC4-9EDD-C421D46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121-8F1D-4252-8B87-4B4B9A6D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B65-4D74-425C-B4B8-B603B97D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7AC-9EF2-4EE6-858F-AF029829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11C-D5A1-4327-84CD-C1E98B9D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1FC-9F9B-4195-8C0B-2AF2437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359-BD4B-483C-95F9-949FD16F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C7D-65D8-4852-B815-9ED24EED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6893-683C-4978-8835-839C1522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70028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6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4437000"/>
            <a:ext cx="4829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43280" y="458136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   Л   Т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508720" y="90792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95640" y="119700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44364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-0.35434 0.57245 E">
                                      <p:cBhvr>
                                        <p:cTn id="470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33854 0.56204 E">
                                      <p:cBhvr>
                                        <p:cTn id="529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458136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   РК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4364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508720" y="90792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95640" y="119700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33854 0.56204 E">
                                      <p:cBhvr>
                                        <p:cTn id="541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843280" y="4581360"/>
            <a:ext cx="29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   РО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4364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508720" y="90792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95640" y="119700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32274 0.56204 E">
                                      <p:cBhvr>
                                        <p:cTn id="601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59280" y="98100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95640" y="4508640"/>
            <a:ext cx="208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К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4364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508720" y="90792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95640" y="119700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-0.05886 0.46713 E">
                                      <p:cBhvr>
                                        <p:cTn id="655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33854 0.56204 E">
                                      <p:cBhvr>
                                        <p:cTn id="666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0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27280" y="4508640"/>
            <a:ext cx="417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   Г   З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-0.18125 0.5669 E">
                                      <p:cBhvr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21267 0.55139 E">
                                      <p:cBhvr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627280" y="4508640"/>
            <a:ext cx="40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   Л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L -0.29931 0.56204 E">
                                      <p:cBhvr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21267 0.55139 E">
                                      <p:cBhvr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627280" y="4508640"/>
            <a:ext cx="40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   Ш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L -0.29931 0.56204 E">
                                      <p:cBhvr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21267 0.55139 E">
                                      <p:cBhvr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00360" y="4508640"/>
            <a:ext cx="38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ЕБ   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94036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26771 0.33078 E">
                                      <p:cBhvr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56000" y="4437000"/>
            <a:ext cx="40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   ДВЕ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94036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10243 0.32037 E">
                                      <p:cBhvr>
                                        <p:cTn id="249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43280" y="4508640"/>
            <a:ext cx="331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ЕС   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04722 0.54074 E">
                                      <p:cBhvr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43280" y="450864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   Т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43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292720" y="76500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6 L 0.15747 0.33587 E">
                                      <p:cBhvr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843280" y="458136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   Л   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508720" y="90792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44364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59259E-006 L -0.3309 0.57754 E">
                                      <p:cBhvr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33055 0.56204 E">
                                      <p:cBhvr>
                                        <p:cTn id="464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30:36Z</dcterms:created>
  <dc:creator>1</dc:creator>
  <dc:description/>
  <dc:language>en-US</dc:language>
  <cp:lastModifiedBy>User</cp:lastModifiedBy>
  <dcterms:modified xsi:type="dcterms:W3CDTF">2009-01-30T03:42:44Z</dcterms:modified>
  <cp:revision>5</cp:revision>
  <dc:subject/>
  <dc:title>Слайд 1</dc:title>
</cp:coreProperties>
</file>