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466-287C-4345-B34B-78E66C2B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D4E-7E98-4AAA-990E-B4738D20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47F-9CA3-46C3-B3D2-02449FDE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8FA-45A5-40EA-8178-64320A06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D70-E592-490B-A746-F9D78EC3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2A7-F6B3-45BD-B36F-53A5509A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F66-D419-45D3-9773-36C54FBA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C76-A317-4AE0-90BC-E2118C1E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14F-F647-4DE2-BEC1-22B2E687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5B5-A441-45CE-AD73-6F7368C4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36F-AB11-490C-89F0-D5781511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526-4D45-460D-AAA9-74895F2C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4CE4-B47B-4EAF-B38F-1750278E8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1916280"/>
            <a:ext cx="4968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квенный дождик 11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4508640"/>
            <a:ext cx="4319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уруто Валентина Викторовна,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СШ №14 г. Нижневартовска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МАО-Югры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79600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627280" y="4508640"/>
            <a:ext cx="367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ТР      ВА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037E-007 L -0.38577 0.57245 E">
                                      <p:cBhvr>
                                        <p:cTn id="44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1481E-006 L -0.25191 0.59352 E">
                                      <p:cBhvr>
                                        <p:cTn id="459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67640" y="83664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76720" y="4437000"/>
            <a:ext cx="2374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УЖ   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-0.34254 0.525 E">
                                      <p:cBhvr>
                                        <p:cTn id="501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67640" y="83664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132000" y="4365720"/>
            <a:ext cx="2880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УЛ  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-0.37396 0.51459 E">
                                      <p:cBhvr>
                                        <p:cTn id="555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59280" y="4365720"/>
            <a:ext cx="3025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УР   ЖА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40139 0.54607 E">
                                      <p:cBhvr>
                                        <p:cTn id="609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79600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627280" y="4653000"/>
            <a:ext cx="367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П   СИБ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037E-007 L -0.17309 0.56181 E">
                                      <p:cBhvr>
                                        <p:cTn id="6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1481E-006 L -0.22049 0.58288 E">
                                      <p:cBhvr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164360" y="69228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987640" y="4365720"/>
            <a:ext cx="338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Т   ЛИ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-0.36215 0.53565 E">
                                      <p:cBhvr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796000" y="69228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87640" y="4653000"/>
            <a:ext cx="345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УБ   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1481E-006 L -0.14948 0.58288 E">
                                      <p:cBhvr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79600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700360" y="4653000"/>
            <a:ext cx="360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Т   РЕЛ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1481E-006 L -0.29132 0.58288 E">
                                      <p:cBhvr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59280" y="4653000"/>
            <a:ext cx="33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Т   ТРАД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13785 0.34653 E">
                                      <p:cBhvr>
                                        <p:cTn id="239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700360" y="4292640"/>
            <a:ext cx="374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Т   ВАР   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50382 0.50394 E">
                                      <p:cBhvr>
                                        <p:cTn id="281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2441 0.38333 E">
                                      <p:cBhvr>
                                        <p:cTn id="286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03640" y="4437000"/>
            <a:ext cx="2590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Т   П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4408 0.525 E">
                                      <p:cBhvr>
                                        <p:cTn id="334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292720" y="1052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30072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59280" y="1916280"/>
            <a:ext cx="57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12000" y="198900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43280" y="4724280"/>
            <a:ext cx="345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ТРАКТ   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7 L -0.11806 0.56181 E">
                                      <p:cBhvr>
                                        <p:cTn id="388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1:12:01Z</dcterms:created>
  <dc:creator>1</dc:creator>
  <dc:description/>
  <dc:language>en-US</dc:language>
  <cp:lastModifiedBy>1</cp:lastModifiedBy>
  <dcterms:modified xsi:type="dcterms:W3CDTF">2009-01-29T17:34:37Z</dcterms:modified>
  <cp:revision>22</cp:revision>
  <dc:subject/>
  <dc:title>Слайд 1</dc:title>
</cp:coreProperties>
</file>