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D0E-6D13-45A9-B09E-5CD371BD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D20-5180-46A6-B1AB-D72E857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8C1-BE0A-4DA8-A5B8-AA94ADF5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493-79F7-47A0-99DA-7E3FEF7B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95D-C4E3-416F-8CB4-181A239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50D-D40C-4D77-80B1-5F50BA65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3D9-D975-41DF-8C7D-18D73E6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20C-4F3E-4389-A3DC-45FC3F3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5A0-2252-4133-A76F-CF72CB7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901-E297-4B59-B722-185BE0F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89-6031-4469-9BE3-C1F6620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0C7-85AA-4363-AE55-18AE5FD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44E-E377-46B6-9703-EB46B60F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700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8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4437000"/>
            <a:ext cx="4829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43280" y="4508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Г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2948E-006 L -0.46475 0.55584 E">
                                      <p:cBhvr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71640" y="450864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М   Д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29272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9306E-006 L -0.33472 0.40901 E">
                                      <p:cBhvr>
                                        <p:cTn id="522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50289E-006 L -0.35417 0.55075 E">
                                      <p:cBhvr>
                                        <p:cTn id="56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80360" y="170028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84360" y="2205000"/>
            <a:ext cx="4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63640" y="4508640"/>
            <a:ext cx="547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Н   ДЕЛЬН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732720" y="90792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35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31214E-006 L -0.12205 0.40393 E">
                                      <p:cBhvr>
                                        <p:cTn id="58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6763E-006 L 0.09445 0.3304 E">
                                      <p:cBhvr>
                                        <p:cTn id="586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104E-006 L -0.49202 0.5193 E">
                                      <p:cBhvr>
                                        <p:cTn id="621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843280" y="458136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6400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50289E-006 L -0.33055 0.57179 E">
                                      <p:cBhvr>
                                        <p:cTn id="681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40360" y="4508640"/>
            <a:ext cx="158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4097 0.56115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ЛЬ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21267 0.55139 E">
                                      <p:cBhvr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627280" y="4508640"/>
            <a:ext cx="40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АМ   Т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L -0.12604 0.55075 E">
                                      <p:cBhvr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43280" y="4508640"/>
            <a:ext cx="324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948E-006 L 0.13386 0.33549 E">
                                      <p:cBhvr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32000" y="450864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С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63E-006 L 0.16528 0.34104 E">
                                      <p:cBhvr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43280" y="4437000"/>
            <a:ext cx="324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Л   Т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4036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5896E-006 L -0.22049 0.52971 E">
                                      <p:cBhvr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43280" y="4508640"/>
            <a:ext cx="331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Л   В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0156 0.56115 E">
                                      <p:cBhvr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43280" y="4508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   Б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2948E-006 L -0.46475 0.55584 E">
                                      <p:cBhvr>
                                        <p:cTn id="402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30:36Z</dcterms:created>
  <dc:creator>1</dc:creator>
  <dc:description/>
  <dc:language>en-US</dc:language>
  <cp:lastModifiedBy>User</cp:lastModifiedBy>
  <dcterms:modified xsi:type="dcterms:W3CDTF">2009-01-30T03:50:26Z</dcterms:modified>
  <cp:revision>8</cp:revision>
  <dc:subject/>
  <dc:title>Слайд 1</dc:title>
</cp:coreProperties>
</file>