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419-C5EB-4F3B-86C0-55988359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0BC-18DA-4E9A-894A-05E77E9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323-CD7C-4B40-86AD-CA47EBBD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736-8151-4610-97EC-67A8ED0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3C3-64F1-4368-8985-A044ADD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FE7-5A36-4EC3-AF3C-BDFB19C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D6D-F4C5-4C48-A303-4FD7669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2FB-2F6E-459F-9D88-D8A23C5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F7D-35C6-4935-91AA-F2C67AE9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22D-77FB-4B52-BF77-13B347E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920-AD5E-4DC9-BD9F-5BBBD7A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6D8-EACE-4763-968A-5381285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82BA-E14E-409F-84F2-28E98D5D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700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7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4437000"/>
            <a:ext cx="4829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19640" y="4508640"/>
            <a:ext cx="273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НАЖ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5276 0.57179 E">
                                      <p:cBhvr>
                                        <p:cTn id="479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35280" y="4508640"/>
            <a:ext cx="244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ТЯБ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50382 0.57179 E">
                                      <p:cBhvr>
                                        <p:cTn id="539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720" y="450864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Е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3298 0.56115 E">
                                      <p:cBhvr>
                                        <p:cTn id="59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635280" y="450864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96 0.56115 E">
                                      <p:cBhvr>
                                        <p:cTn id="659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4508640"/>
            <a:ext cx="33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Н   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20468 0.55139 E"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916360" y="4581360"/>
            <a:ext cx="331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Н   ЯБ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12000" y="765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L -0.45676 0.57754 E">
                                      <p:cBhvr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140360" y="4508640"/>
            <a:ext cx="158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4097 0.56115 E">
                                      <p:cBhvr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0360" y="4365720"/>
            <a:ext cx="151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Ё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4878 0.56115 E">
                                      <p:cBhvr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635280" y="4508640"/>
            <a:ext cx="223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ОВ   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7341E-007 L -0.32274 0.56624 E">
                                      <p:cBhvr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92360" y="4508640"/>
            <a:ext cx="25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.  Г    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2000" y="981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732720" y="54936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35434 0.57179 E">
                                      <p:cBhvr>
                                        <p:cTn id="29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532 L -0.36215 0.57688 E">
                                      <p:cBhvr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635280" y="4508640"/>
            <a:ext cx="2449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УР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6458 0.56115 E">
                                      <p:cBhvr>
                                        <p:cTn id="35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35280" y="4508640"/>
            <a:ext cx="2449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ЕЖ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96 0.57179 E">
                                      <p:cBhvr>
                                        <p:cTn id="419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30:36Z</dcterms:created>
  <dc:creator>1</dc:creator>
  <dc:description/>
  <dc:language>en-US</dc:language>
  <cp:lastModifiedBy>User</cp:lastModifiedBy>
  <dcterms:modified xsi:type="dcterms:W3CDTF">2009-01-30T03:46:21Z</dcterms:modified>
  <cp:revision>11</cp:revision>
  <dc:subject/>
  <dc:title>Слайд 1</dc:title>
</cp:coreProperties>
</file>