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820A-34F6-463C-8892-CD18A2131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763F-11C6-48D5-BD4F-C2096D33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49AC-EEDA-4AA2-9CDB-B8259821E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4C3F-510F-4AFB-A0D4-CC8F060AD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BC4F-69C1-461B-A703-CCFE9B987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43F1-E2E4-42B6-9B0A-6CBD04075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8A70-BE1C-498E-90B7-AF8DEE031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7B3B-F740-4BD9-ABB8-483519497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9607-35A3-4AE8-B5F4-66D074F48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56C7-076F-42C5-9033-EA2D5ABE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5FBE-7823-4B8E-881F-11A4C932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81BA-A394-4261-9EB6-078B936A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9C04-6968-4404-AA45-5CB4FA6EE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195640" y="1916280"/>
            <a:ext cx="4968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уквенный дождик 4</a:t>
            </a:r>
            <a:endParaRPr b="1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484360" y="4508640"/>
            <a:ext cx="431964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уруто Валентина Викторовна,</a:t>
            </a:r>
            <a:endParaRPr b="1" lang="en-US" sz="2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читель начальных классов</a:t>
            </a:r>
            <a:endParaRPr b="1" lang="en-US" sz="2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СШ №14 г. Нижневартовска</a:t>
            </a:r>
            <a:endParaRPr b="1" lang="en-US" sz="2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ХМАО-Югры</a:t>
            </a:r>
            <a:endParaRPr b="1" lang="en-US" sz="2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73272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492360" y="4508640"/>
            <a:ext cx="23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КЛА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667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203640" y="1052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987640" y="1916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441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4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6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447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5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2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453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5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459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6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4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465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6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0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471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7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6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477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2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483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8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8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489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9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4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495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13682E-007 L 0.29931 0.49804 E">
                                      <p:cBhvr>
                                        <p:cTn id="498" dur="1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9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500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0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732720" y="620640"/>
            <a:ext cx="576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268360" y="4508640"/>
            <a:ext cx="49676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К   Л     КТИ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7667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203640" y="1052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987640" y="1916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507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5.64594E-006 L -0.44097 0.56598 E">
                                      <p:cBhvr>
                                        <p:cTn id="510" dur="1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1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512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1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7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518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2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3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524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27016E-006 L 0.25191 0.34089 E">
                                      <p:cBhvr>
                                        <p:cTn id="527" dur="1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8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529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3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4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535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3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0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541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4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6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547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2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553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5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8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559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13682E-007 L 0.07882 0.50867 E">
                                      <p:cBhvr>
                                        <p:cTn id="562" dur="1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3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564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6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73272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340000" y="4653000"/>
            <a:ext cx="4392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К   МБА   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7667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59280" y="836640"/>
            <a:ext cx="576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Й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571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51837E-006 L -0.42518 0.59233 E">
                                      <p:cBhvr>
                                        <p:cTn id="574" dur="1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5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576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8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1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582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8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7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588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9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3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594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9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9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600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0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5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606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1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1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612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1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7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618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2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3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624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39103E-008 L 0.26788 0.52947 E">
                                      <p:cBhvr>
                                        <p:cTn id="627" dur="1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73272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268360" y="2276640"/>
            <a:ext cx="503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340000" y="4653000"/>
            <a:ext cx="4464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К   МБАЙН   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7667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59280" y="836640"/>
            <a:ext cx="576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Й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630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51837E-006 L -0.44097 0.61336 E">
                                      <p:cBhvr>
                                        <p:cTn id="633" dur="1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4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635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0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641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4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6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647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26878E-006 L 0.38993 0.3774 E">
                                      <p:cBhvr>
                                        <p:cTn id="650" dur="1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1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652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5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7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658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6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3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664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6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9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670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7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5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676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8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1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682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8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Cloud"/>
          <p:cNvSpPr/>
          <p:nvPr/>
        </p:nvSpPr>
        <p:spPr>
          <a:xfrm>
            <a:off x="421164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7164360" y="76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843280" y="4076640"/>
            <a:ext cx="2665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ЗА   Ц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132000" y="112536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E-006 5.46106E-006 L 0.11024 0.42986 E">
                                      <p:cBhvr>
                                        <p:cTn id="54" dur="1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59636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340000" y="90792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492360" y="112536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124000" y="4076640"/>
            <a:ext cx="5327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ЗДРА   СТ   У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340000" y="1916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6.9101E-007 L 0.35451 0.41414 E">
                                      <p:cBhvr>
                                        <p:cTn id="84" dur="1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7957E-006 L 0.39375 0.35128 E">
                                      <p:cBhvr>
                                        <p:cTn id="107" dur="1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759636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619280" y="4365720"/>
            <a:ext cx="6048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З   МЛ   НИ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059280" y="98100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27016E-006 L -0.00781 0.31986 E">
                                      <p:cBhvr>
                                        <p:cTn id="131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4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4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2.28796E-007 L 0.14983 0.49804 E">
                                      <p:cBhvr>
                                        <p:cTn id="160" dur="1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79600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7667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979640" y="4076640"/>
            <a:ext cx="4824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К  Р  НДАШ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13200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588000" y="76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6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75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1.70326E-006 L -0.36997 0.49803 E">
                                      <p:cBhvr>
                                        <p:cTn id="178" dur="1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80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86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92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98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04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210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216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7.81142E-007 L -0.34635 0.4874 E">
                                      <p:cBhvr>
                                        <p:cTn id="219" dur="1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227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667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195640" y="4076640"/>
            <a:ext cx="4105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К   РТИН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13200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222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28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3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234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9.66027E-007 L -0.38576 0.477 E">
                                      <p:cBhvr>
                                        <p:cTn id="237" dur="1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39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45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51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57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6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63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6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7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227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7667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268360" y="2205000"/>
            <a:ext cx="503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124000" y="4076640"/>
            <a:ext cx="45356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К    РТОФ    Л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13200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276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8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282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8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7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288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9.66027E-007 L -0.40156 0.477 E">
                                      <p:cBhvr>
                                        <p:cTn id="291" dur="1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293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27016E-006 L 0.30712 0.27779 E">
                                      <p:cBhvr>
                                        <p:cTn id="296" dur="1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7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298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0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304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0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9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10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5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316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2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1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322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2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227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7667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979640" y="4076640"/>
            <a:ext cx="4464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КВ   РТИР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13200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329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3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4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335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3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0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341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9.66027E-007 L -0.35417 0.477 E">
                                      <p:cBhvr>
                                        <p:cTn id="344" dur="1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5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346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5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1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352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5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7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358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6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3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364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6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9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370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7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5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376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8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227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7667640" y="836640"/>
            <a:ext cx="649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124000" y="4437000"/>
            <a:ext cx="4753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К   Л   ГРА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13200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203640" y="1916280"/>
            <a:ext cx="6476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383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4.49503E-006 L -0.41337 0.52416 E">
                                      <p:cBhvr>
                                        <p:cTn id="386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7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388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24336E-006 L -0.5118 0.40375 E">
                                      <p:cBhvr>
                                        <p:cTn id="391" dur="1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2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393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9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8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399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0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4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405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0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0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411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6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417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2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423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2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8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429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3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4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2.74324E-006 L 0.41355 0.367 E">
                                      <p:cBhvr>
                                        <p:cTn id="438" dur="1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1:12:01Z</dcterms:created>
  <dc:creator>1</dc:creator>
  <dc:description/>
  <dc:language>en-US</dc:language>
  <cp:lastModifiedBy>User</cp:lastModifiedBy>
  <dcterms:modified xsi:type="dcterms:W3CDTF">2009-01-29T05:09:29Z</dcterms:modified>
  <cp:revision>15</cp:revision>
  <dc:subject/>
  <dc:title>Слайд 1</dc:title>
</cp:coreProperties>
</file>