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0DD-7829-47AC-9BBD-6A50E052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945-1B18-496D-838C-43F504FE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8E2-4266-4DFF-866E-F1F56F54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9AE-0D0E-45DA-BFFC-E3ACB1E4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953-7E9E-49A9-BCDF-56FC4D3E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E29-96AC-4816-82E0-174FADD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4DD-D990-455C-A5C7-1ECE232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C0C-D21B-4C63-A1F3-A4C3C824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178-02C5-40FC-9FD8-6629FDF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860-9A3F-4F76-BAA2-D8BA5071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6DA-10B6-40A7-93EE-BCFA1FE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16F-FCD5-49E4-B63B-FD19CAC7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3DBE-5B8A-4E9B-9E5C-44ACDF53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12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771640" y="4581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ЯБЛ   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35417 0.54607 E">
                                      <p:cBhvr>
                                        <p:cTn id="4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87640" y="4508640"/>
            <a:ext cx="295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ЯГ   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39358 0.53565 E">
                                      <p:cBhvr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4000" y="4653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ЗЫ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3143 0.54075 E">
                                      <p:cBhvr>
                                        <p:cTn id="608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76720" y="4653000"/>
            <a:ext cx="27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НВА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6302 0.54075 E">
                                      <p:cBhvr>
                                        <p:cTn id="662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00360" y="465300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Ч   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7726 0.34653 E">
                                      <p:cBhvr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43280" y="4653000"/>
            <a:ext cx="345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Ф   ВР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2205 0.34653 E">
                                      <p:cBhvr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050920" y="1052640"/>
            <a:ext cx="5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43280" y="4581360"/>
            <a:ext cx="3457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Х  К  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7 L -0.46441 0.57245 E">
                                      <p:cBhvr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0.27951 0.54606 E">
                                      <p:cBhvr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16360" y="4292640"/>
            <a:ext cx="352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Х   РОШ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4724 0.525 E">
                                      <p:cBhvr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96000" y="69228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Ё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2000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32000" y="4653000"/>
            <a:ext cx="31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Ч   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-0.24028 0.58288 E">
                                      <p:cBhvr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27640" y="1989000"/>
            <a:ext cx="4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59280" y="4581360"/>
            <a:ext cx="302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Ч   ТВ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4566 0.33611 E">
                                      <p:cBhvr>
                                        <p:cTn id="30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0781 0.37824 E">
                                      <p:cBhvr>
                                        <p:cTn id="32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87640" y="4508640"/>
            <a:ext cx="31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ЧУ   СТ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1573 0.53565 E">
                                      <p:cBhvr>
                                        <p:cTn id="346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0.32309 0.44653 E">
                                      <p:cBhvr>
                                        <p:cTn id="369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88000" y="1557360"/>
            <a:ext cx="57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59280" y="4365720"/>
            <a:ext cx="28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ЯБЛ 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036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18889 0.51459 E">
                                      <p:cBhvr>
                                        <p:cTn id="399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6 L -0.12587 0.51459 E">
                                      <p:cBhvr>
                                        <p:cTn id="446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1</cp:lastModifiedBy>
  <dcterms:modified xsi:type="dcterms:W3CDTF">2009-01-29T17:04:03Z</dcterms:modified>
  <cp:revision>23</cp:revision>
  <dc:subject/>
  <dc:title>Слайд 1</dc:title>
</cp:coreProperties>
</file>