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5CA-4C15-4B16-94CC-B894E319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E2F-08A7-4246-A5C7-BEDCA1AE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630-1FFC-48F6-9A0A-19CF9341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2C9-0928-4FB8-A76D-4D2596EE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36D-9D46-4924-B89F-FCE1F577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E4C-B870-4AAD-B8B2-DFB65DD9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B35-AAEA-48F5-B06C-443CA4D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4D0-76E5-4213-B298-C79BAE86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524-995D-4599-8D55-318EFC78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615-CCB1-4D1C-BF6B-B7CD7E9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4AD-1460-4801-A89C-819BD78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6EF-6B30-43CE-B041-968C588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0E78-7534-45DE-9F25-BA1C323C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3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43280" y="4076640"/>
            <a:ext cx="28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З   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0326E-006 L -0.29931 0.49803 E">
                                      <p:cBhvr>
                                        <p:cTn id="466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59280" y="4076640"/>
            <a:ext cx="266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ЗАВТ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0326E-006 L -0.03142 0.49803 E">
                                      <p:cBhvr>
                                        <p:cTn id="526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771640" y="407664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ЗАВТР   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0326E-006 L -0.10244 0.49803 E">
                                      <p:cBhvr>
                                        <p:cTn id="586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59280" y="4076640"/>
            <a:ext cx="280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ЗАП   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0326E-006 L -0.15747 0.49803 E">
                                      <p:cBhvr>
                                        <p:cTn id="646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16360" y="4221000"/>
            <a:ext cx="352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ЕВ   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1837E-006 L -0.34635 0.52946 E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27280" y="429264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   ЖУ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0243 0.33026 E">
                                      <p:cBhvr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71640" y="4221000"/>
            <a:ext cx="367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   КАБ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1806 0.29882 E">
                                      <p:cBhvr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27280" y="4221000"/>
            <a:ext cx="367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   РЕВ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0243 0.29882 E">
                                      <p:cBhvr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56000" y="414972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   РО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51837E-006 L -0.38577 0.51906 E">
                                      <p:cBhvr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372360" y="1700280"/>
            <a:ext cx="57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3564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92360" y="4149720"/>
            <a:ext cx="59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О    СВ    ДАН    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0872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4336E-006 L -0.22049 0.36191 E">
                                      <p:cBhvr>
                                        <p:cTn id="28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4336E-006 L -0.08663 0.36191 E">
                                      <p:cBhvr>
                                        <p:cTn id="341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Ё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627280" y="436572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Ж   ЛТ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2605 0.31986 E">
                                      <p:cBhvr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96360" y="62064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84360" y="436572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Ж    ВОТН   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94269E-006 L -0.2125 0.54519 E">
                                      <p:cBhvr>
                                        <p:cTn id="401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46458 0.39335 E">
                                      <p:cBhvr>
                                        <p:cTn id="406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User</cp:lastModifiedBy>
  <dcterms:modified xsi:type="dcterms:W3CDTF">2009-01-27T08:02:23Z</dcterms:modified>
  <cp:revision>14</cp:revision>
  <dc:subject/>
  <dc:title>Слайд 1</dc:title>
</cp:coreProperties>
</file>