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FB82-002F-4639-BA9D-0CCE949B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16FF-5505-4538-8800-6E03D816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07EF-F981-49AB-BCF0-6AF17AF0C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E242-C40F-4D24-B730-B2B58C119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27A1-C38F-4FB2-B41D-401E69F1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D81B-0688-4D0B-8838-2C063B83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D28B-E680-4E49-9FE1-AE1E4B5B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7AB6-895A-4AC1-92C1-6DFB0119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0712-7F95-47F5-9047-E29ECBED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10AC-77EF-4C86-8719-708B4208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1A53-8080-4740-9621-EF070708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ED34-A341-40EB-B5CE-7728F07B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2CA1-8F48-4DA5-A91A-CBC676567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95640" y="1916280"/>
            <a:ext cx="4968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уквенный дождик 2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484360" y="4508640"/>
            <a:ext cx="43196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уруто Валентина Викторовна,</a:t>
            </a:r>
            <a:endParaRPr b="1" lang="en-US" sz="2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итель начальных классов</a:t>
            </a:r>
            <a:endParaRPr b="1" lang="en-US" sz="2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СШ №14 г. Нижневартовска</a:t>
            </a:r>
            <a:endParaRPr b="1" lang="en-US" sz="2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МАО-Югры</a:t>
            </a:r>
            <a:endParaRPr b="1" lang="en-US" sz="2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916360" y="4365720"/>
            <a:ext cx="324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ВЧ   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48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5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9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27016E-006 L 0.21268 0.31986 E">
                                      <p:cBhvr>
                                        <p:cTn id="469" dur="1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483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8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9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95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843280" y="4221000"/>
            <a:ext cx="2952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Г   РО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02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0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1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9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520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27016E-006 L 0.11806 0.31986 E">
                                      <p:cBhvr>
                                        <p:cTn id="523" dur="1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525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537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54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8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549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451640" y="76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843280" y="4437000"/>
            <a:ext cx="3241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ГОР   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556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7.81142E-007 L -0.29913 0.53987 E">
                                      <p:cBhvr>
                                        <p:cTn id="559" dur="1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0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561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6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6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567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573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7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8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579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4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585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0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591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6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597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2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603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451640" y="76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843280" y="4437000"/>
            <a:ext cx="3241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Г   РО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610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7.81142E-007 L -0.44878 0.53987 E">
                                      <p:cBhvr>
                                        <p:cTn id="613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615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0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621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6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627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3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633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3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8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639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4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645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4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0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651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916360" y="4437000"/>
            <a:ext cx="302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ВЕС   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51837E-006 L -0.16527 0.5609 E">
                                      <p:cBhvr>
                                        <p:cTn id="6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0.00532 L 0.2757 0.32517 E">
                                      <p:cBhvr>
                                        <p:cTn id="23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916360" y="4365720"/>
            <a:ext cx="2879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ВЕТ   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6763E-006 L 0.2599 0.32 E">
                                      <p:cBhvr>
                                        <p:cTn id="77" dur="1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916360" y="4365720"/>
            <a:ext cx="2879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ВМЕС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6763E-006 L 0.39375 0.32 E">
                                      <p:cBhvr>
                                        <p:cTn id="131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916360" y="4437000"/>
            <a:ext cx="3311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В   КРУ 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12139E-006 L -0.44878 0.56115 E">
                                      <p:cBhvr>
                                        <p:cTn id="167" dur="1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2775E-006 L 0.40173 0.50867 E">
                                      <p:cBhvr>
                                        <p:cTn id="214" dur="1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73272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56000" y="4149720"/>
            <a:ext cx="4321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В   Р   БЕ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51837E-006 L -0.38577 0.5505 E">
                                      <p:cBhvr>
                                        <p:cTn id="220" dur="1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22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9.66027E-007 L -0.35417 0.51907 E">
                                      <p:cBhvr>
                                        <p:cTn id="273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73272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56000" y="4149720"/>
            <a:ext cx="396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В   РО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51837E-006 L -0.38577 0.51906 E">
                                      <p:cBhvr>
                                        <p:cTn id="279" dur="1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3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73272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124000" y="4292640"/>
            <a:ext cx="5616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В   СКР   СЕН   Е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51837E-006 L -0.45677 0.53986 E">
                                      <p:cBhvr>
                                        <p:cTn id="339" dur="1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4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5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59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65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71782E-006 L 0.0158 0.34065 E">
                                      <p:cBhvr>
                                        <p:cTn id="374" dur="1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76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82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7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88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9.66027E-007 L -0.35417 0.50843 E">
                                      <p:cBhvr>
                                        <p:cTn id="391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451640" y="76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700360" y="4437000"/>
            <a:ext cx="3527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В   СТО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7.81142E-007 L -0.45659 0.53987 E">
                                      <p:cBhvr>
                                        <p:cTn id="397" dur="1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0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1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1:12:01Z</dcterms:created>
  <dc:creator>1</dc:creator>
  <dc:description/>
  <dc:language>en-US</dc:language>
  <cp:lastModifiedBy>User</cp:lastModifiedBy>
  <dcterms:modified xsi:type="dcterms:W3CDTF">2009-01-27T07:33:36Z</dcterms:modified>
  <cp:revision>13</cp:revision>
  <dc:subject/>
  <dc:title>Слайд 1</dc:title>
</cp:coreProperties>
</file>