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8522-2E20-4528-9778-68FDED95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E8D6-A027-484A-BAE5-018C5AA1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BCAF-555A-455F-BABC-2F7E49FA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4C1-9F8C-488C-979B-13B97289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B345-31A2-4D76-8105-8F45ACE3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234-6F81-4C46-A21A-0FF974F6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5FEB-4A95-4849-9DF5-55A0DA80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B104-CD1A-41BA-8B64-5C8FAC24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5AF-F23A-4554-B41A-6E02208B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911-6CC2-4905-B84B-2348CE6B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629C-E6A4-44CB-ABB6-82535254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2D79-3FA4-4CB6-A230-634E3900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215E-AAD9-4EA6-A8CD-E2A514474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1916280"/>
            <a:ext cx="4968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квенный дождик 10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84360" y="4508640"/>
            <a:ext cx="4319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уруто Валентина Викторовна,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начальных классов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СШ №14 г. Нижневартовска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МАО-Югры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4437000"/>
            <a:ext cx="2950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С   ЛДА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49503E-006 L -0.42518 0.52416 E">
                                      <p:cBhvr>
                                        <p:cTn id="453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788000" y="1557360"/>
            <a:ext cx="57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411280" y="4365720"/>
            <a:ext cx="3889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С   Л   В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94036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49503E-006 L -0.38577 0.54519 E">
                                      <p:cBhvr>
                                        <p:cTn id="507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9503E-006 L -0.33073 0.54519 E">
                                      <p:cBhvr>
                                        <p:cTn id="554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771640" y="4508640"/>
            <a:ext cx="3384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С   ЛО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49503E-006 L -0.48021 0.54519 E">
                                      <p:cBhvr>
                                        <p:cTn id="560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86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98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771640" y="4581360"/>
            <a:ext cx="33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С   РО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49503E-006 L -0.4724 0.54519 E">
                                      <p:cBhvr>
                                        <p:cTn id="61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1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7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40000" y="90792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492360" y="112536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627280" y="4365720"/>
            <a:ext cx="360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РУС   К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411280" y="1916280"/>
            <a:ext cx="50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957E-006 L 0.19288 0.38295 E">
                                      <p:cBhvr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79600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627280" y="465300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С  П  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9.66027E-007 L -0.33056 0.5609 E">
                                      <p:cBhvr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70326E-006 L -0.27552 0.58193 E">
                                      <p:cBhvr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79600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132000" y="4653000"/>
            <a:ext cx="316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САХ  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70326E-006 L -0.07084 0.58193 E">
                                      <p:cBhvr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68360" y="227664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59280" y="4581360"/>
            <a:ext cx="273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СЕВ   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59280" y="83664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Й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6878E-006 L 0.2717 0.34597 E">
                                      <p:cBhvr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68360" y="2276640"/>
            <a:ext cx="57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411280" y="4581360"/>
            <a:ext cx="4321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С     ОДН 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59280" y="83664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Й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08528E-006 L 0.07882 0.34089 E">
                                      <p:cBhvr>
                                        <p:cTn id="245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8796E-007 L 0.18125 0.52947 E">
                                      <p:cBhvr>
                                        <p:cTn id="268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9.66027E-007 L -0.18091 0.5505 E">
                                      <p:cBhvr>
                                        <p:cTn id="273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268360" y="227664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627280" y="479736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С   НТЯБР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59280" y="83664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Й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6878E-006 L 0.09844 0.367 E">
                                      <p:cBhvr>
                                        <p:cTn id="303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76720" y="4437000"/>
            <a:ext cx="230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СКО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49503E-006 L -0.22032 0.52416 E">
                                      <p:cBhvr>
                                        <p:cTn id="345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76720" y="4437000"/>
            <a:ext cx="266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С   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49503E-006 L -0.41719 0.52416 E">
                                      <p:cBhvr>
                                        <p:cTn id="399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1:12:01Z</dcterms:created>
  <dc:creator>1</dc:creator>
  <dc:description/>
  <dc:language>en-US</dc:language>
  <cp:lastModifiedBy>User</cp:lastModifiedBy>
  <dcterms:modified xsi:type="dcterms:W3CDTF">2009-01-29T07:17:21Z</dcterms:modified>
  <cp:revision>19</cp:revision>
  <dc:subject/>
  <dc:title>Слайд 1</dc:title>
</cp:coreProperties>
</file>