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C97-AC5B-44BB-A785-7D0434ED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530-65CC-4642-ABF1-2D50435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D9C-0B28-461C-9304-5F3416EB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84C-44E5-4F46-9069-18F50513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5102-6DBD-4061-8E71-95CC23D4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58B-13E8-40F8-A9D2-72716D8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E8C-EFB4-4C84-83CD-FA57635B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7520-8FDB-4715-8751-9370B0C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1FC5-AA05-4E1C-AC7F-8F48031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6CB-3B6C-4A1B-8BA0-6658236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459-5FEE-4983-AA6A-D2B80C3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896-73CA-4242-B2D9-45A0D13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19D8-4799-49DC-B5E9-FF19262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097-9251-4F4E-A6C1-5F026CB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F924-3279-4916-86E0-23CA0F8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6A36-C634-44D3-B751-67FCCCF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60CE-C412-4688-B596-98F2FE8D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E69C-687A-4E11-A5BC-45A6DF4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CCF1-F8C9-47E3-B0DC-9568CB1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B1BA-21F8-4AFE-8FD7-3D8906A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7A13-0904-45AE-BB47-5C3C000F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24B8-8BFB-4B4E-8206-4EEBD46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EE4-E0D4-4213-A06A-B1C68DA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6B54-B315-49F9-A17F-EAB810C9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6CC8-0A5D-4644-A76A-3A20F4B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D53A5-4CD9-4C63-A2B4-8D389E0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4405-866D-4B66-83C2-716DF89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CD09-7EDE-46FA-B6B5-1D4A4A15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B45E-0122-4BE9-8832-2954512C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1D83-E808-40CA-A236-A014FCA7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0B74-DC9A-4F06-A0B0-835EAE8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27C9-9938-4485-896B-855E0A25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6387-FBC6-4BD1-A6CC-826F383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0EE-4C88-4A3C-BA10-4471E35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B4EFF-90D4-4D2D-BC88-B5E5F75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BB28-A19E-4284-82CC-59BB815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2FE0-CB34-48A7-8F91-4317369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58C5-7587-4C16-8278-F5F49B7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B87E-611D-4246-86F9-24BCF7F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891F-2476-48A6-B7B4-23034B2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22EB-E710-4BB9-AE2E-41969377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5048-72AE-43F8-B453-D5FD7E1A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30CA-FA1E-4090-A4B4-DD872272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03B8-D03C-4708-8EFA-CB753F07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D9F-1FA0-4795-8B00-25701387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BB8A-A77C-4413-BB04-1F9F0E7D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5A7BC-0E8F-4CB0-922B-289294C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0672-CC7F-49C9-9C69-9FB51A4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D611-769C-4B26-89D8-9A2EAB99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DF3C-EC99-45FA-B875-E60A36DF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2D34-1427-4F63-8761-C0B5D1D3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A80F-640B-4EB5-9AF3-0ED96F6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B9FB-8422-4CCA-B5AB-139B6D2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B15A-AD6E-4D11-BBCC-249A26A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0085-5F7A-4DDF-AC8A-7518CCF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134-DCFC-41C2-86B2-EFC28FC0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412E-C612-45D6-B7F6-6609EB4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5F7-5CD3-4B65-85B8-0BB0EED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084-E368-4581-B8F7-F65F93D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61E-1525-4707-A4AC-88989D51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F5EB-7956-419F-93B7-6AF5607F2F11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FBB4-993C-4FC3-84F3-1791AB6FA537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39E4-6CC2-4B00-8A94-D721C14C0733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D41-69EC-43FB-989F-34EBF89C023C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FC74-D168-4EA6-829C-C83CF2CFE2E6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9738"/>
                </a:solidFill>
                <a:latin typeface="Calibri"/>
              </a:rPr>
              <a:t>           </a:t>
            </a:r>
            <a:r>
              <a:rPr b="1" lang="ru-RU" sz="4800" spc="-1" strike="noStrike">
                <a:solidFill>
                  <a:srgbClr val="af9738"/>
                </a:solidFill>
                <a:latin typeface="Calibri"/>
              </a:rPr>
              <a:t>Буквы </a:t>
            </a:r>
            <a:r>
              <a:rPr b="1" lang="ru-RU" sz="4000" spc="-1" strike="noStrike">
                <a:solidFill>
                  <a:srgbClr val="af9738"/>
                </a:solidFill>
                <a:latin typeface="Calibri"/>
              </a:rPr>
              <a:t>.....</a:t>
            </a:r>
            <a:r>
              <a:rPr b="1" lang="ru-RU" sz="4800" spc="-1" strike="noStrike">
                <a:solidFill>
                  <a:srgbClr val="af9738"/>
                </a:solidFill>
                <a:latin typeface="Calibri"/>
              </a:rPr>
              <a:t> ,звуки…..</a:t>
            </a:r>
            <a:br>
              <a:rPr sz="4800"/>
            </a:br>
            <a:br>
              <a:rPr sz="4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ик  Ольга  Юрьевна МОУ СОШ №8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Нижегородская обл.  г. Ксто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ы предоставлены сайтом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ussisc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ue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nde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</a:t>
            </a:r>
            <a:endParaRPr b="1" lang="en-US" sz="1800" spc="-1" strike="noStrike">
              <a:solidFill>
                <a:srgbClr val="e8ce72"/>
              </a:solidFill>
              <a:latin typeface="Calibri"/>
            </a:endParaRPr>
          </a:p>
        </p:txBody>
      </p:sp>
      <p:pic>
        <p:nvPicPr>
          <p:cNvPr id="221" name="Picture 6" descr="D:\Мои рисунки\7m3.gif"/>
          <p:cNvPicPr/>
          <p:nvPr/>
        </p:nvPicPr>
        <p:blipFill>
          <a:blip r:embed="rId1"/>
          <a:stretch/>
        </p:blipFill>
        <p:spPr>
          <a:xfrm>
            <a:off x="6553080" y="762120"/>
            <a:ext cx="191952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066680" y="838080"/>
            <a:ext cx="31719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914400" y="99072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5bb0"/>
                </a:solidFill>
                <a:latin typeface="Cambria"/>
              </a:rPr>
              <a:t>На каждом корабле есть флаг. Русский флот ходит под Андреевским флагом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3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3048120"/>
            <a:ext cx="4238640" cy="2239920"/>
          </a:xfrm>
          <a:prstGeom prst="rect">
            <a:avLst/>
          </a:prstGeom>
          <a:ln w="0">
            <a:noFill/>
          </a:ln>
        </p:spPr>
      </p:pic>
      <p:grpSp>
        <p:nvGrpSpPr>
          <p:cNvPr id="239" name="Группа 4"/>
          <p:cNvGrpSpPr/>
          <p:nvPr/>
        </p:nvGrpSpPr>
        <p:grpSpPr>
          <a:xfrm>
            <a:off x="4419000" y="533520"/>
            <a:ext cx="4296960" cy="3790800"/>
            <a:chOff x="4419000" y="533520"/>
            <a:chExt cx="4296960" cy="3790800"/>
          </a:xfrm>
        </p:grpSpPr>
        <p:sp>
          <p:nvSpPr>
            <p:cNvPr id="240" name="Выноска-облако 2"/>
            <p:cNvSpPr/>
            <p:nvPr/>
          </p:nvSpPr>
          <p:spPr>
            <a:xfrm rot="1183200">
              <a:off x="4776480" y="1056960"/>
              <a:ext cx="3581280" cy="27432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41" name="TextBox 3"/>
            <p:cNvSpPr/>
            <p:nvPr/>
          </p:nvSpPr>
          <p:spPr>
            <a:xfrm>
              <a:off x="5637960" y="190476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mbria"/>
                </a:rPr>
                <a:t>Спасибо за урок!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4"/>
          <p:cNvSpPr/>
          <p:nvPr/>
        </p:nvSpPr>
        <p:spPr>
          <a:xfrm>
            <a:off x="380880" y="457200"/>
            <a:ext cx="8382240" cy="5943600"/>
          </a:xfrm>
          <a:prstGeom prst="rect">
            <a:avLst/>
          </a:prstGeom>
          <a:solidFill>
            <a:srgbClr val="c4d0b5"/>
          </a:solidFill>
          <a:ln w="25560">
            <a:solidFill>
              <a:srgbClr val="eb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24" name="Picture 7" descr="D:\Мои рисунки\8m5.gif"/>
          <p:cNvPicPr/>
          <p:nvPr/>
        </p:nvPicPr>
        <p:blipFill>
          <a:blip r:embed="rId1"/>
          <a:stretch/>
        </p:blipFill>
        <p:spPr>
          <a:xfrm>
            <a:off x="3809880" y="32004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517760" y="2951280"/>
          <a:ext cx="6108480" cy="95544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95544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1108080" y="1368360"/>
            <a:ext cx="7045200" cy="3865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114800" cy="49496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7391520" y="3276720"/>
            <a:ext cx="495360" cy="511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05732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4952880" y="533520"/>
            <a:ext cx="373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илин два огромных глаза –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у </a:t>
            </a:r>
            <a:r>
              <a:rPr b="1" lang="ru-RU" sz="2800" spc="-1" strike="noStrike">
                <a:solidFill>
                  <a:srgbClr val="756525"/>
                </a:solidFill>
                <a:latin typeface="Arial"/>
                <a:ea typeface="Times New Roman"/>
              </a:rPr>
              <a:t>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мнит сразу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упоглазый целит взгляд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но фотоаппара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http://www.ermanok.net/tmp/images/slobod_006.jpg"/>
          <p:cNvPicPr/>
          <p:nvPr/>
        </p:nvPicPr>
        <p:blipFill>
          <a:blip r:embed="rId1"/>
          <a:stretch/>
        </p:blipFill>
        <p:spPr>
          <a:xfrm>
            <a:off x="1066680" y="592200"/>
            <a:ext cx="3962520" cy="51861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5181480" y="15238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I –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вый русский флотоводец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www.pereplet.ru/galery/yahnin/6.jpg"/>
          <p:cNvPicPr/>
          <p:nvPr/>
        </p:nvPicPr>
        <p:blipFill>
          <a:blip r:embed="rId1"/>
          <a:stretch/>
        </p:blipFill>
        <p:spPr>
          <a:xfrm>
            <a:off x="685800" y="503280"/>
            <a:ext cx="76201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http://www.russdom.ru/2005/200512i/skin/5288.jpg"/>
          <p:cNvPicPr/>
          <p:nvPr/>
        </p:nvPicPr>
        <p:blipFill>
          <a:blip r:embed="rId1"/>
          <a:stretch/>
        </p:blipFill>
        <p:spPr>
          <a:xfrm>
            <a:off x="838080" y="744480"/>
            <a:ext cx="74678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http://feliks.ucoz.ru/_nw/1/87264.jpg"/>
          <p:cNvPicPr/>
          <p:nvPr/>
        </p:nvPicPr>
        <p:blipFill>
          <a:blip r:embed="rId1"/>
          <a:stretch/>
        </p:blipFill>
        <p:spPr>
          <a:xfrm>
            <a:off x="361800" y="914400"/>
            <a:ext cx="8401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27631873</cp:lastModifiedBy>
  <dcterms:modified xsi:type="dcterms:W3CDTF">2010-07-22T08:23:04Z</dcterms:modified>
  <cp:revision>23</cp:revision>
  <dc:subject/>
  <dc:title>   Буквы ..... ,звуки.....  </dc:title>
</cp:coreProperties>
</file>