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5B9-A08A-4DE2-8776-E298FC93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D0B-0A8A-4243-AB25-01B160BD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B85-5036-480C-9C8C-69636100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537-D702-46B4-A06D-55B7B862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579-BA0B-4B23-A688-B94DE5B4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04C-CA06-4E7F-AED6-0F86C58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527-C0D7-4949-BF4B-BEF96838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E32-2B0E-47A6-BD6C-5345993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7A8-6C04-4BBC-A55C-E7FFC99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F42-C817-4A9F-8DEC-EE3F0B5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8E0-DF99-4E77-8BBD-E0BEC27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904-A13C-47BC-AF9B-0B640EE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4BFF-F817-4A44-BABB-9E8948E8D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1;&#1077;&#1079;&#1091;&#1076;&#1072;&#1088;&#1085;&#1072;&#1103;%20&#1075;&#1083;&#1072;&#1089;&#1085;&#1072;&#1103;.doc" TargetMode="External"/><Relationship Id="rId2" Type="http://schemas.openxmlformats.org/officeDocument/2006/relationships/hyperlink" Target="file:///&#1041;&#1077;&#1079;&#1091;&#1076;&#1072;&#1088;&#1085;&#1072;&#1103;%20&#1075;&#1083;&#1072;&#1089;&#1085;&#1072;&#1103;.doc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42;&#1099;&#1073;&#1077;&#1088;&#1080;%20&#1087;&#1088;&#1086;&#1074;&#1077;&#1088;&#1086;&#1095;&#1085;&#1099;&#1077;%20&#1089;&#1083;&#1086;&#1074;&#1072;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1;&#1080;&#1096;&#1085;&#1077;&#1077;%20&#1089;&#1083;&#1086;&#1074;&#1086;.doc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3;&#1072;&#1081;&#1076;&#1080;%20&#1084;&#1077;&#1089;&#1090;&#1086;.ppt" TargetMode="External"/><Relationship Id="rId2" Type="http://schemas.openxmlformats.org/officeDocument/2006/relationships/hyperlink" Target="file:///&#1053;&#1072;&#1081;&#1076;&#1080;%20&#1084;&#1077;&#1089;&#1090;&#1086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1;&#1072;&#1073;&#1086;&#1095;&#1082;&#1080;.ppt" TargetMode="External"/><Relationship Id="rId2" Type="http://schemas.openxmlformats.org/officeDocument/2006/relationships/hyperlink" Target="file:///&#1041;&#1072;&#1073;&#1086;&#1095;&#1082;&#1080;.ppt" TargetMode="External"/><Relationship Id="rId3" Type="http://schemas.openxmlformats.org/officeDocument/2006/relationships/hyperlink" Target="file:///&#1042;&#1077;&#1089;&#1077;&#1083;&#1099;&#1081;%20&#1079;&#1086;&#1086;&#1087;&#1072;&#1088;&#1082;.ppt" TargetMode="External"/><Relationship Id="rId4" Type="http://schemas.openxmlformats.org/officeDocument/2006/relationships/hyperlink" Target="file:///&#1050;&#1086;&#1088;&#1088;&#1077;&#1082;&#1090;&#1091;&#1088;&#1085;&#1072;&#1103;%20&#1087;&#1088;&#1086;&#1073;&#1072;.ppt" TargetMode="External"/><Relationship Id="rId5" Type="http://schemas.openxmlformats.org/officeDocument/2006/relationships/hyperlink" Target="file:///&#1050;&#1086;&#1088;&#1088;&#1077;&#1082;&#1090;&#1091;&#1088;&#1085;&#1072;&#1103;%20&#1087;&#1088;&#1086;&#1073;&#1072;.ppt" TargetMode="External"/><Relationship Id="rId6" Type="http://schemas.openxmlformats.org/officeDocument/2006/relationships/hyperlink" Target="file:///&#1055;&#1086;&#1087;&#1072;&#1076;&#1080;%20&#1074;%20&#1094;&#1077;&#1083;&#1100;.ppt" TargetMode="External"/><Relationship Id="rId7" Type="http://schemas.openxmlformats.org/officeDocument/2006/relationships/hyperlink" Target="file:///&#1057;&#1083;&#1086;&#1074;&#1072;%20&#1080;&#1079;%20&#1088;&#1072;&#1089;&#1089;&#1099;&#1087;&#1072;&#1085;&#1085;&#1099;&#1093;%20%20&#1073;&#1091;&#1082;&#1074;.doc" TargetMode="External"/><Relationship Id="rId8" Type="http://schemas.openxmlformats.org/officeDocument/2006/relationships/hyperlink" Target="file:///&#1057;&#1083;&#1086;&#1074;&#1072;%20&#1080;&#1079;%20&#1088;&#1072;&#1089;&#1089;&#1099;&#1087;&#1072;&#1085;&#1085;&#1099;&#1093;%20%20&#1073;&#1091;&#1082;&#1074;.doc" TargetMode="External"/><Relationship Id="rId9" Type="http://schemas.openxmlformats.org/officeDocument/2006/relationships/hyperlink" Target="file:///&#1057;&#1086;&#1073;&#1077;&#1088;&#1080;%20&#1087;&#1086;&#1089;&#1083;&#1086;&#1074;&#1080;&#1094;&#1099;.doc" TargetMode="External"/><Relationship Id="rId10" Type="http://schemas.openxmlformats.org/officeDocument/2006/relationships/hyperlink" Target="file:///&#1057;&#1086;&#1073;&#1077;&#1088;&#1080;%20&#1087;&#1086;&#1089;&#1083;&#1086;&#1074;&#1080;&#1094;&#1099;.doc" TargetMode="External"/><Relationship Id="rId11" Type="http://schemas.openxmlformats.org/officeDocument/2006/relationships/hyperlink" Target="file:///&#1052;&#1085;&#1086;&#1075;&#1086;&#1079;&#1085;&#1072;&#1095;&#1085;&#1099;&#1077;%20&#1089;&#1083;&#1086;&#1074;&#1072;.doc" TargetMode="External"/><Relationship Id="rId12" Type="http://schemas.openxmlformats.org/officeDocument/2006/relationships/hyperlink" Target="file:///&#1052;&#1085;&#1086;&#1075;&#1086;&#1079;&#1085;&#1072;&#1095;&#1085;&#1099;&#1077;%20&#1089;&#1083;&#1086;&#1074;&#1072;.doc" TargetMode="External"/><Relationship Id="rId13" Type="http://schemas.openxmlformats.org/officeDocument/2006/relationships/hyperlink" Target="file:///&#1063;&#1072;&#1089;&#1090;&#1085;&#1086;&#1077;-&#1086;&#1073;&#1097;&#1077;&#1077;.doc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86;&#1089;&#1083;&#1086;&#1074;&#1080;&#1094;&#1099;%20&#1080;%20&#1087;&#1086;&#1075;&#1086;&#1074;&#1086;&#1088;&#1082;&#1080;.doc" TargetMode="External"/><Relationship Id="rId2" Type="http://schemas.openxmlformats.org/officeDocument/2006/relationships/hyperlink" Target="file:///&#1055;&#1086;&#1089;&#1083;&#1086;&#1074;&#1080;&#1094;&#1099;%20&#1080;%20&#1087;&#1086;&#1075;&#1086;&#1074;&#1086;&#1088;&#1082;&#1080;.doc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ffice.microsoft.com/ru-ru/clipart/results.aspx?qu=&#1094;&#1074;&#1077;&#1090;&#1099;&amp;sc=20&amp;CategoryID=CM790019031049#Slide 0" TargetMode="External"/><Relationship Id="rId2" Type="http://schemas.openxmlformats.org/officeDocument/2006/relationships/hyperlink" Target="http://office.microsoft.com/ru-ru/clipart/results.aspx?qu=&#1094;&#1074;&#1077;&#1090;&#1099;&amp;sc=20&amp;CategoryID=CM790019031049#Slide 0" TargetMode="External"/><Relationship Id="rId3" Type="http://schemas.openxmlformats.org/officeDocument/2006/relationships/hyperlink" Target="http://office.microsoft.com/ru-ru/clipart/results.aspx?qu=&#1094;&#1074;&#1077;&#1090;&#1099;&amp;sc=20&amp;CategoryID=CM790019031049#Slide 0" TargetMode="External"/><Relationship Id="rId4" Type="http://schemas.openxmlformats.org/officeDocument/2006/relationships/hyperlink" Target="http://office.microsoft.com/ru-ru/clipart/results.aspx?qu=&#1094;&#1074;&#1077;&#1090;&#1099;&amp;sc=20&amp;CategoryID=CM790019031049#Slide 0" TargetMode="External"/><Relationship Id="rId5" Type="http://schemas.openxmlformats.org/officeDocument/2006/relationships/hyperlink" Target="http://office.microsoft.com/ru-ru/clipart/results.aspx?qu=&#1094;&#1074;&#1077;&#1090;&#1099;&amp;sc=20&amp;CategoryID=CM790019031049#Slide 0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" TargetMode="External"/><Relationship Id="rId2" Type="http://schemas.openxmlformats.org/officeDocument/2006/relationships/hyperlink" Target="http://images.yandex.ru/yandsearch?p" TargetMode="External"/><Relationship Id="rId3" Type="http://schemas.openxmlformats.org/officeDocument/2006/relationships/hyperlink" Target="http://images.yandex.ru/yandsearch?p" TargetMode="External"/><Relationship Id="rId4" Type="http://schemas.openxmlformats.org/officeDocument/2006/relationships/hyperlink" Target="http://images.yandex.ru/yandsearch?p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1413000"/>
            <a:ext cx="61196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ирование 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выка правописания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ударной гласной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рне слова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360" y="4869000"/>
            <a:ext cx="4176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Нижневартовск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а</a:t>
            </a:r>
            <a:endParaRPr b="0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1FD-BD35-4DCF-B894-2D79B041DC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ты раздаются детям в начале каждого урока. Возможна фронтальная, парная, индивидуальная работа в зависимости от целей (закрепление, провер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6FB-A69A-4A55-8F6F-F5EB26B4D1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того, как будет изучена тема «Родственные слова», особое внимание необходимо уделять различным способам проверки безударных гласных; учить подбирать не одно проверочное слово, а 2-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аждом уроке предлагаютс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дивидуальные лист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 более сложными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9AE-B070-4167-909C-2AF1AA1D85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ая трудность заключается в неумении учащихся видеть орфограм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ка в обнаружении орфограмм идёт по трём направлени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чт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риятие на слу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употребление в собственн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840-CC2A-408C-84C9-3570AFB83E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формирования данного умения предлагаются индивидуальные листы, содержащие блоки слов на изученные правила. Дети по порядку читают слова с комментированием. Возможно изменить задание: например, найти слова только с безударной гла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Назови орфограмму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3B3-DF46-494D-912C-DF0E391992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азвития слухового восприятия предлагается работа в парах с индивидуальными листами, когда один ученик читает слова, а другой объясняет услышанную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ффективным видом работы на этом этапе является нестандартный диктант с постукиванием: при чтении слова с безударной гласной учитель делает один удар ручкой по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AB0-EC28-4199-A893-8811A6E402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и 4 класс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ряду с изложенными выше видами работы предлага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пределение проверочных и проверяемы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ыбор проверочного слова к слову с безударной гласной, исключение лишн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(«Выбери проверочное слово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BC8-B4F9-4492-B867-2A3DAD2F77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сследовательская работа на уроке и во внеурочное время по составлению гнезд родственных с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равнение лексического значения корня родствен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коса – инструмент для косьбы, косить – срезать траву косой, косарь – человек, который коси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упражнения, направленные на доказательство родственности или не родственности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«Лишнее сло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113-FECC-4AD0-8CFC-DBFB7070E0E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пределение места нахождения безударных глас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дидактическая игра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«Найди место»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ля 3 класса – безударные гласные в приставке и корн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тие привычки пользоваться орфографическим словарем для уточнения написания трудн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AB5-30E3-41AB-A249-4DC0505CDC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закрепления навыка правописания безударных гласных предлагаются некотор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дактические игры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«Бабочки»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«Корректурная проба»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«Попади в цел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«Слова из рассыпанных букв»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«Собери пословицы»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лассификация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«Многозначные слова»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«Частное – обще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9EB-C8E1-4928-B66C-BBB41B3A696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целью реализации воспитательного значения урока была собрана коллекци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словиц и поговорок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о словами с безударными гласными в кор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есь представлены только некоторые виды работы по данной теме; систематическое их использование на уроках дает положительные результаты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93B-2DAF-46DC-9963-A2ABA6C466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яемая безударная гласная корня – одна из самых сложных для учащихся орфограмм, несмотря на внешнюю легкость правила, регулирующего ее написание. Ошибки на правописание безударных гласных в корне слова – самые распространенные в нача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нная работа представляет опыт работы по формированию навыка правописания безударной гласной в корн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8F3-D524-4A7F-BFF7-768EA9B3F6A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шуева Л.С. «Учебные задания на 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ительных операций на уроках рус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а».- Ж. «Начальная школа: плюс-минус», №2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Тарабарина Т.И. Елкина Н.В. «Пословиц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ворки, потешки, скороговорки».-Ярослав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кадемия развития»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office.microsoft.com/ru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/clipart/results.aspx?qu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1%86%D0%B2%D0%B5%D1%82%D1%8B&amp;sc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0&amp;CategoryID=CM790019031049#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ф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387-AB59-4453-AB8C-33BF1B87CC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620280"/>
            <a:ext cx="8075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office.microsoft.com/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u/clipart/results.aspx?qu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%D0%B1%D0%B0%D0%B1%D0%BE%D1%87%D0%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%D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8&amp;sc=23&amp;CategoryID=CM790019021049 – ани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mages.yandex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yandsearch?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ww.lenagold.ru -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F06-F680-4B42-A14E-A39732C6214D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х проверки безударных гласных зависит, в первую очередь,  от умения слышать ударение и, следовательно, обнаруживать безударные гласные зв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клас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едлагаются таки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2A7-B203-487A-AC56-D8C1076C78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оотне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781360"/>
            <a:ext cx="309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256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256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700000" y="1989000"/>
            <a:ext cx="14292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00720" y="429264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708360" y="4437000"/>
            <a:ext cx="2244600" cy="149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1904760" cy="17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1BE-FD96-49F9-A34F-3A0F9ACBA12D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-1.18096E-006 L 0.17326 -0.33557 E">
                                      <p:cBhvr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оотне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35640" y="44370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16000" y="4437000"/>
            <a:ext cx="1440000" cy="12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03640" y="4365720"/>
            <a:ext cx="1619280" cy="17143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332000" y="1916280"/>
            <a:ext cx="3313080" cy="1368360"/>
            <a:chOff x="1332000" y="1916280"/>
            <a:chExt cx="3313080" cy="1368360"/>
          </a:xfrm>
        </p:grpSpPr>
        <p:sp>
          <p:nvSpPr>
            <p:cNvPr id="72" name=""/>
            <p:cNvSpPr/>
            <p:nvPr/>
          </p:nvSpPr>
          <p:spPr>
            <a:xfrm flipH="1">
              <a:off x="2556000" y="1916280"/>
              <a:ext cx="14256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2000" y="2492640"/>
              <a:ext cx="576000" cy="576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8000" y="2492640"/>
              <a:ext cx="1368720" cy="576000"/>
            </a:xfrm>
            <a:prstGeom prst="rtTriangl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1908000" y="2492640"/>
              <a:ext cx="1368720" cy="576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2492640"/>
              <a:ext cx="1368360" cy="576000"/>
            </a:xfrm>
            <a:prstGeom prst="rtTriangl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3276360" y="2492640"/>
              <a:ext cx="1368360" cy="5760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6720" y="227664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886-A7D6-498F-B540-35D0A4357E41}" type="slidenum">
              <a:t>5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27086E-006 L 0.50399 -0.31454 E">
                                      <p:cBhvr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ыдели в словах ударный сло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кни по нему мы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9080" y="2781360"/>
            <a:ext cx="13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3440" y="2781360"/>
            <a:ext cx="17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10160" y="436572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8720" y="4365720"/>
            <a:ext cx="12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436572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E90-18DE-47CB-B9C2-B086B6D7CE58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равни пару слов;  укажи ударные с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7440" y="5373720"/>
            <a:ext cx="11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440" y="537372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3440" y="5373720"/>
            <a:ext cx="11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50160" y="537372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195912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54C-B263-42E5-8207-71C824FEA550}" type="slidenum">
              <a:t>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равни выделенные слова;  поставь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ие красивые у нас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 дома до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ела тропи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63640" y="2276640"/>
            <a:ext cx="14436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48000" y="2349360"/>
            <a:ext cx="1429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DF1-DBBC-4D30-8DCE-D39378927460}" type="slidenum">
              <a:t>8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1481E-006 L 0.3151 0.14189 E">
                                      <p:cBhvr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L -0.14166 0.22061 E">
                                      <p:cBhvr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клас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ля отработки умения подбирать проверочные слова путем изменения формы слова были созда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видуальные лис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ые содержат блоки двусложных слов с безударной глас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280" cy="691200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2" h="21600">
                <a:moveTo>
                  <a:pt x="16385" y="3794"/>
                </a:moveTo>
                <a:lnTo>
                  <a:pt x="30397" y="10800"/>
                </a:lnTo>
                <a:lnTo>
                  <a:pt x="1638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3700440" cy="27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AFB-FC71-46AC-AA8C-09A627AE597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1:07:45Z</dcterms:created>
  <dc:creator>1</dc:creator>
  <dc:description/>
  <dc:language>en-US</dc:language>
  <cp:lastModifiedBy>1</cp:lastModifiedBy>
  <dcterms:modified xsi:type="dcterms:W3CDTF">2009-03-15T15:46:42Z</dcterms:modified>
  <cp:revision>35</cp:revision>
  <dc:subject/>
  <dc:title>Слайд 1</dc:title>
</cp:coreProperties>
</file>