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90F9-19D2-4E8D-ABAB-4E666F33E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6D5D-2CDD-434E-88CD-D08B582E5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AE6A-AAEC-4A04-9895-5755E8D92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895C-69EB-4802-9A34-84185196A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8A6F-0A78-4A9C-97B5-395CB54D5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CA4D-AD91-475D-9445-394DA8A4F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845A-B31C-45F9-AD6C-130AADBA0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762D-8378-47EE-AE1C-2EA882B3D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7DA3-581B-4277-B8C4-F0DAAFF31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96B8-4CCF-4AA5-8D38-2259C633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AA35-E9C9-4620-AE91-4AD3D5E67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D71B-0656-4E52-800F-34531A28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98739-56B3-4B7E-A707-6B0D8D1E10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3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700360" y="2637000"/>
            <a:ext cx="403236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езударные гласные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 приставке и корне слова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">
            <a:hlinkClick r:id="" action="ppaction://hlinkshowjump?jump=nextslide"/>
          </p:cNvPr>
          <p:cNvSpPr/>
          <p:nvPr/>
        </p:nvSpPr>
        <p:spPr>
          <a:xfrm>
            <a:off x="7956720" y="5805360"/>
            <a:ext cx="649080" cy="64800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3794"/>
                </a:moveTo>
                <a:lnTo>
                  <a:pt x="17824" y="10800"/>
                </a:lnTo>
                <a:lnTo>
                  <a:pt x="3812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979640" y="981000"/>
            <a:ext cx="51847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йди место</a:t>
            </a:r>
            <a:endParaRPr b="1" lang="en-US" sz="18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484360" y="4797360"/>
            <a:ext cx="4176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Шуруто Валентина Викторовна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. Нижневартовск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ХМАО-Югра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44280"/>
            <a:ext cx="9144000" cy="68137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17721600">
            <a:off x="4449600" y="1303560"/>
            <a:ext cx="2183760" cy="2149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803481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8034816"/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411280" y="1557360"/>
            <a:ext cx="1440000" cy="360360"/>
            <a:chOff x="2411280" y="1557360"/>
            <a:chExt cx="1440000" cy="360360"/>
          </a:xfrm>
        </p:grpSpPr>
        <p:sp>
          <p:nvSpPr>
            <p:cNvPr id="113" name=""/>
            <p:cNvSpPr/>
            <p:nvPr/>
          </p:nvSpPr>
          <p:spPr>
            <a:xfrm>
              <a:off x="2411280" y="1557360"/>
              <a:ext cx="1440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851280" y="1557360"/>
              <a:ext cx="0" cy="360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692360" y="4076640"/>
            <a:ext cx="6646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ПОСАДЯТ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84360" y="436572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9999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>
            <a:hlinkClick r:id="" action="ppaction://hlinkshowjump?jump=nextslide"/>
          </p:cNvPr>
          <p:cNvSpPr/>
          <p:nvPr/>
        </p:nvSpPr>
        <p:spPr>
          <a:xfrm>
            <a:off x="7956720" y="5805360"/>
            <a:ext cx="649080" cy="64800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3794"/>
                </a:moveTo>
                <a:lnTo>
                  <a:pt x="17824" y="10800"/>
                </a:lnTo>
                <a:lnTo>
                  <a:pt x="3812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211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54" repeatCount="1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4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4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231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4" dur="500" fill="hold"/>
                                        <p:tgtEl>
                                          <p:spTgt spid="1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44280"/>
            <a:ext cx="9144000" cy="6813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 rot="17721600">
            <a:off x="4305240" y="1448280"/>
            <a:ext cx="2183760" cy="2149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803481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8034816"/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268360" y="1628640"/>
            <a:ext cx="1440000" cy="360360"/>
            <a:chOff x="2268360" y="1628640"/>
            <a:chExt cx="1440000" cy="360360"/>
          </a:xfrm>
        </p:grpSpPr>
        <p:sp>
          <p:nvSpPr>
            <p:cNvPr id="121" name=""/>
            <p:cNvSpPr/>
            <p:nvPr/>
          </p:nvSpPr>
          <p:spPr>
            <a:xfrm>
              <a:off x="2268360" y="1628640"/>
              <a:ext cx="1440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708360" y="1628640"/>
              <a:ext cx="0" cy="360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1908000" y="4076640"/>
            <a:ext cx="640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ЖИЛЬЦ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843280" y="436572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9999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>
            <a:hlinkClick r:id="" action="ppaction://hlinkshowjump?jump=nextslide"/>
          </p:cNvPr>
          <p:cNvSpPr/>
          <p:nvPr/>
        </p:nvSpPr>
        <p:spPr>
          <a:xfrm>
            <a:off x="7956720" y="5805360"/>
            <a:ext cx="649080" cy="64800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3794"/>
                </a:moveTo>
                <a:lnTo>
                  <a:pt x="17824" y="10800"/>
                </a:lnTo>
                <a:lnTo>
                  <a:pt x="3812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237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54" repeatCount="1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0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247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0" dur="1000" fill="hold"/>
                                        <p:tgtEl>
                                          <p:spTgt spid="11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252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5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44280"/>
            <a:ext cx="9144000" cy="68137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 rot="17721600">
            <a:off x="4305240" y="1448280"/>
            <a:ext cx="2183760" cy="2149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803481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8034816"/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2268360" y="1628640"/>
            <a:ext cx="1440000" cy="360360"/>
            <a:chOff x="2268360" y="1628640"/>
            <a:chExt cx="1440000" cy="360360"/>
          </a:xfrm>
        </p:grpSpPr>
        <p:sp>
          <p:nvSpPr>
            <p:cNvPr id="129" name=""/>
            <p:cNvSpPr/>
            <p:nvPr/>
          </p:nvSpPr>
          <p:spPr>
            <a:xfrm>
              <a:off x="2268360" y="1628640"/>
              <a:ext cx="1440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708360" y="1628640"/>
              <a:ext cx="0" cy="360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2124000" y="4076640"/>
            <a:ext cx="640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БЕГЛЕЦ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843280" y="436572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9999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nextslide"/>
          </p:cNvPr>
          <p:cNvSpPr/>
          <p:nvPr/>
        </p:nvSpPr>
        <p:spPr>
          <a:xfrm>
            <a:off x="7956720" y="5805360"/>
            <a:ext cx="649080" cy="64800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3794"/>
                </a:moveTo>
                <a:lnTo>
                  <a:pt x="17824" y="10800"/>
                </a:lnTo>
                <a:lnTo>
                  <a:pt x="3812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263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54" repeatCount="1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6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2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273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6" dur="1000" fill="hold"/>
                                        <p:tgtEl>
                                          <p:spTgt spid="1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7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278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1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44280"/>
            <a:ext cx="9144000" cy="68137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 rot="17721600">
            <a:off x="4449600" y="1303560"/>
            <a:ext cx="2183760" cy="2149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803481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8034816"/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411280" y="1557360"/>
            <a:ext cx="1440000" cy="360360"/>
            <a:chOff x="2411280" y="1557360"/>
            <a:chExt cx="1440000" cy="360360"/>
          </a:xfrm>
        </p:grpSpPr>
        <p:sp>
          <p:nvSpPr>
            <p:cNvPr id="137" name=""/>
            <p:cNvSpPr/>
            <p:nvPr/>
          </p:nvSpPr>
          <p:spPr>
            <a:xfrm>
              <a:off x="2411280" y="1557360"/>
              <a:ext cx="1440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851280" y="1557360"/>
              <a:ext cx="0" cy="360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1042920" y="4076640"/>
            <a:ext cx="777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СОСТАВИТЬ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35280" y="436572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9999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>
            <a:hlinkClick r:id="" action="ppaction://hlinkshowjump?jump=endshow"/>
          </p:cNvPr>
          <p:cNvSpPr/>
          <p:nvPr/>
        </p:nvSpPr>
        <p:spPr>
          <a:xfrm>
            <a:off x="7956720" y="5805360"/>
            <a:ext cx="649080" cy="64800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3794"/>
                </a:moveTo>
                <a:lnTo>
                  <a:pt x="17824" y="10800"/>
                </a:lnTo>
                <a:lnTo>
                  <a:pt x="3812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289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54" repeatCount="1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2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8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299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2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8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309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2" dur="500" fill="hold"/>
                                        <p:tgtEl>
                                          <p:spTgt spid="13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44280"/>
            <a:ext cx="9144000" cy="6813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rot="17721600">
            <a:off x="4305240" y="1448280"/>
            <a:ext cx="2183760" cy="2149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803481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8034816"/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2268360" y="1628640"/>
            <a:ext cx="1440000" cy="360360"/>
            <a:chOff x="2268360" y="1628640"/>
            <a:chExt cx="1440000" cy="360360"/>
          </a:xfrm>
        </p:grpSpPr>
        <p:sp>
          <p:nvSpPr>
            <p:cNvPr id="49" name=""/>
            <p:cNvSpPr/>
            <p:nvPr/>
          </p:nvSpPr>
          <p:spPr>
            <a:xfrm>
              <a:off x="2268360" y="1628640"/>
              <a:ext cx="1440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708360" y="1628640"/>
              <a:ext cx="0" cy="360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1332000" y="4076640"/>
            <a:ext cx="6646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КОРОТКИЙ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436572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9999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" action="ppaction://hlinkshowjump?jump=nextslide"/>
          </p:cNvPr>
          <p:cNvSpPr/>
          <p:nvPr/>
        </p:nvSpPr>
        <p:spPr>
          <a:xfrm>
            <a:off x="7956720" y="5805360"/>
            <a:ext cx="649080" cy="64800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3794"/>
                </a:moveTo>
                <a:lnTo>
                  <a:pt x="17824" y="10800"/>
                </a:lnTo>
                <a:lnTo>
                  <a:pt x="3812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4" repeatCount="1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1000" fill="hold"/>
                                        <p:tgtEl>
                                          <p:spTgt spid="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44280"/>
            <a:ext cx="9144000" cy="6813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 rot="17721600">
            <a:off x="4449600" y="1303560"/>
            <a:ext cx="2183760" cy="2149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803481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8034816"/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2411280" y="1557360"/>
            <a:ext cx="1440000" cy="360360"/>
            <a:chOff x="2411280" y="1557360"/>
            <a:chExt cx="1440000" cy="360360"/>
          </a:xfrm>
        </p:grpSpPr>
        <p:sp>
          <p:nvSpPr>
            <p:cNvPr id="57" name=""/>
            <p:cNvSpPr/>
            <p:nvPr/>
          </p:nvSpPr>
          <p:spPr>
            <a:xfrm>
              <a:off x="2411280" y="1557360"/>
              <a:ext cx="1440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51280" y="1557360"/>
              <a:ext cx="0" cy="360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411280" y="4076640"/>
            <a:ext cx="568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ЗАЕЗД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59280" y="4437000"/>
            <a:ext cx="1056960" cy="914400"/>
          </a:xfrm>
          <a:prstGeom prst="hexagon">
            <a:avLst>
              <a:gd name="adj" fmla="val 28898"/>
              <a:gd name="vf" fmla="val 115470"/>
            </a:avLst>
          </a:prstGeom>
          <a:solidFill>
            <a:srgbClr val="9999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" action="ppaction://hlinkshowjump?jump=nextslide"/>
          </p:cNvPr>
          <p:cNvSpPr/>
          <p:nvPr/>
        </p:nvSpPr>
        <p:spPr>
          <a:xfrm>
            <a:off x="7956720" y="5805360"/>
            <a:ext cx="649080" cy="64800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3794"/>
                </a:moveTo>
                <a:lnTo>
                  <a:pt x="17824" y="10800"/>
                </a:lnTo>
                <a:lnTo>
                  <a:pt x="3812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54" repeatCount="1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" dur="500" fill="hold"/>
                                        <p:tgtEl>
                                          <p:spTgt spid="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44280"/>
            <a:ext cx="9144000" cy="68137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 rot="17721600">
            <a:off x="4305240" y="1448280"/>
            <a:ext cx="2183760" cy="2149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803481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8034816"/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2268360" y="1628640"/>
            <a:ext cx="1440000" cy="360360"/>
            <a:chOff x="2268360" y="1628640"/>
            <a:chExt cx="1440000" cy="360360"/>
          </a:xfrm>
        </p:grpSpPr>
        <p:sp>
          <p:nvSpPr>
            <p:cNvPr id="65" name=""/>
            <p:cNvSpPr/>
            <p:nvPr/>
          </p:nvSpPr>
          <p:spPr>
            <a:xfrm>
              <a:off x="2268360" y="1628640"/>
              <a:ext cx="1440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08360" y="1628640"/>
              <a:ext cx="0" cy="360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1332000" y="4076640"/>
            <a:ext cx="6646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СТОЛОВАЯ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771640" y="429264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9999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" action="ppaction://hlinkshowjump?jump=nextslide"/>
          </p:cNvPr>
          <p:cNvSpPr/>
          <p:nvPr/>
        </p:nvSpPr>
        <p:spPr>
          <a:xfrm>
            <a:off x="7956720" y="5805360"/>
            <a:ext cx="649080" cy="64800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3794"/>
                </a:moveTo>
                <a:lnTo>
                  <a:pt x="17824" y="10800"/>
                </a:lnTo>
                <a:lnTo>
                  <a:pt x="3812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54" repeatCount="1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" dur="1000" fill="hold"/>
                                        <p:tgtEl>
                                          <p:spTgt spid="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44280"/>
            <a:ext cx="9144000" cy="68137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 rot="17721600">
            <a:off x="4305240" y="1448280"/>
            <a:ext cx="2183760" cy="2149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803481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8034816"/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2268360" y="1628640"/>
            <a:ext cx="1440000" cy="360360"/>
            <a:chOff x="2268360" y="1628640"/>
            <a:chExt cx="1440000" cy="360360"/>
          </a:xfrm>
        </p:grpSpPr>
        <p:sp>
          <p:nvSpPr>
            <p:cNvPr id="73" name=""/>
            <p:cNvSpPr/>
            <p:nvPr/>
          </p:nvSpPr>
          <p:spPr>
            <a:xfrm>
              <a:off x="2268360" y="1628640"/>
              <a:ext cx="1440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708360" y="1628640"/>
              <a:ext cx="0" cy="360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2195640" y="4076640"/>
            <a:ext cx="619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ПАРНИК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916360" y="443700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9999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" action="ppaction://hlinkshowjump?jump=nextslide"/>
          </p:cNvPr>
          <p:cNvSpPr/>
          <p:nvPr/>
        </p:nvSpPr>
        <p:spPr>
          <a:xfrm>
            <a:off x="7956720" y="5805360"/>
            <a:ext cx="649080" cy="64800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3794"/>
                </a:moveTo>
                <a:lnTo>
                  <a:pt x="17824" y="10800"/>
                </a:lnTo>
                <a:lnTo>
                  <a:pt x="3812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54" repeatCount="1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4" dur="1000" fill="hold"/>
                                        <p:tgtEl>
                                          <p:spTgt spid="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44280"/>
            <a:ext cx="9144000" cy="68137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 rot="17721600">
            <a:off x="4449600" y="1303560"/>
            <a:ext cx="2183760" cy="2149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803481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8034816"/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2411280" y="1557360"/>
            <a:ext cx="1440000" cy="360360"/>
            <a:chOff x="2411280" y="1557360"/>
            <a:chExt cx="1440000" cy="360360"/>
          </a:xfrm>
        </p:grpSpPr>
        <p:sp>
          <p:nvSpPr>
            <p:cNvPr id="81" name=""/>
            <p:cNvSpPr/>
            <p:nvPr/>
          </p:nvSpPr>
          <p:spPr>
            <a:xfrm>
              <a:off x="2411280" y="1557360"/>
              <a:ext cx="1440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51280" y="1557360"/>
              <a:ext cx="0" cy="360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1908000" y="4076640"/>
            <a:ext cx="6647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ПОДХОД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00360" y="429264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9999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" action="ppaction://hlinkshowjump?jump=nextslide"/>
          </p:cNvPr>
          <p:cNvSpPr/>
          <p:nvPr/>
        </p:nvSpPr>
        <p:spPr>
          <a:xfrm>
            <a:off x="7956720" y="5805360"/>
            <a:ext cx="649080" cy="64800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3794"/>
                </a:moveTo>
                <a:lnTo>
                  <a:pt x="17824" y="10800"/>
                </a:lnTo>
                <a:lnTo>
                  <a:pt x="3812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54" repeatCount="1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0" dur="500" fill="hold"/>
                                        <p:tgtEl>
                                          <p:spTgt spid="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44280"/>
            <a:ext cx="9144000" cy="68137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 rot="17721600">
            <a:off x="4449600" y="1303560"/>
            <a:ext cx="2183760" cy="2149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803481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8034816"/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11280" y="1557360"/>
            <a:ext cx="1440000" cy="360360"/>
            <a:chOff x="2411280" y="1557360"/>
            <a:chExt cx="1440000" cy="360360"/>
          </a:xfrm>
        </p:grpSpPr>
        <p:sp>
          <p:nvSpPr>
            <p:cNvPr id="89" name=""/>
            <p:cNvSpPr/>
            <p:nvPr/>
          </p:nvSpPr>
          <p:spPr>
            <a:xfrm>
              <a:off x="2411280" y="1557360"/>
              <a:ext cx="1440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851280" y="1557360"/>
              <a:ext cx="0" cy="360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403280" y="4076640"/>
            <a:ext cx="6647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ПОПРОСИТ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95640" y="436572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9999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nextslide"/>
          </p:cNvPr>
          <p:cNvSpPr/>
          <p:nvPr/>
        </p:nvSpPr>
        <p:spPr>
          <a:xfrm>
            <a:off x="7956720" y="5805360"/>
            <a:ext cx="649080" cy="64800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3794"/>
                </a:moveTo>
                <a:lnTo>
                  <a:pt x="17824" y="10800"/>
                </a:lnTo>
                <a:lnTo>
                  <a:pt x="3812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54" repeatCount="1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143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6" dur="500" fill="hold"/>
                                        <p:tgtEl>
                                          <p:spTgt spid="8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44280"/>
            <a:ext cx="9144000" cy="68137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 rot="17721600">
            <a:off x="4305240" y="1448280"/>
            <a:ext cx="2183760" cy="2149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803481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8034816"/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268360" y="1628640"/>
            <a:ext cx="1440000" cy="360360"/>
            <a:chOff x="2268360" y="1628640"/>
            <a:chExt cx="1440000" cy="360360"/>
          </a:xfrm>
        </p:grpSpPr>
        <p:sp>
          <p:nvSpPr>
            <p:cNvPr id="97" name=""/>
            <p:cNvSpPr/>
            <p:nvPr/>
          </p:nvSpPr>
          <p:spPr>
            <a:xfrm>
              <a:off x="2268360" y="1628640"/>
              <a:ext cx="1440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708360" y="1628640"/>
              <a:ext cx="0" cy="360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1403280" y="4076640"/>
            <a:ext cx="712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ГОРИСТЫЙ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050920" y="436572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9999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" action="ppaction://hlinkshowjump?jump=nextslide"/>
          </p:cNvPr>
          <p:cNvSpPr/>
          <p:nvPr/>
        </p:nvSpPr>
        <p:spPr>
          <a:xfrm>
            <a:off x="7956720" y="5805360"/>
            <a:ext cx="649080" cy="64800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3794"/>
                </a:moveTo>
                <a:lnTo>
                  <a:pt x="17824" y="10800"/>
                </a:lnTo>
                <a:lnTo>
                  <a:pt x="3812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54" repeatCount="1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69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2" dur="1000" fill="hold"/>
                                        <p:tgtEl>
                                          <p:spTgt spid="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74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7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44280"/>
            <a:ext cx="9144000" cy="68137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 rot="17721600">
            <a:off x="4305240" y="1448280"/>
            <a:ext cx="2183760" cy="2149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803481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8034816"/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268360" y="1628640"/>
            <a:ext cx="1440000" cy="360360"/>
            <a:chOff x="2268360" y="1628640"/>
            <a:chExt cx="1440000" cy="360360"/>
          </a:xfrm>
        </p:grpSpPr>
        <p:sp>
          <p:nvSpPr>
            <p:cNvPr id="105" name=""/>
            <p:cNvSpPr/>
            <p:nvPr/>
          </p:nvSpPr>
          <p:spPr>
            <a:xfrm>
              <a:off x="2268360" y="1628640"/>
              <a:ext cx="1440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08360" y="1628640"/>
              <a:ext cx="0" cy="360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1908000" y="4076640"/>
            <a:ext cx="640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ТИШИН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56000" y="436572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9999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" action="ppaction://hlinkshowjump?jump=nextslide"/>
          </p:cNvPr>
          <p:cNvSpPr/>
          <p:nvPr/>
        </p:nvSpPr>
        <p:spPr>
          <a:xfrm>
            <a:off x="7956720" y="5805360"/>
            <a:ext cx="649080" cy="64800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3794"/>
                </a:moveTo>
                <a:lnTo>
                  <a:pt x="17824" y="10800"/>
                </a:lnTo>
                <a:lnTo>
                  <a:pt x="3812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85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54" repeatCount="1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8" dur="1000" fill="hold"/>
                                        <p:tgtEl>
                                          <p:spTgt spid="10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200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3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6T17:32:38Z</dcterms:created>
  <dc:creator>1</dc:creator>
  <dc:description/>
  <dc:language>en-US</dc:language>
  <cp:lastModifiedBy>1</cp:lastModifiedBy>
  <dcterms:modified xsi:type="dcterms:W3CDTF">2009-02-28T15:32:54Z</dcterms:modified>
  <cp:revision>8</cp:revision>
  <dc:subject/>
  <dc:title>Слайд 1</dc:title>
</cp:coreProperties>
</file>