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EE7A-C96D-49CB-88D9-61DD7793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5E8-B2A6-461B-9C3D-B8462D12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9D4-6434-49C9-B8FD-742E6828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CEA-C412-4E81-9D2F-2C04BAD9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A6B-24E8-4327-B4AD-2D61CC15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C803-25D3-4570-9FAE-EEB6CD1D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995-4308-4659-BE92-177D71FB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5FB-24D8-4344-8D4D-4BD8492D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07F7-ED7D-48FB-9A34-605F368B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8A3-70B4-4DCE-A0AE-CC000A3F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0387-49D0-4AFD-AEC1-03C2B126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5C0-FFB6-4C33-A945-C0260FA0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1002-CCD2-43A5-8A54-C660F5CED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1700280"/>
            <a:ext cx="6191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ректурная проб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244000" y="6219720"/>
            <a:ext cx="431640" cy="304920"/>
          </a:xfrm>
          <a:custGeom>
            <a:avLst/>
            <a:gdLst>
              <a:gd name="textAreaLeft" fmla="*/ 19440 w 431640"/>
              <a:gd name="textAreaRight" fmla="*/ 412200 w 431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0566" h="21600">
                <a:moveTo>
                  <a:pt x="0" y="0"/>
                </a:moveTo>
                <a:lnTo>
                  <a:pt x="30566" y="0"/>
                </a:lnTo>
                <a:lnTo>
                  <a:pt x="30566" y="21600"/>
                </a:lnTo>
                <a:lnTo>
                  <a:pt x="0" y="21600"/>
                </a:lnTo>
                <a:close/>
              </a:path>
              <a:path fill="lightenLess" w="30566" h="21600">
                <a:moveTo>
                  <a:pt x="0" y="0"/>
                </a:moveTo>
                <a:lnTo>
                  <a:pt x="30566" y="0"/>
                </a:lnTo>
                <a:lnTo>
                  <a:pt x="29166" y="1400"/>
                </a:lnTo>
                <a:lnTo>
                  <a:pt x="1400" y="1400"/>
                </a:lnTo>
                <a:close/>
              </a:path>
              <a:path fill="darken" w="30566" h="21600">
                <a:moveTo>
                  <a:pt x="30566" y="0"/>
                </a:moveTo>
                <a:lnTo>
                  <a:pt x="30566" y="21600"/>
                </a:lnTo>
                <a:lnTo>
                  <a:pt x="29166" y="20200"/>
                </a:lnTo>
                <a:lnTo>
                  <a:pt x="29166" y="1400"/>
                </a:lnTo>
                <a:close/>
              </a:path>
              <a:path fill="darkenLess" w="30566" h="21600">
                <a:moveTo>
                  <a:pt x="30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66" y="20200"/>
                </a:lnTo>
                <a:close/>
              </a:path>
              <a:path fill="lighten" w="30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66" h="21600">
                <a:moveTo>
                  <a:pt x="8277" y="3794"/>
                </a:moveTo>
                <a:lnTo>
                  <a:pt x="22290" y="10800"/>
                </a:lnTo>
                <a:lnTo>
                  <a:pt x="827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56000" y="3357720"/>
            <a:ext cx="4057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зударная гласная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40000" y="5373720"/>
            <a:ext cx="417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уруто Валентина Викторовна</a:t>
            </a:r>
            <a:endParaRPr b="0" lang="en-US" sz="32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. Нижневартовск</a:t>
            </a:r>
            <a:endParaRPr b="0" lang="en-US" sz="32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МАО-Югра</a:t>
            </a:r>
            <a:endParaRPr b="0" lang="en-US" sz="32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177336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9080" y="981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7080" y="9810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05080" y="981000"/>
            <a:ext cx="6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9800" y="9810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6160" y="98100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61080" y="9810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97440" y="98100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21800" y="9810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9080" y="981000"/>
            <a:ext cx="71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94520" y="981000"/>
            <a:ext cx="83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9440" y="981000"/>
            <a:ext cx="71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13800" y="981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306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9080" y="22766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7080" y="227664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227664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86160" y="227664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080" y="227664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8520" y="2276640"/>
            <a:ext cx="73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1800" y="227664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45440" y="227664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9440" y="22766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4880" y="22766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89800" y="227664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3440" y="227664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443700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8720" y="364500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7440" y="3645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5440" y="3645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9800" y="364500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6160" y="364500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60720" y="3645000"/>
            <a:ext cx="71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7800" y="3645000"/>
            <a:ext cx="83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1800" y="36450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45440" y="364500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9080" y="36450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4880" y="3645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9800" y="3645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13800" y="3645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5877000"/>
            <a:ext cx="74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6160" y="508464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09440" y="508464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60360" y="5084640"/>
            <a:ext cx="92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2880" y="508464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9600" y="50846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3800" y="508464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70160" y="5084640"/>
            <a:ext cx="72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94880" y="508464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18880" y="5084640"/>
            <a:ext cx="6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2160" y="508464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7600" y="508464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62880" y="5084640"/>
            <a:ext cx="65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45440" y="98100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9800" y="227664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244000" y="6219720"/>
            <a:ext cx="431640" cy="304920"/>
          </a:xfrm>
          <a:custGeom>
            <a:avLst/>
            <a:gdLst>
              <a:gd name="textAreaLeft" fmla="*/ 19440 w 431640"/>
              <a:gd name="textAreaRight" fmla="*/ 412200 w 431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0566" h="21600">
                <a:moveTo>
                  <a:pt x="0" y="0"/>
                </a:moveTo>
                <a:lnTo>
                  <a:pt x="30566" y="0"/>
                </a:lnTo>
                <a:lnTo>
                  <a:pt x="30566" y="21600"/>
                </a:lnTo>
                <a:lnTo>
                  <a:pt x="0" y="21600"/>
                </a:lnTo>
                <a:close/>
              </a:path>
              <a:path fill="lightenLess" w="30566" h="21600">
                <a:moveTo>
                  <a:pt x="0" y="0"/>
                </a:moveTo>
                <a:lnTo>
                  <a:pt x="30566" y="0"/>
                </a:lnTo>
                <a:lnTo>
                  <a:pt x="29166" y="1400"/>
                </a:lnTo>
                <a:lnTo>
                  <a:pt x="1400" y="1400"/>
                </a:lnTo>
                <a:close/>
              </a:path>
              <a:path fill="darken" w="30566" h="21600">
                <a:moveTo>
                  <a:pt x="30566" y="0"/>
                </a:moveTo>
                <a:lnTo>
                  <a:pt x="30566" y="21600"/>
                </a:lnTo>
                <a:lnTo>
                  <a:pt x="29166" y="20200"/>
                </a:lnTo>
                <a:lnTo>
                  <a:pt x="29166" y="1400"/>
                </a:lnTo>
                <a:close/>
              </a:path>
              <a:path fill="darkenLess" w="30566" h="21600">
                <a:moveTo>
                  <a:pt x="30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66" y="20200"/>
                </a:lnTo>
                <a:close/>
              </a:path>
              <a:path fill="lighten" w="30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66" h="21600">
                <a:moveTo>
                  <a:pt x="8277" y="3794"/>
                </a:moveTo>
                <a:lnTo>
                  <a:pt x="22290" y="10800"/>
                </a:lnTo>
                <a:lnTo>
                  <a:pt x="827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189000"/>
            <a:ext cx="740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ликни мышкой по буквам, которые сто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между гласными. Подбери проверочны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6520" y="508464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26920" y="177336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9080" y="981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7440" y="981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3080" y="98100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9800" y="981000"/>
            <a:ext cx="71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6160" y="98100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61080" y="981000"/>
            <a:ext cx="72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98160" y="981000"/>
            <a:ext cx="6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21800" y="981000"/>
            <a:ext cx="65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9080" y="98100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4520" y="9810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9440" y="981000"/>
            <a:ext cx="71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3800" y="981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306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9080" y="22766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7080" y="227664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5080" y="227664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86160" y="227664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61080" y="227664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98520" y="2276640"/>
            <a:ext cx="73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21800" y="227664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45440" y="2276640"/>
            <a:ext cx="71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9080" y="227664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4880" y="22766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9800" y="227664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2720" y="227664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443700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8720" y="364500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7440" y="3645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5440" y="3645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9800" y="364500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86160" y="364500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61080" y="36450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97800" y="3645000"/>
            <a:ext cx="96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21080" y="364500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5440" y="364500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9080" y="3645000"/>
            <a:ext cx="71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4880" y="3645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89800" y="3645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3800" y="3645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5877000"/>
            <a:ext cx="74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1800" y="5084640"/>
            <a:ext cx="71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9440" y="508464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78160" y="508464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82880" y="508464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9600" y="50846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3800" y="508464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70160" y="5084640"/>
            <a:ext cx="72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94880" y="508464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18880" y="50846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2160" y="508464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67600" y="508464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62880" y="5084640"/>
            <a:ext cx="65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6520" y="508464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45440" y="98100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10160" y="22766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244000" y="6219720"/>
            <a:ext cx="431640" cy="304920"/>
          </a:xfrm>
          <a:custGeom>
            <a:avLst/>
            <a:gdLst>
              <a:gd name="textAreaLeft" fmla="*/ 19440 w 431640"/>
              <a:gd name="textAreaRight" fmla="*/ 412200 w 431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0566" h="21600">
                <a:moveTo>
                  <a:pt x="0" y="0"/>
                </a:moveTo>
                <a:lnTo>
                  <a:pt x="30566" y="0"/>
                </a:lnTo>
                <a:lnTo>
                  <a:pt x="30566" y="21600"/>
                </a:lnTo>
                <a:lnTo>
                  <a:pt x="0" y="21600"/>
                </a:lnTo>
                <a:close/>
              </a:path>
              <a:path fill="lightenLess" w="30566" h="21600">
                <a:moveTo>
                  <a:pt x="0" y="0"/>
                </a:moveTo>
                <a:lnTo>
                  <a:pt x="30566" y="0"/>
                </a:lnTo>
                <a:lnTo>
                  <a:pt x="29166" y="1400"/>
                </a:lnTo>
                <a:lnTo>
                  <a:pt x="1400" y="1400"/>
                </a:lnTo>
                <a:close/>
              </a:path>
              <a:path fill="darken" w="30566" h="21600">
                <a:moveTo>
                  <a:pt x="30566" y="0"/>
                </a:moveTo>
                <a:lnTo>
                  <a:pt x="30566" y="21600"/>
                </a:lnTo>
                <a:lnTo>
                  <a:pt x="29166" y="20200"/>
                </a:lnTo>
                <a:lnTo>
                  <a:pt x="29166" y="1400"/>
                </a:lnTo>
                <a:close/>
              </a:path>
              <a:path fill="darkenLess" w="30566" h="21600">
                <a:moveTo>
                  <a:pt x="30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66" y="20200"/>
                </a:lnTo>
                <a:close/>
              </a:path>
              <a:path fill="lighten" w="30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66" h="21600">
                <a:moveTo>
                  <a:pt x="8277" y="3794"/>
                </a:moveTo>
                <a:lnTo>
                  <a:pt x="22290" y="10800"/>
                </a:lnTo>
                <a:lnTo>
                  <a:pt x="827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189000"/>
            <a:ext cx="740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ликни мышкой по буквам, которые сто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между гласными. Подбери проверочны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79567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ШГМОЖЗ               Ы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З             ЖУЗШТДРИ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ЧЫОРЗВЕЗ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ФЯТ                  КТФ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ХКНМА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46200" y="26028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айди слова с безударной глас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дбери провер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83240" y="1125360"/>
            <a:ext cx="296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ГРИБ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3080" y="2133720"/>
            <a:ext cx="26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ЕДР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2880" y="3141720"/>
            <a:ext cx="34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ЯТЁР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6520" y="4076640"/>
            <a:ext cx="351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ВИСТЕ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6160" y="5084640"/>
            <a:ext cx="41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ОДМЕТ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8244000" y="6219720"/>
            <a:ext cx="431640" cy="304920"/>
          </a:xfrm>
          <a:custGeom>
            <a:avLst/>
            <a:gdLst>
              <a:gd name="textAreaLeft" fmla="*/ 19440 w 431640"/>
              <a:gd name="textAreaRight" fmla="*/ 412200 w 431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0566" h="21600">
                <a:moveTo>
                  <a:pt x="0" y="0"/>
                </a:moveTo>
                <a:lnTo>
                  <a:pt x="30566" y="0"/>
                </a:lnTo>
                <a:lnTo>
                  <a:pt x="30566" y="21600"/>
                </a:lnTo>
                <a:lnTo>
                  <a:pt x="0" y="21600"/>
                </a:lnTo>
                <a:close/>
              </a:path>
              <a:path fill="lightenLess" w="30566" h="21600">
                <a:moveTo>
                  <a:pt x="0" y="0"/>
                </a:moveTo>
                <a:lnTo>
                  <a:pt x="30566" y="0"/>
                </a:lnTo>
                <a:lnTo>
                  <a:pt x="29166" y="1400"/>
                </a:lnTo>
                <a:lnTo>
                  <a:pt x="1400" y="1400"/>
                </a:lnTo>
                <a:close/>
              </a:path>
              <a:path fill="darken" w="30566" h="21600">
                <a:moveTo>
                  <a:pt x="30566" y="0"/>
                </a:moveTo>
                <a:lnTo>
                  <a:pt x="30566" y="21600"/>
                </a:lnTo>
                <a:lnTo>
                  <a:pt x="29166" y="20200"/>
                </a:lnTo>
                <a:lnTo>
                  <a:pt x="29166" y="1400"/>
                </a:lnTo>
                <a:close/>
              </a:path>
              <a:path fill="darkenLess" w="30566" h="21600">
                <a:moveTo>
                  <a:pt x="30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66" y="20200"/>
                </a:lnTo>
                <a:close/>
              </a:path>
              <a:path fill="lighten" w="30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66" h="21600">
                <a:moveTo>
                  <a:pt x="8277" y="3794"/>
                </a:moveTo>
                <a:lnTo>
                  <a:pt x="22290" y="10800"/>
                </a:lnTo>
                <a:lnTo>
                  <a:pt x="827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2090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ДЖИО               Р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ВОЛИ                КРА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КЦУКАНБВ               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             ЯУАИВЕЭУЯ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ЕЛЮ          ЫРМЬСНЭ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ФОРИВЛЛ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89800" y="907920"/>
            <a:ext cx="297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ЗВЕЗ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4520" y="1773360"/>
            <a:ext cx="307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НЕБЕ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8160" y="4221000"/>
            <a:ext cx="204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Р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3080" y="981000"/>
            <a:ext cx="216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ОК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8160" y="5084640"/>
            <a:ext cx="34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ТРЕЛ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9440" y="2565360"/>
            <a:ext cx="30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ВЕТЛ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45440" y="3429000"/>
            <a:ext cx="255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ЗАП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8244000" y="6219720"/>
            <a:ext cx="431640" cy="304920"/>
          </a:xfrm>
          <a:custGeom>
            <a:avLst/>
            <a:gdLst>
              <a:gd name="textAreaLeft" fmla="*/ 19440 w 431640"/>
              <a:gd name="textAreaRight" fmla="*/ 412200 w 431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0566" h="21600">
                <a:moveTo>
                  <a:pt x="0" y="0"/>
                </a:moveTo>
                <a:lnTo>
                  <a:pt x="30566" y="0"/>
                </a:lnTo>
                <a:lnTo>
                  <a:pt x="30566" y="21600"/>
                </a:lnTo>
                <a:lnTo>
                  <a:pt x="0" y="21600"/>
                </a:lnTo>
                <a:close/>
              </a:path>
              <a:path fill="lightenLess" w="30566" h="21600">
                <a:moveTo>
                  <a:pt x="0" y="0"/>
                </a:moveTo>
                <a:lnTo>
                  <a:pt x="30566" y="0"/>
                </a:lnTo>
                <a:lnTo>
                  <a:pt x="29166" y="1400"/>
                </a:lnTo>
                <a:lnTo>
                  <a:pt x="1400" y="1400"/>
                </a:lnTo>
                <a:close/>
              </a:path>
              <a:path fill="darken" w="30566" h="21600">
                <a:moveTo>
                  <a:pt x="30566" y="0"/>
                </a:moveTo>
                <a:lnTo>
                  <a:pt x="30566" y="21600"/>
                </a:lnTo>
                <a:lnTo>
                  <a:pt x="29166" y="20200"/>
                </a:lnTo>
                <a:lnTo>
                  <a:pt x="29166" y="1400"/>
                </a:lnTo>
                <a:close/>
              </a:path>
              <a:path fill="darkenLess" w="30566" h="21600">
                <a:moveTo>
                  <a:pt x="30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66" y="20200"/>
                </a:lnTo>
                <a:close/>
              </a:path>
              <a:path fill="lighten" w="30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66" h="21600">
                <a:moveTo>
                  <a:pt x="8277" y="3794"/>
                </a:moveTo>
                <a:lnTo>
                  <a:pt x="22290" y="10800"/>
                </a:lnTo>
                <a:lnTo>
                  <a:pt x="827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6200" y="26028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айди слова с безударной глас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дбери провер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2090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ЖОИ               Н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АЬИЙНТЮОКЪ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КЦУКАНБВЖТ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           ДЯУАИПАГХЯ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ЕЛЮ               МЕЛЬС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ФДЕЦЗИД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90520" y="907920"/>
            <a:ext cx="298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ЛИСТ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61080" y="1773360"/>
            <a:ext cx="177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98160" y="4221000"/>
            <a:ext cx="295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РА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7080" y="981000"/>
            <a:ext cx="204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33800" y="5084640"/>
            <a:ext cx="27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ЁС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3080" y="2565360"/>
            <a:ext cx="20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45080" y="3429000"/>
            <a:ext cx="21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endshow"/>
          </p:cNvPr>
          <p:cNvSpPr/>
          <p:nvPr/>
        </p:nvSpPr>
        <p:spPr>
          <a:xfrm>
            <a:off x="8244000" y="6219720"/>
            <a:ext cx="431640" cy="304920"/>
          </a:xfrm>
          <a:custGeom>
            <a:avLst/>
            <a:gdLst>
              <a:gd name="textAreaLeft" fmla="*/ 19440 w 431640"/>
              <a:gd name="textAreaRight" fmla="*/ 412200 w 431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0566" h="21600">
                <a:moveTo>
                  <a:pt x="0" y="0"/>
                </a:moveTo>
                <a:lnTo>
                  <a:pt x="30566" y="0"/>
                </a:lnTo>
                <a:lnTo>
                  <a:pt x="30566" y="21600"/>
                </a:lnTo>
                <a:lnTo>
                  <a:pt x="0" y="21600"/>
                </a:lnTo>
                <a:close/>
              </a:path>
              <a:path fill="lightenLess" w="30566" h="21600">
                <a:moveTo>
                  <a:pt x="0" y="0"/>
                </a:moveTo>
                <a:lnTo>
                  <a:pt x="30566" y="0"/>
                </a:lnTo>
                <a:lnTo>
                  <a:pt x="29166" y="1400"/>
                </a:lnTo>
                <a:lnTo>
                  <a:pt x="1400" y="1400"/>
                </a:lnTo>
                <a:close/>
              </a:path>
              <a:path fill="darken" w="30566" h="21600">
                <a:moveTo>
                  <a:pt x="30566" y="0"/>
                </a:moveTo>
                <a:lnTo>
                  <a:pt x="30566" y="21600"/>
                </a:lnTo>
                <a:lnTo>
                  <a:pt x="29166" y="20200"/>
                </a:lnTo>
                <a:lnTo>
                  <a:pt x="29166" y="1400"/>
                </a:lnTo>
                <a:close/>
              </a:path>
              <a:path fill="darkenLess" w="30566" h="21600">
                <a:moveTo>
                  <a:pt x="30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66" y="20200"/>
                </a:lnTo>
                <a:close/>
              </a:path>
              <a:path fill="lighten" w="30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66" h="21600">
                <a:moveTo>
                  <a:pt x="8277" y="3794"/>
                </a:moveTo>
                <a:lnTo>
                  <a:pt x="22290" y="10800"/>
                </a:lnTo>
                <a:lnTo>
                  <a:pt x="827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333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Есть ли здесь проверочные слова к словам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безударной гласной? Подбери к ним проверя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2:31:35Z</dcterms:created>
  <dc:creator>1</dc:creator>
  <dc:description/>
  <dc:language>en-US</dc:language>
  <cp:lastModifiedBy>1</cp:lastModifiedBy>
  <dcterms:modified xsi:type="dcterms:W3CDTF">2009-03-01T04:31:25Z</dcterms:modified>
  <cp:revision>19</cp:revision>
  <dc:subject/>
  <dc:title>Слайд 1</dc:title>
</cp:coreProperties>
</file>