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BBC-098D-4BCC-99DE-BFB5B915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310-9A0B-462C-AF8F-8F3B5E1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C6A-F082-4D55-BFB9-B5AF073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305-8C0A-46AF-8816-E6AC13BA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CEB-2EF6-4B63-8509-3B536C59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399-8BF0-478C-B7C3-31832658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44B-169D-492A-8A31-18594D94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3AA-B211-430E-A3FA-1049000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112-9773-4885-BADD-99F8FD74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3A6-3209-4B14-9F9E-FB9DB72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083-0343-44A8-8703-4CF7B22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1C1-697C-4258-9ABE-2F68A0E8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1DE7-9380-4370-83F1-0718E44A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981000"/>
            <a:ext cx="5832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бочки</a:t>
            </a:r>
            <a:endParaRPr b="1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5373720"/>
            <a:ext cx="439272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уруто Валентина Викторов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. Нижневартовс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МАО-Юг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314172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зударная гласна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86520" y="458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К   КА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116000" y="1555920"/>
              <a:ext cx="84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88000" y="404640"/>
            <a:ext cx="1314360" cy="2127960"/>
            <a:chOff x="4788000" y="404640"/>
            <a:chExt cx="1314360" cy="212796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4788000" y="404640"/>
              <a:ext cx="1314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005440" y="1341360"/>
              <a:ext cx="8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28924 0.44375 E">
                                      <p:cBhvr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85440" y="4581360"/>
            <a:ext cx="41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   П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284720" y="333360"/>
            <a:ext cx="1279440" cy="1767240"/>
            <a:chOff x="4284720" y="333360"/>
            <a:chExt cx="1279440" cy="1767240"/>
          </a:xfrm>
        </p:grpSpPr>
        <p:sp>
          <p:nvSpPr>
            <p:cNvPr id="130" name=""/>
            <p:cNvSpPr/>
            <p:nvPr/>
          </p:nvSpPr>
          <p:spPr>
            <a:xfrm>
              <a:off x="4501800" y="90936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284720" y="33336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16000" y="155592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4097 0.53264 E">
                                      <p:cBhvr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53080" y="458136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   НИВ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19640" y="2781360"/>
            <a:ext cx="1128600" cy="1924920"/>
            <a:chOff x="5219640" y="2781360"/>
            <a:chExt cx="1128600" cy="19249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219640" y="2781360"/>
              <a:ext cx="11286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416560" y="351504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835280" y="765000"/>
            <a:ext cx="1279440" cy="1767240"/>
            <a:chOff x="1835280" y="765000"/>
            <a:chExt cx="1279440" cy="1767240"/>
          </a:xfrm>
        </p:grpSpPr>
        <p:sp>
          <p:nvSpPr>
            <p:cNvPr id="142" name=""/>
            <p:cNvSpPr/>
            <p:nvPr/>
          </p:nvSpPr>
          <p:spPr>
            <a:xfrm>
              <a:off x="2052360" y="134100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835280" y="76500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-0.28994 0.15394 E">
                                      <p:cBhvr>
                                        <p:cTn id="143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0720" y="4581360"/>
            <a:ext cx="49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ТБ   ЖА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116000" y="155592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80000" y="620640"/>
            <a:ext cx="1128600" cy="1924920"/>
            <a:chOff x="5580000" y="620640"/>
            <a:chExt cx="1128600" cy="19249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580000" y="620640"/>
              <a:ext cx="11286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776920" y="135432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30504 0.44375 E">
                                      <p:cBhvr>
                                        <p:cTn id="156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627280" y="285264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4400" y="1387440"/>
            <a:ext cx="7605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office.microsoft.com/ru-ru/clipart/results.aspx?qu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D1%86%D0%B2%D0%B5%D1%82%D1%8B&amp;sc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&amp;CategoryID=CM790019031049#0 – ф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office.microsoft.com/ru-ru/clipart/results.aspx?qu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D0%B1%D0%B0%D0%B1%D0%BE%D1%87%D0%BA%D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8&amp;sc=23&amp;CategoryID=CM790019021049 - ани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3440" y="54936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1800" y="4437000"/>
            <a:ext cx="46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   ЗЕ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16000" y="1555920"/>
              <a:ext cx="84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924360" y="620640"/>
            <a:ext cx="1128600" cy="1924920"/>
            <a:chOff x="3924360" y="620640"/>
            <a:chExt cx="1128600" cy="192492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924360" y="620640"/>
              <a:ext cx="11286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120920" y="1354320"/>
              <a:ext cx="8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21042 0.42269 E"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4360" y="4581360"/>
            <a:ext cx="54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ПОЧ   Н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03640" y="907920"/>
            <a:ext cx="1314360" cy="2127960"/>
            <a:chOff x="3203640" y="907920"/>
            <a:chExt cx="1314360" cy="21279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203640" y="907920"/>
              <a:ext cx="1314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21440" y="184464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732720" y="404640"/>
            <a:ext cx="1279440" cy="1767240"/>
            <a:chOff x="6732720" y="404640"/>
            <a:chExt cx="1279440" cy="1767240"/>
          </a:xfrm>
        </p:grpSpPr>
        <p:sp>
          <p:nvSpPr>
            <p:cNvPr id="61" name=""/>
            <p:cNvSpPr/>
            <p:nvPr/>
          </p:nvSpPr>
          <p:spPr>
            <a:xfrm>
              <a:off x="6949800" y="98064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6732720" y="40464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03056 0.40162 E">
                                      <p:cBhvr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80720" y="4581360"/>
            <a:ext cx="51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М   ЮТС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43640" y="260280"/>
            <a:ext cx="1279440" cy="1767240"/>
            <a:chOff x="6443640" y="260280"/>
            <a:chExt cx="1279440" cy="1767240"/>
          </a:xfrm>
        </p:grpSpPr>
        <p:sp>
          <p:nvSpPr>
            <p:cNvPr id="67" name=""/>
            <p:cNvSpPr/>
            <p:nvPr/>
          </p:nvSpPr>
          <p:spPr>
            <a:xfrm>
              <a:off x="6660720" y="83628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6443640" y="26028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547640" y="1341360"/>
            <a:ext cx="1128600" cy="1924920"/>
            <a:chOff x="1547640" y="1341360"/>
            <a:chExt cx="1128600" cy="192492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1547640" y="1341360"/>
              <a:ext cx="11286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744560" y="207504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34548 0.54328 E">
                                      <p:cBhvr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12160" y="4581360"/>
            <a:ext cx="39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   НУ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11280" y="404640"/>
            <a:ext cx="1279800" cy="1767240"/>
            <a:chOff x="2411280" y="404640"/>
            <a:chExt cx="1279800" cy="1767240"/>
          </a:xfrm>
        </p:grpSpPr>
        <p:sp>
          <p:nvSpPr>
            <p:cNvPr id="76" name=""/>
            <p:cNvSpPr/>
            <p:nvPr/>
          </p:nvSpPr>
          <p:spPr>
            <a:xfrm>
              <a:off x="2629080" y="98064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411280" y="404640"/>
              <a:ext cx="12798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6732720" y="476280"/>
            <a:ext cx="1314360" cy="2127960"/>
            <a:chOff x="6732720" y="476280"/>
            <a:chExt cx="1314360" cy="212796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732720" y="476280"/>
              <a:ext cx="1314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950520" y="141300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06389 0.52222 E">
                                      <p:cBhvr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10160" y="458136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К   РМ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5640" y="1555920"/>
              <a:ext cx="8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27640" y="476280"/>
            <a:ext cx="1279440" cy="1767240"/>
            <a:chOff x="4427640" y="476280"/>
            <a:chExt cx="1279440" cy="1767240"/>
          </a:xfrm>
        </p:grpSpPr>
        <p:sp>
          <p:nvSpPr>
            <p:cNvPr id="88" name=""/>
            <p:cNvSpPr/>
            <p:nvPr/>
          </p:nvSpPr>
          <p:spPr>
            <a:xfrm>
              <a:off x="4645080" y="1052280"/>
              <a:ext cx="84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1474 0.44375 E">
                                      <p:cBhvr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70160" y="4581360"/>
            <a:ext cx="47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ЗА   В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16000" y="155592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219640" y="1413000"/>
            <a:ext cx="1314360" cy="2127600"/>
            <a:chOff x="5219640" y="1413000"/>
            <a:chExt cx="1314360" cy="212760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219640" y="1413000"/>
              <a:ext cx="1314360" cy="89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437080" y="234936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25955 0.44097 E">
                                      <p:cBhvr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0160" y="4581360"/>
            <a:ext cx="41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КР   В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26920" y="907920"/>
            <a:ext cx="1338120" cy="1839240"/>
            <a:chOff x="826920" y="907920"/>
            <a:chExt cx="1338120" cy="183924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6920" y="907920"/>
              <a:ext cx="13381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16000" y="155592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804000" y="981000"/>
            <a:ext cx="1128600" cy="1924920"/>
            <a:chOff x="6804000" y="981000"/>
            <a:chExt cx="1128600" cy="192492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6804000" y="981000"/>
              <a:ext cx="11286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000920" y="171468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25955 0.44097 E">
                                      <p:cBhvr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0720" y="458136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Н   МАЮ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64000" y="981000"/>
            <a:ext cx="1314360" cy="2127960"/>
            <a:chOff x="5364000" y="981000"/>
            <a:chExt cx="1314360" cy="21279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364000" y="981000"/>
              <a:ext cx="1314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81800" y="1917720"/>
              <a:ext cx="83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42920" y="1989000"/>
            <a:ext cx="1279440" cy="1767240"/>
            <a:chOff x="1042920" y="1989000"/>
            <a:chExt cx="1279440" cy="1767240"/>
          </a:xfrm>
        </p:grpSpPr>
        <p:sp>
          <p:nvSpPr>
            <p:cNvPr id="115" name=""/>
            <p:cNvSpPr/>
            <p:nvPr/>
          </p:nvSpPr>
          <p:spPr>
            <a:xfrm>
              <a:off x="1260000" y="2565000"/>
              <a:ext cx="79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1042920" y="1989000"/>
              <a:ext cx="12794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" w="21600" h="27024">
                <a:moveTo>
                  <a:pt x="3794" y="6505"/>
                </a:moveTo>
                <a:lnTo>
                  <a:pt x="17806" y="13512"/>
                </a:lnTo>
                <a:lnTo>
                  <a:pt x="3794" y="2051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-0.24514 0.39097 E">
                                      <p:cBhvr>
                                        <p:cTn id="104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1:31:05Z</dcterms:created>
  <dc:creator>1</dc:creator>
  <dc:description/>
  <dc:language>en-US</dc:language>
  <cp:lastModifiedBy>1</cp:lastModifiedBy>
  <dcterms:modified xsi:type="dcterms:W3CDTF">2009-03-15T15:44:30Z</dcterms:modified>
  <cp:revision>24</cp:revision>
  <dc:subject/>
  <dc:title>Слайд 1</dc:title>
</cp:coreProperties>
</file>