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8B2-77FB-4D78-B2E8-393E2481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AF0-A6D6-4392-95B2-E3DF0917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673-CE5C-4A05-9C72-B52AEE65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570-D563-47BC-B12B-825A4717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799-9D15-4093-89B6-680098CF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D63-6DDD-47EB-A81B-D91B3C8E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EB0-FFBD-4891-937A-697A1029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0CB-5315-4AF9-94B2-DF81E7A2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695-8477-40EE-9E77-6C5D0964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AE0-3A0E-4134-BEC9-71FEDC2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24C-5050-49B8-877B-292FB9DB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8CD-CD5C-4F11-8113-B72C9E5F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B5D0-BD62-41CB-8E04-401132D02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1800360" cy="12668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1557360"/>
            <a:ext cx="446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ади в цель !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27280" y="3500280"/>
            <a:ext cx="39528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ударные гласные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рне слова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19280" y="5229360"/>
            <a:ext cx="6134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СШ №14 г. Нижневартовск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08000" y="5229360"/>
            <a:ext cx="525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 . ВИЛ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835280" y="5157720"/>
            <a:ext cx="525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 . НЕЙ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5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835280" y="5229360"/>
            <a:ext cx="518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 . РИЧ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63640" y="5229360"/>
            <a:ext cx="54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 . МЛЯ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08000" y="5373720"/>
            <a:ext cx="50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 . РОЖ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908000" y="522936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В . ТА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5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348000" y="1197000"/>
            <a:ext cx="237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тинки:</a:t>
            </a:r>
            <a:endParaRPr b="0" i="1" lang="en-US" sz="2400" spc="1" strike="noStrike">
              <a:ln w="9360">
                <a:solidFill>
                  <a:srgbClr val="009999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4560" y="2565360"/>
            <a:ext cx="34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lenagold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9640" y="2997360"/>
            <a:ext cx="1944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     В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3280" y="907920"/>
            <a:ext cx="288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И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95640" y="3860640"/>
            <a:ext cx="40006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ОБРА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КОРЕННО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32000" y="371628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0" lang="en-US" sz="8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187280" y="2924280"/>
            <a:ext cx="576360" cy="1081080"/>
            <a:chOff x="1187280" y="2924280"/>
            <a:chExt cx="576360" cy="1081080"/>
          </a:xfrm>
        </p:grpSpPr>
        <p:sp>
          <p:nvSpPr>
            <p:cNvPr id="51" name=""/>
            <p:cNvSpPr/>
            <p:nvPr/>
          </p:nvSpPr>
          <p:spPr>
            <a:xfrm>
              <a:off x="1187280" y="2924280"/>
              <a:ext cx="576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1301760" y="2997360"/>
              <a:ext cx="345960" cy="88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 rot="19051200">
            <a:off x="341640" y="26096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140360" y="216000"/>
            <a:ext cx="3528360" cy="3808800"/>
            <a:chOff x="4140360" y="216000"/>
            <a:chExt cx="3528360" cy="3808800"/>
          </a:xfrm>
        </p:grpSpPr>
        <p:sp>
          <p:nvSpPr>
            <p:cNvPr id="55" name=""/>
            <p:cNvSpPr/>
            <p:nvPr/>
          </p:nvSpPr>
          <p:spPr>
            <a:xfrm>
              <a:off x="4211640" y="763560"/>
              <a:ext cx="34570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140360" y="216000"/>
              <a:ext cx="3095280" cy="3808800"/>
              <a:chOff x="4140360" y="216000"/>
              <a:chExt cx="3095280" cy="3808800"/>
            </a:xfrm>
          </p:grpSpPr>
          <p:sp>
            <p:nvSpPr>
              <p:cNvPr id="57" name=""/>
              <p:cNvSpPr/>
              <p:nvPr/>
            </p:nvSpPr>
            <p:spPr>
              <a:xfrm>
                <a:off x="4140360" y="477720"/>
                <a:ext cx="3095280" cy="237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4714920" y="981000"/>
                <a:ext cx="2015640" cy="158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Ы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5579640" y="693360"/>
                <a:ext cx="215640" cy="2160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8948600">
                <a:off x="4537440" y="594000"/>
                <a:ext cx="18273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8948600">
                <a:off x="4753440" y="1818000"/>
                <a:ext cx="18273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5364000" y="1484280"/>
              <a:ext cx="4330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51640" y="2708280"/>
              <a:ext cx="4327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662280" y="2592000"/>
            <a:ext cx="4581720" cy="5033520"/>
            <a:chOff x="3662280" y="2592000"/>
            <a:chExt cx="4581720" cy="5033520"/>
          </a:xfrm>
        </p:grpSpPr>
        <p:sp>
          <p:nvSpPr>
            <p:cNvPr id="65" name=""/>
            <p:cNvSpPr/>
            <p:nvPr/>
          </p:nvSpPr>
          <p:spPr>
            <a:xfrm>
              <a:off x="3780000" y="3789000"/>
              <a:ext cx="4464000" cy="20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662280" y="2592000"/>
              <a:ext cx="3861000" cy="5033520"/>
              <a:chOff x="3662280" y="2592000"/>
              <a:chExt cx="3861000" cy="5033520"/>
            </a:xfrm>
          </p:grpSpPr>
          <p:sp>
            <p:nvSpPr>
              <p:cNvPr id="67" name=""/>
              <p:cNvSpPr txBox="1"/>
              <p:nvPr/>
            </p:nvSpPr>
            <p:spPr>
              <a:xfrm>
                <a:off x="4283280" y="3357720"/>
                <a:ext cx="3240000" cy="280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КА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УШКА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НИК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8903600">
                <a:off x="4544280" y="297036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8903600">
                <a:off x="4041000" y="412272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8903600">
                <a:off x="4328640" y="541836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5362560" y="5516640"/>
                <a:ext cx="216000" cy="287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5146560" y="4221000"/>
                <a:ext cx="215640" cy="28764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578560" y="3068640"/>
                <a:ext cx="216000" cy="287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35640" y="3860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04000" y="5084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219640" y="6308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 flipH="1">
            <a:off x="2340000" y="2565360"/>
            <a:ext cx="216000" cy="287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71640" y="620640"/>
            <a:ext cx="1866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помни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о: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6337440" cy="3095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193840" y="758880"/>
            <a:ext cx="5875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367080" y="2384280"/>
            <a:ext cx="528480" cy="7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422600" y="758880"/>
            <a:ext cx="587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653160" y="758880"/>
            <a:ext cx="5875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4520" y="2433600"/>
            <a:ext cx="58752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32000" y="4005360"/>
            <a:ext cx="6626160" cy="18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икни мышкой по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жной букве. Если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шибёшься, она изменит цвет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24000" y="5157720"/>
            <a:ext cx="4608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. СЁЛ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24000" y="515772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ХВ . Т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522936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Б . Ж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76360" y="5300640"/>
            <a:ext cx="56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ЫДВ . Г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32000" y="5157720"/>
            <a:ext cx="64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ДСТ . ВЛЯ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439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4032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43280" y="3213000"/>
            <a:ext cx="64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140360" y="90792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77080" y="90792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651640" y="3284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640" y="5229360"/>
            <a:ext cx="554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 . Л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172360" y="5950080"/>
            <a:ext cx="649440" cy="5745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7:46:59Z</dcterms:created>
  <dc:creator>1</dc:creator>
  <dc:description/>
  <dc:language>en-US</dc:language>
  <cp:lastModifiedBy>1</cp:lastModifiedBy>
  <dcterms:modified xsi:type="dcterms:W3CDTF">2009-03-15T15:46:10Z</dcterms:modified>
  <cp:revision>6</cp:revision>
  <dc:subject/>
  <dc:title>Слайд 1</dc:title>
</cp:coreProperties>
</file>